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405144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756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0956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6348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0956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6348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834920" y="44280"/>
            <a:ext cx="7103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7756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55640" y="405144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7756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0956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63480" y="148392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75564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0956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63480" y="4051440"/>
            <a:ext cx="252720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34920" y="44280"/>
            <a:ext cx="7103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7560" y="405144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4920" y="35640"/>
            <a:ext cx="7103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7560" y="1483920"/>
            <a:ext cx="383004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51440"/>
            <a:ext cx="7848720" cy="23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692280"/>
            <a:ext cx="9139680" cy="6165720"/>
            <a:chOff x="-8280" y="692280"/>
            <a:chExt cx="9139680" cy="6165720"/>
          </a:xfrm>
        </p:grpSpPr>
        <p:sp>
          <p:nvSpPr>
            <p:cNvPr id="1" name="Line 3"/>
            <p:cNvSpPr/>
            <p:nvPr/>
          </p:nvSpPr>
          <p:spPr>
            <a:xfrm>
              <a:off x="2327400" y="711360"/>
              <a:ext cx="6803640" cy="46767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7400" y="711360"/>
              <a:ext cx="6803640" cy="5510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7400" y="711360"/>
              <a:ext cx="64526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7400" y="711360"/>
              <a:ext cx="540576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7400" y="711360"/>
              <a:ext cx="442188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7400" y="711360"/>
              <a:ext cx="34304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7400" y="711360"/>
              <a:ext cx="255780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7400" y="711360"/>
              <a:ext cx="168948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7400" y="711360"/>
              <a:ext cx="81540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7400" y="711360"/>
              <a:ext cx="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7400" y="711360"/>
              <a:ext cx="6803640" cy="40464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7400" y="711360"/>
              <a:ext cx="6803640" cy="34844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7400" y="711360"/>
              <a:ext cx="6803640" cy="30020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7400" y="711360"/>
              <a:ext cx="6803640" cy="25146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5800" y="733680"/>
              <a:ext cx="6735240" cy="20746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7400" y="711360"/>
              <a:ext cx="6803640" cy="16779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7400" y="711360"/>
              <a:ext cx="6803640" cy="1322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7400" y="711360"/>
              <a:ext cx="6803640" cy="9730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7400" y="711360"/>
              <a:ext cx="6803640" cy="695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7400" y="711360"/>
              <a:ext cx="6803640" cy="4111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7400" y="711360"/>
              <a:ext cx="6803640" cy="206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7920" y="712800"/>
              <a:ext cx="233856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7920" y="692280"/>
              <a:ext cx="2338560" cy="39909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8280" y="733680"/>
              <a:ext cx="2318040" cy="54943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6640" y="735120"/>
              <a:ext cx="1927800" cy="6122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33920" y="749520"/>
              <a:ext cx="1281960" cy="61084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83360" y="735120"/>
              <a:ext cx="640800" cy="6122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7920" y="692280"/>
              <a:ext cx="2338560" cy="29764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8280" y="739800"/>
              <a:ext cx="2295720" cy="21067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7920" y="712800"/>
              <a:ext cx="2338560" cy="14223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7920" y="747720"/>
              <a:ext cx="2276640" cy="7938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7920" y="735120"/>
              <a:ext cx="2322720" cy="326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7920" y="692280"/>
              <a:ext cx="2338560" cy="1969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7920" y="3275280"/>
              <a:ext cx="9138960" cy="1936080"/>
              <a:chOff x="-7920" y="3275280"/>
              <a:chExt cx="9138960" cy="193608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7920" y="5211360"/>
                <a:ext cx="913896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7920" y="4497120"/>
                <a:ext cx="913896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7920" y="3851280"/>
                <a:ext cx="913608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7920" y="3275280"/>
                <a:ext cx="913608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7920" y="2783160"/>
              <a:ext cx="913932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7920" y="2310120"/>
              <a:ext cx="9139320" cy="14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7920" y="1876680"/>
              <a:ext cx="9139320" cy="140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7920" y="1532160"/>
              <a:ext cx="909792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7920" y="1238400"/>
              <a:ext cx="9139320" cy="17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7920" y="1049400"/>
              <a:ext cx="9139320" cy="11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7920" y="885600"/>
              <a:ext cx="9139320" cy="270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31320" y="827280"/>
              <a:ext cx="909972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7920" y="765360"/>
              <a:ext cx="913932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8280" y="712800"/>
            <a:ext cx="233532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8280" y="712800"/>
            <a:ext cx="233532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8280" y="692280"/>
            <a:ext cx="233532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7920" y="765000"/>
            <a:ext cx="913932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未知"/>
          <p:cNvSpPr/>
          <p:nvPr/>
        </p:nvSpPr>
        <p:spPr>
          <a:xfrm>
            <a:off x="-7920" y="0"/>
            <a:ext cx="915192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13109"/>
              </a:gs>
              <a:gs pos="100000">
                <a:srgbClr val="701f0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未知"/>
          <p:cNvSpPr/>
          <p:nvPr/>
        </p:nvSpPr>
        <p:spPr>
          <a:xfrm>
            <a:off x="-7920" y="-7920"/>
            <a:ext cx="9151920" cy="134928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c2707"/>
              </a:gs>
              <a:gs pos="100000">
                <a:srgbClr val="b1310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310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a5481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1834920" y="44280"/>
            <a:ext cx="7103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57" name="Picture 59" descr="韩国圣诞主题矢量图标第二-10"/>
          <p:cNvPicPr/>
          <p:nvPr/>
        </p:nvPicPr>
        <p:blipFill>
          <a:blip r:embed="rId2"/>
          <a:stretch/>
        </p:blipFill>
        <p:spPr>
          <a:xfrm>
            <a:off x="0" y="-237960"/>
            <a:ext cx="1835280" cy="17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5" name="Line 3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6" name="Line 4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8" name="Line 6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1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 flipH="1">
              <a:off x="12600" y="711360"/>
              <a:ext cx="6769440" cy="30020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6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 flipH="1">
              <a:off x="12600" y="733680"/>
              <a:ext cx="6701400" cy="20746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20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21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22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23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4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5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6"/>
            <p:cNvSpPr/>
            <p:nvPr/>
          </p:nvSpPr>
          <p:spPr>
            <a:xfrm>
              <a:off x="6799320" y="733680"/>
              <a:ext cx="2306520" cy="54943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7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8"/>
            <p:cNvSpPr/>
            <p:nvPr/>
          </p:nvSpPr>
          <p:spPr>
            <a:xfrm>
              <a:off x="6793560" y="749520"/>
              <a:ext cx="1275480" cy="61084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9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30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31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5"/>
            <p:cNvSpPr/>
            <p:nvPr/>
          </p:nvSpPr>
          <p:spPr>
            <a:xfrm>
              <a:off x="6779160" y="692280"/>
              <a:ext cx="2326680" cy="19692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28" name="Group 36"/>
            <p:cNvGrpSpPr/>
            <p:nvPr/>
          </p:nvGrpSpPr>
          <p:grpSpPr>
            <a:xfrm>
              <a:off x="12600" y="3275280"/>
              <a:ext cx="9092880" cy="1936080"/>
              <a:chOff x="12600" y="3275280"/>
              <a:chExt cx="9092880" cy="1936080"/>
            </a:xfrm>
          </p:grpSpPr>
          <p:sp>
            <p:nvSpPr>
              <p:cNvPr id="129" name="Line 37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0" name="Line 38"/>
              <p:cNvSpPr/>
              <p:nvPr/>
            </p:nvSpPr>
            <p:spPr>
              <a:xfrm flipH="1">
                <a:off x="12600" y="4497120"/>
                <a:ext cx="909288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1" name="Line 39"/>
              <p:cNvSpPr/>
              <p:nvPr/>
            </p:nvSpPr>
            <p:spPr>
              <a:xfrm flipH="1">
                <a:off x="15480" y="3851280"/>
                <a:ext cx="909000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2" name="Line 40"/>
              <p:cNvSpPr/>
              <p:nvPr/>
            </p:nvSpPr>
            <p:spPr>
              <a:xfrm flipH="1">
                <a:off x="15480" y="3275280"/>
                <a:ext cx="9090000" cy="0"/>
              </a:xfrm>
              <a:prstGeom prst="line">
                <a:avLst/>
              </a:prstGeom>
              <a:ln w="3240">
                <a:solidFill>
                  <a:srgbClr val="f3f3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3" name="Line 41"/>
            <p:cNvSpPr/>
            <p:nvPr/>
          </p:nvSpPr>
          <p:spPr>
            <a:xfrm flipH="1">
              <a:off x="12240" y="2783160"/>
              <a:ext cx="909324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4" name="Line 42"/>
            <p:cNvSpPr/>
            <p:nvPr/>
          </p:nvSpPr>
          <p:spPr>
            <a:xfrm flipH="1" flipV="1">
              <a:off x="12240" y="2310120"/>
              <a:ext cx="9093240" cy="14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5" name="Line 43"/>
            <p:cNvSpPr/>
            <p:nvPr/>
          </p:nvSpPr>
          <p:spPr>
            <a:xfrm flipH="1">
              <a:off x="12240" y="1876680"/>
              <a:ext cx="9093240" cy="1404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6" name="Line 44"/>
            <p:cNvSpPr/>
            <p:nvPr/>
          </p:nvSpPr>
          <p:spPr>
            <a:xfrm flipH="1">
              <a:off x="53640" y="1532160"/>
              <a:ext cx="905184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7" name="Line 45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7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8"/>
            <p:cNvSpPr/>
            <p:nvPr/>
          </p:nvSpPr>
          <p:spPr>
            <a:xfrm flipH="1">
              <a:off x="12600" y="827280"/>
              <a:ext cx="905364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9"/>
            <p:cNvSpPr/>
            <p:nvPr/>
          </p:nvSpPr>
          <p:spPr>
            <a:xfrm flipH="1">
              <a:off x="12240" y="765360"/>
              <a:ext cx="9093240" cy="0"/>
            </a:xfrm>
            <a:prstGeom prst="line">
              <a:avLst/>
            </a:prstGeom>
            <a:ln w="324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2" name="Group 52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3" name="未知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3811"/>
                </a:gs>
                <a:gs pos="100000">
                  <a:srgbClr val="c858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 flipH="1">
              <a:off x="12960" y="0"/>
              <a:ext cx="913104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13109"/>
                </a:gs>
                <a:gs pos="100000">
                  <a:srgbClr val="8124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5" name="Picture 56" descr="new-04"/>
          <p:cNvPicPr/>
          <p:nvPr/>
        </p:nvPicPr>
        <p:blipFill>
          <a:blip r:embed="rId2"/>
          <a:stretch/>
        </p:blipFill>
        <p:spPr>
          <a:xfrm>
            <a:off x="5315040" y="3946680"/>
            <a:ext cx="3828960" cy="2911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640" y="1483920"/>
            <a:ext cx="7848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1310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a54815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834920" y="44280"/>
            <a:ext cx="7103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58327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13109"/>
                </a:solidFill>
                <a:latin typeface="微软雅黑"/>
              </a:rPr>
              <a:t>礼物</a:t>
            </a:r>
            <a:r>
              <a:rPr b="1" lang="zh-CN" sz="4000" spc="-1" strike="noStrike">
                <a:solidFill>
                  <a:srgbClr val="b13109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b13109"/>
                </a:solidFill>
                <a:latin typeface="微软雅黑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722840" y="364500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99640" y="3357360"/>
            <a:ext cx="584388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cc6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72800" y="35640"/>
            <a:ext cx="5983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微软雅黑"/>
              <a:ea typeface="宋体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9720" y="1779120"/>
            <a:ext cx="7462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b1310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宋体"/>
              </a:rPr>
              <a:t>单击此处添加内容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b2b2b2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微软雅黑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微软雅黑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533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19:39Z</dcterms:created>
  <dc:creator>FiSh</dc:creator>
  <dc:description/>
  <dc:language>en-US</dc:language>
  <cp:lastModifiedBy>a</cp:lastModifiedBy>
  <dcterms:modified xsi:type="dcterms:W3CDTF">2014-12-31T04:45:43Z</dcterms:modified>
  <cp:revision>2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