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379-0612-4440-A7B3-23EBD263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97FF-8FD0-4FE4-84F3-37A3D1E6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9C16-BD29-4520-BCDE-2D862122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793C-6152-4708-B92E-751B650E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404-6CFA-4D81-BEAA-1E6FAB3D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884B-AD02-4EBC-83A6-2F9AD8E0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5F39-B2D8-45A8-BBA2-04DD26DC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D083-48EF-4297-B24F-FE15FA32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6755-5FD8-4682-B52B-A61833F9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A21-DC17-4EC0-B404-C1F58DEB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5F4-6FD1-40AC-8E84-4DD321EF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438E-194C-410E-93A0-E41022EA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8172360" y="6597720"/>
            <a:ext cx="936720" cy="247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EBDC-0985-46B1-A4F9-A855E3929057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绿叶环保</a:t>
            </a: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a</cp:lastModifiedBy>
  <dcterms:modified xsi:type="dcterms:W3CDTF">2014-12-31T04:41:14Z</dcterms:modified>
  <cp:revision>65</cp:revision>
  <dc:subject/>
  <dc:title>Text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