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3EF9D-D4F6-467C-9368-B3B9CF24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879C6-3870-4DA3-8469-63EE1E14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D01B-C520-4DE3-A674-71291840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0F54-0A42-476C-8F66-9D10BB7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7869-C0A3-41CD-9571-C7D8AA7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8F57D-F4FC-4DFB-87BF-4BE29B8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83C8-BB52-4D1B-BBB7-DBBE10D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BF92B-37C3-4D49-9F2E-0CD489FC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0B5F-FF78-4AF4-821F-5C79EACF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EF3F9-7B83-4C25-B35D-213C69E2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58665-25C2-48E7-830D-24A1160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CA75C-338F-4A38-9EFC-A86D79CD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E2852-FD35-4970-9F73-3F365F2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59803-25FC-4DF2-933E-4D5F0E8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02A2C-F67F-4B34-B42B-3378B1B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36F03-5ED1-4F62-AB04-A148C98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EAA2E-6FA6-47D7-8F86-D091AE0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AB7F8-D34E-459E-84F5-7B30E0F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2DE4-29E9-4390-96E5-A3F1180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E8E38-E291-41EA-805B-8582EFC8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64804-C023-4C0D-BDBA-64413B23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F74BD-A576-49BE-997B-EAF3CEBB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85A04-EF64-48D7-B486-E448F9C0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6C3F0-F04F-403A-B2D3-888303C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AF03A-E88D-4A6C-B6F6-A2AED5F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B72D-FEE3-47BB-8D93-9C80D13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9D5B4-8D35-45B3-8AB5-A4EDF1B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7F878-C2C8-41E8-8EAB-37BBC2D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D78E6-2522-46FD-B91A-A193A47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B95CE-7F56-40BB-B94D-D8997FE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8A1-4968-4AC7-8F9B-A47EA3B0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2AF11-5B73-4C89-8C5B-E2DBF9D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0A8CD-3B15-4BF8-BBA7-E360DA65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D06F2-5C35-4D83-83E3-8D566326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4D4F7-570C-4ED1-A32D-B2F28827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EC684-8997-4D19-8BB7-F6D34B92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F4C3-A3D5-4BED-AB99-E2E097F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8F46F-9A25-4A3D-957F-A533441A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556BB-1CEF-466B-99C3-56647CE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EC3B-BF53-413D-A8C5-8E72891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933F-AA78-4A3C-A7B7-014250E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901-88AD-479A-8E5F-4E0E9190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3CCD9-6D2E-4803-8CA2-08F3DD1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78EFE-2EC2-4BAE-9298-3F51671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7A2D3-E1B3-4CAA-8EFE-74C2B85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9CB93-7938-46CE-86BB-D06C5173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78B3-4851-4FEE-B65B-020DB836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3C456-EDBD-4AE0-AC51-6022721D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DBFDE-C9B6-4E59-87D3-35C91EB5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FFCF-EE3E-4FED-8DD5-8E417DA3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87ADE-E645-4DCC-B081-F357B791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8E0A7-06CC-4CC8-9B7F-E95F2A2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D5E-BE62-4E26-B178-D704446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ADD15-6D14-4675-8922-AA28D62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CF6F1-E2B7-409D-A6D7-A1FBB9D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C8265-E05E-4B90-811E-C193848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4EF3E-3BE1-46B5-834D-27C9013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305C2-9959-4C74-9D42-95CA7B3D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B7F9E-011B-4E8A-91F0-B856A057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14713-AE9C-4B85-A71F-76666BD5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E8D-8AD7-4C7F-8F26-CB34C989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A37-09D2-4E92-8994-02B2E9E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694-58EA-4C4A-9557-0EC29E8E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4E2-CC0F-4AB6-85FA-4460310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034-150C-40A3-A748-0D2C9E3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102-FD13-4758-ACF6-7AD8604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E3E-9DBF-4641-9EEB-1086C179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B57-D444-467A-83D8-3CF24806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9BE-71C0-46AF-A066-E17BF310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68B5-AFB6-4040-98A6-93E06B9F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F767-F5FF-46E6-859F-AC28917A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C380-A740-4D9A-978B-4D44489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8916-A7D8-4BA3-8EA4-B1861CE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7914-3EFA-4C8A-BC0F-3608470A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B020-51D6-436C-B597-FD1E4277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05A6-698B-4AB9-AD84-05D8A5C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83F9-4348-4747-A459-E0986EA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973-8B45-439C-9250-3F18D44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6D67-3E37-41F4-943F-E8A01327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C70-46FC-4EDC-A833-111416B3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1E3B-0119-44D4-A8F6-58404503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A5DB-0ED6-4CEB-8011-8E90F0A8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3689-7FC4-4B80-A021-9B64580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5C90-ECF3-42FC-903D-3D1BF0FE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96A8-DC09-4E29-BA9E-6B383D90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40AC-B41B-4701-95C1-77B2394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08CC8-B5FB-4B5F-9A2D-38A720A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D580-C8EC-45DF-8019-7EC6F4D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9557-50C5-4C59-891B-46069EF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A81C-9881-4592-856F-01EA2ED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B4A0-E27C-4106-AA9D-2BD6FED1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14E2-249E-4B12-AB2F-8B0A78E7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C416-BB89-4916-B061-DC28F0EF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04B86-6047-4679-A0A2-C1A70B31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09BE-49F3-4369-AA5E-2C22B64C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260E-4F28-4DE9-BEE9-DD407626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0965-CE4E-4D2F-A052-E9960D2A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A835-0307-4396-9F33-AAA3442A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CCF0-360C-425F-8EEC-9C6F41F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AC81-5461-4124-BA9E-44B506E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3F36-50E5-47EB-8FCB-C837738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E8AB-BEDA-42D6-B253-A575663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DB33-5444-410E-905B-DEA5AF74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664C-139F-470E-A47C-64992F22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D3D4-3274-4689-AFF6-63D9F9BF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8B4A-7E7D-427D-B00B-9165010B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EECC-5BC4-4C66-9A12-9BCF14F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E6218-DA2B-4126-AC2F-3563D132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FD9E-08F6-45D7-8794-B66EFD2B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306C3-3958-4058-BAEC-46CEE239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3D10-AC20-41F9-A620-40E0781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53689-874D-43F1-894F-AAC1FCB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BD6EC-445D-424A-8D47-1A60124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386A-457E-4A3E-8728-CEF9EA5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CC2F-353F-4C56-8C4C-B432EDB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3115-1B74-4C85-8EBC-822BD4DC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80CC-A330-4E28-B432-6692E3D7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8FA17-5385-4568-B163-8F8F32CC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4E35-5C0E-4466-8BE7-B05849F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75941-C96E-4031-975B-6009115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7CF7-5B01-4043-ABAA-A9BC3C79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4212-18F3-48B4-948F-30DBC56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6465-5032-4E95-B766-73C2DE96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34395-4405-4526-A363-5EE98A9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FAEF-2CC9-4A76-B21C-ACAB0AF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35969-976F-490F-840F-3BB92FA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BC4B3-6C49-4ACE-96B4-2AF2D23A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1A4E9-E5F0-4C01-8284-385BA81B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D799-5B79-4AF3-8259-73C3636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E942A-3688-45B5-BCF4-3E43AC02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92E72-F2FF-4D60-91B4-78CF28C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D8E6-4B86-4A23-8CE7-411C9D01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13D13-2AAC-486A-B7E4-E25EE41C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76D9-FEB6-4FC2-B0CA-B847774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A0AA8-0743-48D8-B1C1-122B4A3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79B8-F8B5-4443-AD88-E1C7ED36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D4CE4-E0DD-427F-B7F8-BF44308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6E16-C05C-49DA-B6AF-93D5F71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685E-BE07-4D47-8F2A-B679BA7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6456-D917-4576-A57D-23F01E0A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63E8C-9744-48EE-8906-88295A44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AC07E-63DF-4BC1-A3FD-C2CFA9D5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8C99A-878F-4732-BFA2-556BF99A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ADF8-54E0-454A-B4FA-63F62CB7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973080" y="649440"/>
            <a:ext cx="10402920" cy="5668920"/>
          </a:xfrm>
          <a:custGeom>
            <a:avLst/>
            <a:gdLst/>
            <a:ahLst/>
            <a:rect l="l" t="t" r="r" b="b"/>
            <a:pathLst>
              <a:path w="10403167" h="5668754">
                <a:moveTo>
                  <a:pt x="0" y="10"/>
                </a:moveTo>
                <a:cubicBezTo>
                  <a:pt x="1912055" y="-2544"/>
                  <a:pt x="3788484" y="446164"/>
                  <a:pt x="5759915" y="467361"/>
                </a:cubicBezTo>
                <a:cubicBezTo>
                  <a:pt x="8546658" y="145323"/>
                  <a:pt x="8780206" y="25166"/>
                  <a:pt x="10403167" y="10"/>
                </a:cubicBezTo>
                <a:cubicBezTo>
                  <a:pt x="10304205" y="888106"/>
                  <a:pt x="10371500" y="469916"/>
                  <a:pt x="9548144" y="2557420"/>
                </a:cubicBezTo>
                <a:cubicBezTo>
                  <a:pt x="9833152" y="3590573"/>
                  <a:pt x="10284414" y="4576224"/>
                  <a:pt x="10403167" y="5656878"/>
                </a:cubicBezTo>
                <a:cubicBezTo>
                  <a:pt x="8641661" y="5597502"/>
                  <a:pt x="7058283" y="5609377"/>
                  <a:pt x="5094897" y="5122490"/>
                </a:cubicBezTo>
                <a:cubicBezTo>
                  <a:pt x="3657856" y="5668754"/>
                  <a:pt x="1745800" y="5502500"/>
                  <a:pt x="47501" y="5668754"/>
                </a:cubicBezTo>
                <a:cubicBezTo>
                  <a:pt x="47629" y="4722687"/>
                  <a:pt x="451517" y="3800370"/>
                  <a:pt x="451645" y="2854303"/>
                </a:cubicBezTo>
                <a:cubicBezTo>
                  <a:pt x="451517" y="1926623"/>
                  <a:pt x="128" y="927690"/>
                  <a:pt x="0" y="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5" descr=""/>
          <p:cNvPicPr/>
          <p:nvPr/>
        </p:nvPicPr>
        <p:blipFill>
          <a:blip r:embed="rId2"/>
          <a:srcRect l="0" t="11437" r="86" b="8651"/>
          <a:stretch/>
        </p:blipFill>
        <p:spPr>
          <a:xfrm>
            <a:off x="1149480" y="803160"/>
            <a:ext cx="10048680" cy="53596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2" name="任意多边形 6"/>
          <p:cNvSpPr/>
          <p:nvPr/>
        </p:nvSpPr>
        <p:spPr>
          <a:xfrm>
            <a:off x="698400" y="393840"/>
            <a:ext cx="1533600" cy="1218960"/>
          </a:xfrm>
          <a:custGeom>
            <a:avLst/>
            <a:gdLst/>
            <a:ahLst/>
            <a:rect l="l" t="t" r="r" b="b"/>
            <a:pathLst>
              <a:path w="1533833" h="1219200">
                <a:moveTo>
                  <a:pt x="1533833" y="9833"/>
                </a:moveTo>
                <a:lnTo>
                  <a:pt x="58994" y="1219200"/>
                </a:lnTo>
                <a:lnTo>
                  <a:pt x="0" y="0"/>
                </a:lnTo>
                <a:lnTo>
                  <a:pt x="1533833" y="9833"/>
                </a:lnTo>
                <a:close/>
              </a:path>
            </a:pathLst>
          </a:cu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任意多边形 9"/>
          <p:cNvSpPr/>
          <p:nvPr/>
        </p:nvSpPr>
        <p:spPr>
          <a:xfrm rot="10800000">
            <a:off x="10258200" y="5439960"/>
            <a:ext cx="1533240" cy="1219320"/>
          </a:xfrm>
          <a:custGeom>
            <a:avLst/>
            <a:gdLst/>
            <a:ahLst/>
            <a:rect l="l" t="t" r="r" b="b"/>
            <a:pathLst>
              <a:path w="1533833" h="1219200">
                <a:moveTo>
                  <a:pt x="1533833" y="9833"/>
                </a:moveTo>
                <a:lnTo>
                  <a:pt x="58994" y="1219200"/>
                </a:lnTo>
                <a:lnTo>
                  <a:pt x="0" y="0"/>
                </a:lnTo>
                <a:lnTo>
                  <a:pt x="1533833" y="983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AB3-2046-47B7-B8BF-48588853088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B50-954B-4B9C-8347-B7DB24E45F4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909A-324F-4C07-9F49-A75BE1A50EC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8A7-5AC4-466D-8D45-ACA8812C650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1546-24E7-44A7-A822-72D5759491A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73C2-BA01-4111-A046-397280604CC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30AE-FD2F-4F8A-9A86-7F11BF1002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50C5-7A4A-4BC2-9A37-F8FFBCDB6B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DFB8-D980-4475-9BAA-9D92B144DF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E6D7-8841-4B1B-AFA1-2864695E59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50E-EC32-4B2F-B499-8087E249A6A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C63-02FE-46DD-8171-4415FD99159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CFEE-56BE-4CD0-A233-D0799C0305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B1BE-5B44-465A-AD00-4FDC5F42B0D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A84-A8FE-4BC3-A0BD-E13E62F8974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586C-6716-47D5-BE05-08F41D91F2F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5A9-98E8-452F-916E-03F36E2059F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3E4-8823-4D13-9D72-A055D86B08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A77A-72B4-49A0-A313-195645CD91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6DFA-4775-4ABE-A783-7B41721E525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0DF-E317-4927-A38C-577A22F71FF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459-B8BB-4105-9D60-CF44B9AD403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5EC4-8C46-47E6-96E6-D58C032B696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4E10-6924-450F-B67C-E20B81E3453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任意多边形 9"/>
          <p:cNvSpPr/>
          <p:nvPr/>
        </p:nvSpPr>
        <p:spPr>
          <a:xfrm rot="10800000">
            <a:off x="10258200" y="5439960"/>
            <a:ext cx="1533240" cy="1219320"/>
          </a:xfrm>
          <a:custGeom>
            <a:avLst/>
            <a:gdLst/>
            <a:ahLst/>
            <a:rect l="l" t="t" r="r" b="b"/>
            <a:pathLst>
              <a:path w="1533833" h="1219200">
                <a:moveTo>
                  <a:pt x="1533833" y="9833"/>
                </a:moveTo>
                <a:lnTo>
                  <a:pt x="58994" y="1219200"/>
                </a:lnTo>
                <a:lnTo>
                  <a:pt x="0" y="0"/>
                </a:lnTo>
                <a:lnTo>
                  <a:pt x="1533833" y="983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直接连接符 11"/>
          <p:cNvSpPr/>
          <p:nvPr/>
        </p:nvSpPr>
        <p:spPr>
          <a:xfrm>
            <a:off x="3230640" y="2070000"/>
            <a:ext cx="6162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12"/>
          <p:cNvSpPr/>
          <p:nvPr/>
        </p:nvSpPr>
        <p:spPr>
          <a:xfrm>
            <a:off x="3230640" y="2109960"/>
            <a:ext cx="610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14"/>
          <p:cNvSpPr/>
          <p:nvPr/>
        </p:nvSpPr>
        <p:spPr>
          <a:xfrm>
            <a:off x="3230640" y="4373640"/>
            <a:ext cx="61624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15"/>
          <p:cNvSpPr/>
          <p:nvPr/>
        </p:nvSpPr>
        <p:spPr>
          <a:xfrm>
            <a:off x="4998960" y="3430440"/>
            <a:ext cx="26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作者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16"/>
          <p:cNvSpPr/>
          <p:nvPr/>
        </p:nvSpPr>
        <p:spPr>
          <a:xfrm>
            <a:off x="5211720" y="3838680"/>
            <a:ext cx="1947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32EF-0EAA-4124-BDF6-97EEBE7716CA}" type="datetime"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17"/>
          <p:cNvSpPr/>
          <p:nvPr/>
        </p:nvSpPr>
        <p:spPr>
          <a:xfrm>
            <a:off x="5810400" y="5057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同心圆 18"/>
          <p:cNvSpPr/>
          <p:nvPr/>
        </p:nvSpPr>
        <p:spPr>
          <a:xfrm>
            <a:off x="5754600" y="4756320"/>
            <a:ext cx="984240" cy="985680"/>
          </a:xfrm>
          <a:custGeom>
            <a:avLst/>
            <a:gdLst/>
            <a:ahLst/>
            <a:rect l="l" t="t" r="r" b="b"/>
            <a:pathLst>
              <a:path w="985586" h="985586">
                <a:moveTo>
                  <a:pt x="0" y="492793"/>
                </a:moveTo>
                <a:cubicBezTo>
                  <a:pt x="0" y="220631"/>
                  <a:pt x="220631" y="0"/>
                  <a:pt x="492793" y="0"/>
                </a:cubicBezTo>
                <a:cubicBezTo>
                  <a:pt x="764955" y="0"/>
                  <a:pt x="985586" y="220631"/>
                  <a:pt x="985586" y="492793"/>
                </a:cubicBezTo>
                <a:cubicBezTo>
                  <a:pt x="985586" y="764955"/>
                  <a:pt x="764955" y="985586"/>
                  <a:pt x="492793" y="985586"/>
                </a:cubicBezTo>
                <a:cubicBezTo>
                  <a:pt x="220631" y="985586"/>
                  <a:pt x="0" y="764955"/>
                  <a:pt x="0" y="492793"/>
                </a:cubicBezTo>
                <a:close/>
                <a:moveTo>
                  <a:pt x="0" y="492793"/>
                </a:moveTo>
                <a:cubicBezTo>
                  <a:pt x="0" y="764955"/>
                  <a:pt x="220631" y="985586"/>
                  <a:pt x="492793" y="985586"/>
                </a:cubicBezTo>
                <a:cubicBezTo>
                  <a:pt x="764955" y="985586"/>
                  <a:pt x="985586" y="764955"/>
                  <a:pt x="985586" y="492793"/>
                </a:cubicBezTo>
                <a:cubicBezTo>
                  <a:pt x="985586" y="220631"/>
                  <a:pt x="764955" y="0"/>
                  <a:pt x="492793" y="0"/>
                </a:cubicBezTo>
                <a:cubicBezTo>
                  <a:pt x="220631" y="0"/>
                  <a:pt x="0" y="220631"/>
                  <a:pt x="0" y="492793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2"/>
          <p:cNvSpPr/>
          <p:nvPr/>
        </p:nvSpPr>
        <p:spPr>
          <a:xfrm>
            <a:off x="5533920" y="138924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4"/>
          <p:cNvSpPr/>
          <p:nvPr/>
        </p:nvSpPr>
        <p:spPr>
          <a:xfrm>
            <a:off x="6032520" y="2244600"/>
            <a:ext cx="0" cy="319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19"/>
          <p:cNvSpPr/>
          <p:nvPr/>
        </p:nvSpPr>
        <p:spPr>
          <a:xfrm>
            <a:off x="6168960" y="2244600"/>
            <a:ext cx="0" cy="319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20"/>
          <p:cNvSpPr/>
          <p:nvPr/>
        </p:nvSpPr>
        <p:spPr>
          <a:xfrm>
            <a:off x="6662880" y="248292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27"/>
          <p:cNvSpPr/>
          <p:nvPr/>
        </p:nvSpPr>
        <p:spPr>
          <a:xfrm>
            <a:off x="6662880" y="352908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28"/>
          <p:cNvSpPr/>
          <p:nvPr/>
        </p:nvSpPr>
        <p:spPr>
          <a:xfrm>
            <a:off x="6662880" y="467208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等腰三角形 7"/>
          <p:cNvSpPr/>
          <p:nvPr/>
        </p:nvSpPr>
        <p:spPr>
          <a:xfrm rot="5400000">
            <a:off x="6202080" y="2554200"/>
            <a:ext cx="31140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等腰三角形 29"/>
          <p:cNvSpPr/>
          <p:nvPr/>
        </p:nvSpPr>
        <p:spPr>
          <a:xfrm rot="5400000">
            <a:off x="6201360" y="3609000"/>
            <a:ext cx="31284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等腰三角形 30"/>
          <p:cNvSpPr/>
          <p:nvPr/>
        </p:nvSpPr>
        <p:spPr>
          <a:xfrm rot="5400000">
            <a:off x="6202080" y="4743360"/>
            <a:ext cx="31140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31"/>
          <p:cNvSpPr/>
          <p:nvPr/>
        </p:nvSpPr>
        <p:spPr>
          <a:xfrm>
            <a:off x="356868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32"/>
          <p:cNvSpPr/>
          <p:nvPr/>
        </p:nvSpPr>
        <p:spPr>
          <a:xfrm>
            <a:off x="3568680" y="41497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等腰三角形 33"/>
          <p:cNvSpPr/>
          <p:nvPr/>
        </p:nvSpPr>
        <p:spPr>
          <a:xfrm rot="16200000">
            <a:off x="5671080" y="3078360"/>
            <a:ext cx="31284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等腰三角形 34"/>
          <p:cNvSpPr/>
          <p:nvPr/>
        </p:nvSpPr>
        <p:spPr>
          <a:xfrm rot="16200000">
            <a:off x="5674320" y="4219920"/>
            <a:ext cx="31284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剪去对角的矩形 2"/>
          <p:cNvSpPr/>
          <p:nvPr/>
        </p:nvSpPr>
        <p:spPr>
          <a:xfrm flipH="1">
            <a:off x="2091600" y="2712960"/>
            <a:ext cx="8379000" cy="2560680"/>
          </a:xfrm>
          <a:custGeom>
            <a:avLst/>
            <a:gdLst/>
            <a:ahLst/>
            <a:rect l="l" t="t" r="r" b="b"/>
            <a:pathLst>
              <a:path w="8381425" h="2561805">
                <a:moveTo>
                  <a:pt x="0" y="0"/>
                </a:moveTo>
                <a:lnTo>
                  <a:pt x="7969820" y="0"/>
                </a:lnTo>
                <a:lnTo>
                  <a:pt x="8381425" y="411605"/>
                </a:lnTo>
                <a:lnTo>
                  <a:pt x="8381425" y="2561805"/>
                </a:lnTo>
                <a:lnTo>
                  <a:pt x="411605" y="2561805"/>
                </a:lnTo>
                <a:lnTo>
                  <a:pt x="0" y="2150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8"/>
          <p:cNvSpPr/>
          <p:nvPr/>
        </p:nvSpPr>
        <p:spPr>
          <a:xfrm>
            <a:off x="3105000" y="2962440"/>
            <a:ext cx="61279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17"/>
          <p:cNvSpPr/>
          <p:nvPr/>
        </p:nvSpPr>
        <p:spPr>
          <a:xfrm>
            <a:off x="3360600" y="1735200"/>
            <a:ext cx="58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可长可短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圆角矩形 3"/>
          <p:cNvSpPr/>
          <p:nvPr/>
        </p:nvSpPr>
        <p:spPr>
          <a:xfrm>
            <a:off x="2946240" y="2174760"/>
            <a:ext cx="1263960" cy="1309680"/>
          </a:xfrm>
          <a:custGeom>
            <a:avLst/>
            <a:gdLst>
              <a:gd name="textAreaLeft" fmla="*/ 51120 w 1263960"/>
              <a:gd name="textAreaRight" fmla="*/ 1212840 w 1263960"/>
              <a:gd name="textAreaTop" fmla="*/ 51120 h 1309680"/>
              <a:gd name="textAreaBottom" fmla="*/ 1258560 h 1309680"/>
            </a:gdLst>
            <a:ahLst/>
            <a:rect l="textAreaLeft" t="textAreaTop" r="textAreaRight" b="textAreaBottom"/>
            <a:pathLst>
              <a:path w="21600" h="22381">
                <a:moveTo>
                  <a:pt x="2991" y="0"/>
                </a:moveTo>
                <a:arcTo wR="2991" hR="2991" stAng="16200000" swAng="-5400000"/>
                <a:lnTo>
                  <a:pt x="0" y="19390"/>
                </a:lnTo>
                <a:arcTo wR="2991" hR="2991" stAng="10800000" swAng="-5400000"/>
                <a:lnTo>
                  <a:pt x="18609" y="22381"/>
                </a:lnTo>
                <a:arcTo wR="2991" hR="2991" stAng="5400000" swAng="-5400000"/>
                <a:lnTo>
                  <a:pt x="21600" y="2991"/>
                </a:lnTo>
                <a:arcTo wR="2991" hR="2991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图片 10" descr=""/>
          <p:cNvPicPr/>
          <p:nvPr/>
        </p:nvPicPr>
        <p:blipFill>
          <a:blip r:embed="rId1"/>
          <a:stretch/>
        </p:blipFill>
        <p:spPr>
          <a:xfrm>
            <a:off x="3144960" y="24066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1" descr=""/>
          <p:cNvPicPr/>
          <p:nvPr/>
        </p:nvPicPr>
        <p:blipFill>
          <a:blip r:embed="rId2"/>
          <a:stretch/>
        </p:blipFill>
        <p:spPr>
          <a:xfrm>
            <a:off x="5705640" y="2406600"/>
            <a:ext cx="866520" cy="865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2" descr=""/>
          <p:cNvPicPr/>
          <p:nvPr/>
        </p:nvPicPr>
        <p:blipFill>
          <a:blip r:embed="rId3"/>
          <a:stretch/>
        </p:blipFill>
        <p:spPr>
          <a:xfrm>
            <a:off x="8263080" y="23940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560" name="矩形 13"/>
          <p:cNvSpPr/>
          <p:nvPr/>
        </p:nvSpPr>
        <p:spPr>
          <a:xfrm>
            <a:off x="2643120" y="3862440"/>
            <a:ext cx="177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圆角矩形 26"/>
          <p:cNvSpPr/>
          <p:nvPr/>
        </p:nvSpPr>
        <p:spPr>
          <a:xfrm>
            <a:off x="5478480" y="2174760"/>
            <a:ext cx="1263600" cy="1309680"/>
          </a:xfrm>
          <a:custGeom>
            <a:avLst/>
            <a:gdLst>
              <a:gd name="textAreaLeft" fmla="*/ 51120 w 1263600"/>
              <a:gd name="textAreaRight" fmla="*/ 1212480 w 1263600"/>
              <a:gd name="textAreaTop" fmla="*/ 51120 h 1309680"/>
              <a:gd name="textAreaBottom" fmla="*/ 1258560 h 1309680"/>
            </a:gdLst>
            <a:ahLst/>
            <a:rect l="textAreaLeft" t="textAreaTop" r="textAreaRight" b="textAreaBottom"/>
            <a:pathLst>
              <a:path w="21600" h="22387">
                <a:moveTo>
                  <a:pt x="2991" y="0"/>
                </a:moveTo>
                <a:arcTo wR="2991" hR="2991" stAng="16200000" swAng="-5400000"/>
                <a:lnTo>
                  <a:pt x="0" y="19396"/>
                </a:lnTo>
                <a:arcTo wR="2991" hR="2991" stAng="10800000" swAng="-5400000"/>
                <a:lnTo>
                  <a:pt x="18609" y="22387"/>
                </a:lnTo>
                <a:arcTo wR="2991" hR="2991" stAng="5400000" swAng="-5400000"/>
                <a:lnTo>
                  <a:pt x="21600" y="2991"/>
                </a:lnTo>
                <a:arcTo wR="2991" hR="2991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圆角矩形 36"/>
          <p:cNvSpPr/>
          <p:nvPr/>
        </p:nvSpPr>
        <p:spPr>
          <a:xfrm>
            <a:off x="8083440" y="2174760"/>
            <a:ext cx="1265400" cy="1309680"/>
          </a:xfrm>
          <a:custGeom>
            <a:avLst/>
            <a:gdLst>
              <a:gd name="textAreaLeft" fmla="*/ 51120 w 1265400"/>
              <a:gd name="textAreaRight" fmla="*/ 1214280 w 1265400"/>
              <a:gd name="textAreaTop" fmla="*/ 51120 h 1309680"/>
              <a:gd name="textAreaBottom" fmla="*/ 1258560 h 1309680"/>
            </a:gdLst>
            <a:ahLst/>
            <a:rect l="textAreaLeft" t="textAreaTop" r="textAreaRight" b="textAreaBottom"/>
            <a:pathLst>
              <a:path w="21600" h="22356">
                <a:moveTo>
                  <a:pt x="2991" y="0"/>
                </a:moveTo>
                <a:arcTo wR="2991" hR="2991" stAng="16200000" swAng="-5400000"/>
                <a:lnTo>
                  <a:pt x="0" y="19365"/>
                </a:lnTo>
                <a:arcTo wR="2991" hR="2991" stAng="10800000" swAng="-5400000"/>
                <a:lnTo>
                  <a:pt x="18609" y="22356"/>
                </a:lnTo>
                <a:arcTo wR="2991" hR="2991" stAng="5400000" swAng="-5400000"/>
                <a:lnTo>
                  <a:pt x="21600" y="2991"/>
                </a:lnTo>
                <a:arcTo wR="2991" hR="2991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8"/>
          <p:cNvSpPr/>
          <p:nvPr/>
        </p:nvSpPr>
        <p:spPr>
          <a:xfrm>
            <a:off x="5222880" y="3862440"/>
            <a:ext cx="177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9"/>
          <p:cNvSpPr/>
          <p:nvPr/>
        </p:nvSpPr>
        <p:spPr>
          <a:xfrm>
            <a:off x="7842240" y="3862440"/>
            <a:ext cx="177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文本框 2"/>
          <p:cNvSpPr/>
          <p:nvPr/>
        </p:nvSpPr>
        <p:spPr>
          <a:xfrm>
            <a:off x="5024520" y="2774880"/>
            <a:ext cx="22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3"/>
          <p:cNvGrpSpPr/>
          <p:nvPr/>
        </p:nvGrpSpPr>
        <p:grpSpPr>
          <a:xfrm>
            <a:off x="6323040" y="3549600"/>
            <a:ext cx="1376280" cy="177840"/>
            <a:chOff x="6323040" y="3549600"/>
            <a:chExt cx="1376280" cy="177840"/>
          </a:xfrm>
        </p:grpSpPr>
        <p:sp>
          <p:nvSpPr>
            <p:cNvPr id="567" name="直接连接符 7"/>
            <p:cNvSpPr/>
            <p:nvPr/>
          </p:nvSpPr>
          <p:spPr>
            <a:xfrm>
              <a:off x="6411960" y="3638520"/>
              <a:ext cx="128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椭圆 15"/>
            <p:cNvSpPr/>
            <p:nvPr/>
          </p:nvSpPr>
          <p:spPr>
            <a:xfrm>
              <a:off x="6323040" y="3549600"/>
              <a:ext cx="17784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Group 6"/>
          <p:cNvGrpSpPr/>
          <p:nvPr/>
        </p:nvGrpSpPr>
        <p:grpSpPr>
          <a:xfrm>
            <a:off x="4609800" y="2620800"/>
            <a:ext cx="1376280" cy="177840"/>
            <a:chOff x="4609800" y="2620800"/>
            <a:chExt cx="1376280" cy="177840"/>
          </a:xfrm>
        </p:grpSpPr>
        <p:sp>
          <p:nvSpPr>
            <p:cNvPr id="570" name="直接连接符 20"/>
            <p:cNvSpPr/>
            <p:nvPr/>
          </p:nvSpPr>
          <p:spPr>
            <a:xfrm flipH="1">
              <a:off x="4609800" y="2709720"/>
              <a:ext cx="128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椭圆 21"/>
            <p:cNvSpPr/>
            <p:nvPr/>
          </p:nvSpPr>
          <p:spPr>
            <a:xfrm flipH="1">
              <a:off x="5808240" y="2620800"/>
              <a:ext cx="17784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2" name="文本框 24"/>
          <p:cNvSpPr/>
          <p:nvPr/>
        </p:nvSpPr>
        <p:spPr>
          <a:xfrm>
            <a:off x="5378400" y="4245120"/>
            <a:ext cx="187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8E9-5ADA-4338-9FC7-0D1AD0416251}" type="datetime"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8:24:58Z</dcterms:created>
  <dc:creator>D13001</dc:creator>
  <dc:description/>
  <cp:keywords/>
  <dc:language>en-US</dc:language>
  <cp:lastModifiedBy>a</cp:lastModifiedBy>
  <dcterms:modified xsi:type="dcterms:W3CDTF">2014-05-24T09:36:38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