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D04-41D2-44AE-8136-502AF223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F8E-E308-49BE-896D-43A7EEB4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4437E-4970-421D-A1AA-99BD24E7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52370-1AE1-427C-B140-F7AABA3C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61888-3FA6-43AE-9F97-6E201532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FE91D-1007-4F22-AFD9-2E9032CE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7CC28-72E8-4AC6-A6A6-C0092CEA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10982-C44D-4419-BB00-AED1A157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4E05D-458E-4231-8982-60FAEEFC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D4813-ABA8-48E7-B86C-476E8201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87E30-15CD-4888-AECB-0DB9C42D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50D22-B209-4502-B4B7-46B49A5D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D67-2E1B-4A68-85C7-2F656014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7E5D4-B2DF-4434-A7EC-B520A875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DE095-423B-40F2-90DA-7F189046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F8FCD-9278-46C8-81DA-13DB9805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2690B-14DA-4980-9EF5-29B1ECD2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024B8-C124-48B5-83B5-85844180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36050-B916-4928-BBB5-1AEA04EB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44794-E04B-4860-8DCF-AD35DD86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94B25-3C75-4033-BAD1-4011A513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3951D-0C72-492A-92CE-18454137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71238-09B8-40D6-A824-FE98E2A1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E2E-AA38-4002-B99F-ACA2B22E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89958-62B5-4A2C-AFF0-43915CC8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6F8F6-722D-43E2-B065-3507027E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C71B6-49E4-4BF1-9931-7C51AE6F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E1B98-45F4-4EF4-B5DA-B8323177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F271E-E7A1-45E9-856C-85E94F71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37EEE-9257-4A3C-A4B9-26F1781C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6F205-C6F5-45D2-8888-722EC7FF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CC93E-CDDC-46EA-91F0-DFC66668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B65ED-967C-4E04-88C2-D1BD1078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D83FF-27C4-43BE-8889-D345EDD4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1606-D067-4619-B68C-99728DAA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41C8F-563E-47CE-B336-355AE3FF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70225-BB4E-46F3-9AC8-457D20E2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B85F5-3454-4DF5-AA57-5CECE585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0675B-0151-49F0-8900-F2E4817F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4C18F-F96E-4C37-94F3-405B2B4B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0F137-D4C0-4AD4-B958-A2B3FF1C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CF83F-BBFA-4A0D-9C92-5247068B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ABD3B-AFE6-48D5-9D94-626577BC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A9D3F-2EEF-4792-A2DA-0A257C61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C3CD1-A1EE-4F3B-BC11-073B442A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8E23-7B67-4B01-88FB-25879502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39783-7AA9-40CD-85B8-FFD026BA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FA028-E8F6-4F77-A4C0-46E82458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C209E-8384-45B9-90DA-6BB5C73B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DF480-0D2B-45C3-AD59-DD36EE73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8B053-CCFF-477C-8525-79069B84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35BBA-E4B4-4711-A530-0A50EDE1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DEEB7-03B7-4ACF-A5DA-7B455478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373C9-AA13-4808-A327-D255829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5CCB4-8746-462C-9FAD-B2418281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1B669-377C-4681-A300-FD023F05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D41D-F115-4AC6-B7D3-FF81CEDB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ACB1D-0C48-47F9-8F99-4BA6F28F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8BBEB-91C7-4AE6-87F1-74F5F5CE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011B0-D7BB-4268-9724-1B4E2033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B8E25-7751-4DC6-B866-DBDE5D6E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AA04E-F47D-443B-B548-B41FC64D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BD5CA-7F1E-4E74-BA47-9C324844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7D0D3-9E67-465B-BCC2-4D09F4DB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3643-C812-4562-BD1D-367A60E0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3826-049C-4BF9-83DA-06304E13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354B-0506-411A-BACC-8D67A44A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97FE-6A65-4F95-8C66-74764D42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582-E383-4917-BB0E-732606BF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FB52-021A-49A5-B171-8217BCB6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CE6C-563B-4CCB-B18F-2FFC6E3E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E13B-43A2-4723-AFBE-7A47F99B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06E6-0F9E-492F-BFBF-96BF6E8F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F4FE-78CA-451A-8AFC-47D1D7C7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6FE9-767E-417B-9883-947D2434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AA930-09ED-4FB9-B4F2-F2B53AA9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4C2D-C186-4375-BDCF-83069417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8FD7B-BA21-451E-A1C8-F61AE578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469F5-F7EA-4908-96F1-1786759F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A8E-3854-4A4E-9695-39572B31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7AAC-45BA-444A-A5F5-536939F9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7B7D-3534-40A2-87DE-429FA90E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23C4-4E47-4A6F-89A9-AE2D8F42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E6E2A-51B1-40CF-9169-92C27369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0EAA-2CCA-4560-B961-E8C3485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B4703-C48A-420C-84AA-9B450C9F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2797-0CC4-4864-9068-96020F32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11BC5-65A1-4E33-8350-BA17F15F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97B3B-AB74-4C41-8915-B426290B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869C9-CFFD-44A0-A842-057588A9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E02-FC73-406A-9480-F1E8E2F6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6524-94DC-42DC-8E0A-5D4C4523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4A99-52C6-4146-B06A-311ACD99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51B94-CEA3-4243-A36D-5636206F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3D7C3-EDF8-443C-81F9-25B968D2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4015-7990-4F73-83A1-D7559AA7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F2C5-8209-4663-9B07-16F88EC8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526B2-06BB-475A-9FC8-05EA2492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FCED-DA7F-4C3B-9E1C-002504E9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6BF2-2624-4343-A13D-7341A812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9A0D6-AED2-49E7-B4EC-D850A936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A48-FE6C-447D-AC77-87A10E30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AEA0F-DA45-413B-B7AD-A5A2B8AB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30F1F-B21E-4639-AD4C-32D744DB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A95E9-5FDF-4661-AD28-587877FD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13B42-5AD4-4FB9-80C0-16AAAFC5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71D0F-9DFA-46E7-B675-A936F24B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436C-FC35-4820-9043-2B154325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1C874-FCA4-46E9-AFB0-A98722CE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1D0DC-6276-4841-B7AC-40EEB96F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DFD9C-4D80-4C7D-AC70-F2D16B0E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F8DE1-064E-4142-931D-B0732A9F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694-74C7-48E5-AA3F-88E8AE9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E5B48-9960-4D86-9234-DD0A0164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6C93D-BD59-4262-9994-95F1FAFA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B0EDC-2134-4276-9772-FA383152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CF3F0-9575-4F59-8CBA-BE1CE290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D8C1F-0214-4727-9185-538AEDBC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10524-948E-45B4-806E-01A20BEB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A3DDA-7B09-458C-921F-41A9A52A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1629-3ABB-4931-8D6C-8C34E83D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E4668-1676-4150-9F8D-A4822963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FD54C-9713-4E83-9A57-5A4262D1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787-33D1-4C13-9081-02486CA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01C2D-C662-467A-B9BA-75F0D081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8F088-865C-4F08-A00A-16F27B7F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7DE74-E2AA-4DC2-B571-C2E59FE7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1DC3C-C4AA-4D26-831F-2501340E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6BD5A-5073-46D6-9EC5-5B27C17D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96771-6740-4597-AF46-EFF3C172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A61B3-0B1E-47D6-A953-973ED85D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DF5A2-7603-46BD-8930-5C7AD98C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0692D-BE1C-4B16-99C8-157725A1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EC9AD-BAC3-4A8B-81ED-2662D127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091-D80B-42A0-BC9F-888FC0EC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94189-F4FC-4634-A7AA-57339118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53086-BFDB-4366-BC44-4E3D5E2E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1D9A2-166D-4A15-AE02-3D4DBF35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6A309-A357-496F-8B75-A22ED429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16D7E-6430-48E9-ABED-8ED6A059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69511-9956-4523-BDB7-01DE64CF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E4655-DF8D-4835-AEE9-820A8EA3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F41A4-5EBC-42A4-B686-1F58FE1F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9F908-A468-49A0-96E5-2EFF40C9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CBCF0-96D4-4B8B-A9D4-B9A5FB82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314-52EF-43D3-970D-4DA74A20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F2ABB-C687-4F95-B206-A6C580D0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8FCC6-83A4-49FF-969B-B16ADE21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A3563-51B9-418A-80E1-040B4D9C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674BA-1C76-486E-83C4-1A69735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D2E21-3113-41A3-98B6-D446F5B6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A3927-ABFE-47B5-826E-96A741F5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FD75E-8975-44D1-80F8-008D7216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99E41-02BF-4FE4-A285-29C557F8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4F02C-077E-4F5B-A106-09B7150C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37B1B-22F1-49BC-8C2C-498AA6C2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93F4-053C-4914-8140-50CAEAD1D41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3CDB-88B6-4B9D-8061-3F8D96FF209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B6BE-3BF4-40E2-A41E-EBCB5F887FF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C6E6-22C3-4FF4-83C0-D0161CF5D29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7C99-FAC2-4D9F-AF25-A7769698D4A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1D8E-C96D-4CD7-A6C2-BB23AEB2832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9180-5AE8-4D1D-BBD6-ADA9235210F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E7F3-6C46-423F-B5B8-87420BE0DBB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F5DF-04F4-4A55-B512-A2704ABC41A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93ED-E240-4C7B-9040-D7C598C43B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0398-B9B9-47C0-9C5D-6391E72BD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CCCF-1BDD-471C-9F79-A159B8C1A43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A12F-201A-419A-97D2-44D876BA415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4819-00C4-4AD9-8FA1-8E407005DCB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8D99-8CB4-4AF8-9FC4-8398F274C3F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AEC7-F5BD-4748-87AB-F9F4E1DE3FB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8E9D-88AB-40D3-A6BD-206617CE537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864E-D045-4227-90E8-47505A56926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A506-EB0B-4065-BCD8-8D52FD9BC86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63DF-1491-409A-9E16-E6671133F8A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065E-17AE-423F-928B-72262E107A1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B2FE-EA15-4194-8912-5DA58D5EA43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4BA2-D833-435A-A014-CC8BA631043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A513-BC34-4769-9C72-13C3377FFF3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5B1A-7D15-4BF4-9F07-C99AA285727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34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等腰三角形 11"/>
            <p:cNvSpPr/>
            <p:nvPr/>
          </p:nvSpPr>
          <p:spPr>
            <a:xfrm rot="10800000">
              <a:off x="76212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等腰三角形 11"/>
            <p:cNvSpPr/>
            <p:nvPr/>
          </p:nvSpPr>
          <p:spPr>
            <a:xfrm rot="10800000">
              <a:off x="381024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等腰三角形 11"/>
            <p:cNvSpPr/>
            <p:nvPr/>
          </p:nvSpPr>
          <p:spPr>
            <a:xfrm rot="10800000">
              <a:off x="708696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等腰三角形 11"/>
            <p:cNvSpPr/>
            <p:nvPr/>
          </p:nvSpPr>
          <p:spPr>
            <a:xfrm rot="10800000">
              <a:off x="967752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1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1920" y="0"/>
            <a:ext cx="6626160" cy="631656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45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7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C:\Users\lenovo\Desktop\M1.gif"/>
          <p:cNvPicPr/>
          <p:nvPr/>
        </p:nvPicPr>
        <p:blipFill>
          <a:blip r:embed="rId5"/>
          <a:srcRect l="36585" t="0" r="34140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sp>
        <p:nvSpPr>
          <p:cNvPr id="549" name="TextBox 28"/>
          <p:cNvSpPr/>
          <p:nvPr/>
        </p:nvSpPr>
        <p:spPr>
          <a:xfrm rot="19893600">
            <a:off x="2334240" y="3959280"/>
            <a:ext cx="2338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Calibri"/>
              </a:rPr>
              <a:t>作者：姓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555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56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等腰三角形 11"/>
            <p:cNvSpPr/>
            <p:nvPr/>
          </p:nvSpPr>
          <p:spPr>
            <a:xfrm rot="10800000">
              <a:off x="76212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1"/>
            <p:cNvSpPr/>
            <p:nvPr/>
          </p:nvSpPr>
          <p:spPr>
            <a:xfrm rot="10800000">
              <a:off x="381024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等腰三角形 11"/>
            <p:cNvSpPr/>
            <p:nvPr/>
          </p:nvSpPr>
          <p:spPr>
            <a:xfrm rot="10800000">
              <a:off x="708696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等腰三角形 11"/>
            <p:cNvSpPr/>
            <p:nvPr/>
          </p:nvSpPr>
          <p:spPr>
            <a:xfrm rot="10800000">
              <a:off x="967752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3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567" name="直接连接符 17"/>
            <p:cNvSpPr/>
            <p:nvPr/>
          </p:nvSpPr>
          <p:spPr>
            <a:xfrm>
              <a:off x="73148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8" name="Picture 5" descr="C:\Users\lenovo\Desktop\M1.gif"/>
            <p:cNvPicPr/>
            <p:nvPr/>
          </p:nvPicPr>
          <p:blipFill>
            <a:blip r:embed="rId2"/>
            <a:srcRect l="36585" t="27779" r="30251" b="11112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9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570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1" name="Picture 6" descr="C:\Users\lenovo\Desktop\M2.gif"/>
            <p:cNvPicPr/>
            <p:nvPr/>
          </p:nvPicPr>
          <p:blipFill>
            <a:blip r:embed="rId3"/>
            <a:srcRect l="6400" t="19657" r="58132" b="15478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2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3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74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等腰三角形 11"/>
            <p:cNvSpPr/>
            <p:nvPr/>
          </p:nvSpPr>
          <p:spPr>
            <a:xfrm rot="10800000">
              <a:off x="76212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等腰三角形 11"/>
            <p:cNvSpPr/>
            <p:nvPr/>
          </p:nvSpPr>
          <p:spPr>
            <a:xfrm rot="10800000">
              <a:off x="381024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等腰三角形 11"/>
            <p:cNvSpPr/>
            <p:nvPr/>
          </p:nvSpPr>
          <p:spPr>
            <a:xfrm rot="10800000">
              <a:off x="708696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等腰三角形 11"/>
            <p:cNvSpPr/>
            <p:nvPr/>
          </p:nvSpPr>
          <p:spPr>
            <a:xfrm rot="10800000">
              <a:off x="967752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4"/>
          <p:cNvSpPr/>
          <p:nvPr/>
        </p:nvSpPr>
        <p:spPr>
          <a:xfrm>
            <a:off x="6400800" y="-16956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583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5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6" name="组合 30"/>
          <p:cNvGrpSpPr/>
          <p:nvPr/>
        </p:nvGrpSpPr>
        <p:grpSpPr>
          <a:xfrm>
            <a:off x="-608400" y="-474840"/>
            <a:ext cx="10146240" cy="2965680"/>
            <a:chOff x="-608400" y="-474840"/>
            <a:chExt cx="10146240" cy="2965680"/>
          </a:xfrm>
        </p:grpSpPr>
        <p:pic>
          <p:nvPicPr>
            <p:cNvPr id="587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8400" y="-474840"/>
              <a:ext cx="5409720" cy="29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直接连接符 19"/>
            <p:cNvSpPr/>
            <p:nvPr/>
          </p:nvSpPr>
          <p:spPr>
            <a:xfrm>
              <a:off x="2744280" y="56088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9" name="组合 28"/>
            <p:cNvGrpSpPr/>
            <p:nvPr/>
          </p:nvGrpSpPr>
          <p:grpSpPr>
            <a:xfrm>
              <a:off x="2744280" y="1065960"/>
              <a:ext cx="6793560" cy="1014120"/>
              <a:chOff x="2744280" y="1065960"/>
              <a:chExt cx="6793560" cy="1014120"/>
            </a:xfrm>
          </p:grpSpPr>
          <p:sp>
            <p:nvSpPr>
              <p:cNvPr id="590" name="TextBox 26"/>
              <p:cNvSpPr/>
              <p:nvPr/>
            </p:nvSpPr>
            <p:spPr>
              <a:xfrm>
                <a:off x="2744280" y="1065960"/>
                <a:ext cx="350460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TextBox 27"/>
              <p:cNvSpPr/>
              <p:nvPr/>
            </p:nvSpPr>
            <p:spPr>
              <a:xfrm>
                <a:off x="2820240" y="1423800"/>
                <a:ext cx="671760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2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9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等腰三角形 11"/>
            <p:cNvSpPr/>
            <p:nvPr/>
          </p:nvSpPr>
          <p:spPr>
            <a:xfrm rot="10800000">
              <a:off x="76212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等腰三角形 11"/>
            <p:cNvSpPr/>
            <p:nvPr/>
          </p:nvSpPr>
          <p:spPr>
            <a:xfrm rot="10800000">
              <a:off x="381024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等腰三角形 11"/>
            <p:cNvSpPr/>
            <p:nvPr/>
          </p:nvSpPr>
          <p:spPr>
            <a:xfrm rot="10800000">
              <a:off x="708696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等腰三角形 11"/>
            <p:cNvSpPr/>
            <p:nvPr/>
          </p:nvSpPr>
          <p:spPr>
            <a:xfrm rot="10800000">
              <a:off x="967752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602" name="Picture 6" descr="C:\Users\lenovo\Desktop\M2.gif"/>
            <p:cNvPicPr/>
            <p:nvPr/>
          </p:nvPicPr>
          <p:blipFill>
            <a:blip r:embed="rId2"/>
            <a:srcRect l="4646" t="21854" r="62821" b="9271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直接连接符 18"/>
            <p:cNvSpPr/>
            <p:nvPr/>
          </p:nvSpPr>
          <p:spPr>
            <a:xfrm>
              <a:off x="4419720" y="1623960"/>
              <a:ext cx="0" cy="324900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5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06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等腰三角形 11"/>
            <p:cNvSpPr/>
            <p:nvPr/>
          </p:nvSpPr>
          <p:spPr>
            <a:xfrm rot="10800000">
              <a:off x="76212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等腰三角形 11"/>
            <p:cNvSpPr/>
            <p:nvPr/>
          </p:nvSpPr>
          <p:spPr>
            <a:xfrm rot="10800000">
              <a:off x="381024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等腰三角形 11"/>
            <p:cNvSpPr/>
            <p:nvPr/>
          </p:nvSpPr>
          <p:spPr>
            <a:xfrm rot="10800000">
              <a:off x="708696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等腰三角形 11"/>
            <p:cNvSpPr/>
            <p:nvPr/>
          </p:nvSpPr>
          <p:spPr>
            <a:xfrm rot="10800000">
              <a:off x="9677520" y="6316200"/>
              <a:ext cx="228240" cy="15444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14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5-22T01:28:5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