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482-44E8-42AB-9EF7-479B423B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AF5-5EA2-4944-9419-482DA46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A82-ECE4-4953-B431-30837B1D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A99-F31A-407C-8B3D-DC56D89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E86-9234-4B72-B6DC-21D883D4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126-0C9E-4BC3-9A78-8E1DC042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0F1B-4108-4D76-A169-ADB6CEB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B0C-E7FA-4718-A55E-B473F2E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DB61-D264-4068-B0A3-16C20EF0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9724-3BEE-4C02-8F2B-F68B8AD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DFB9-BAE6-48A6-B79B-EC50F06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360-BB5D-4B3F-ACF1-0D25B51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49B2-57D9-42D4-8F53-BB73020C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9E8C-6BC6-4D27-9E93-22F849E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3F4A-8742-479B-AF80-E87051C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A277-3562-414D-8A61-9AE57A23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FC0-4945-4F49-A658-466BC819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A01-5C81-4C9D-A3AD-8711DE0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777-9354-4A46-96A1-9FBEA21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8A9-605C-4094-8C5F-69723A1B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E97-60A6-4D60-B68D-44FB139D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3E8-E369-4B57-8B6F-1BDB892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148-A200-495D-97F4-EE641B6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042-2E10-4A13-AEEE-DA5CCC5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52C-1410-4844-BC18-3D4AAEBD55E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1E7-C8CF-4ED9-B038-49292EEE15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A3E-4003-4E6B-9797-F5E49AEBB7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080" y="2844720"/>
            <a:ext cx="4600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21240" y="3357720"/>
            <a:ext cx="347976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226360" y="6686640"/>
            <a:ext cx="88272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714480" y="714240"/>
            <a:ext cx="4971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20:36:13Z</dcterms:created>
  <dc:creator>Admin</dc:creator>
  <dc:description/>
  <cp:keywords/>
  <dc:language>en-US</dc:language>
  <cp:lastModifiedBy>a</cp:lastModifiedBy>
  <dcterms:modified xsi:type="dcterms:W3CDTF">2014-05-24T09:36:54Z</dcterms:modified>
  <cp:revision>7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