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2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52800"/>
            <a:ext cx="822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5280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5280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516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516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5280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5280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5280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9E0D-8D5F-4581-BC82-6475AB393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296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17D4-6958-4AAD-8DD7-B9AD0FBE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296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5498-3E42-4FAB-A925-171CCBFC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F813-3E9F-4986-B3FC-D1FCB429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DC86-8845-404E-88B3-518E0648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E538-1174-4F87-ACD5-FBA4DF4F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5280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19A8-0635-4CDC-B3B2-BB0038A0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296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5280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B7E8-F523-44C3-ADCA-F20F095B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52800"/>
            <a:ext cx="822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6C02-EAA2-4C58-A654-2E1D224F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2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52800"/>
            <a:ext cx="822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6E5E-FAE4-417F-8A43-0A54A515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5280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5280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F15D-C24E-41A1-9C22-648C6C076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516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516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5280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5280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5280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AD9C-9779-486D-B0ED-E105D444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296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296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296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5280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5280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52800"/>
            <a:ext cx="822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2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52800"/>
            <a:ext cx="822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5280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5280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516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516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5280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5280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5280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5280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5280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52800"/>
            <a:ext cx="822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29600" cy="451476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296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40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5520" indent="-2271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0920" indent="-2268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0920" indent="-2268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0920" indent="-2268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27280"/>
            <a:ext cx="21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856F-B3CF-46AF-AEBC-893AACC6C003}" type="datetime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272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27280"/>
            <a:ext cx="2133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45AF-42B0-4399-9ADA-E60B831D56A4}" type="slidenum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29600" cy="451476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695680"/>
            <a:ext cx="77724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运动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29600" cy="451476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29600" cy="451476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29600" cy="451476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12600" y="0"/>
            <a:ext cx="8444160" cy="6838920"/>
            <a:chOff x="12600" y="0"/>
            <a:chExt cx="8444160" cy="6838920"/>
          </a:xfrm>
        </p:grpSpPr>
        <p:sp>
          <p:nvSpPr>
            <p:cNvPr id="125" name="矩形 4"/>
            <p:cNvSpPr/>
            <p:nvPr/>
          </p:nvSpPr>
          <p:spPr>
            <a:xfrm>
              <a:off x="700560" y="0"/>
              <a:ext cx="6584400" cy="68832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2600" y="1709640"/>
              <a:ext cx="8444160" cy="512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Box 7"/>
            <p:cNvSpPr/>
            <p:nvPr/>
          </p:nvSpPr>
          <p:spPr>
            <a:xfrm rot="20926800">
              <a:off x="1924200" y="3557520"/>
              <a:ext cx="4654800" cy="11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1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1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1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1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1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1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4:06:48Z</dcterms:created>
  <dc:creator>Administrator</dc:creator>
  <dc:description/>
  <dc:language>en-US</dc:language>
  <cp:lastModifiedBy>a</cp:lastModifiedBy>
  <dcterms:modified xsi:type="dcterms:W3CDTF">2014-12-15T17:46:47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