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4D8-826F-4C6B-89B6-C5B6C9A4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718-8AB2-45D2-9D26-E66BAAAF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F26A4-F189-48BB-BCAA-A4F6017F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691DD-727A-471D-9ABC-3B4544ED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5F7FA-0957-4A6A-98AE-B4F4B32A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C43D3-2DDF-4C72-B4B3-08B07758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DB348-0922-4D83-A731-AC021709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2AA4D-F276-4EDC-BCC1-A4D8E91C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D2652-030E-4DAB-8CA8-576A695F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CBCBB-80A8-4B4C-89D6-098EE4A8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51CAF-AECD-4D32-8478-DDE421D4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2498A-154D-44B8-A8EC-C61EEEEF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11A-7BD5-44E1-B7A1-15841905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F0902-B171-420D-BA5F-30EEABBF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473B9-8D4D-4E5C-B5A5-188F54F6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85565-79A7-4884-9603-208D1E8A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97550-3EBB-4FC7-A167-20AA1346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2C85C-90C9-4E37-AC05-B4904DD1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8EBBC-315C-478D-B2A9-4F017E6A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D3EF8-B65D-43A4-86C8-35007329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B8C46-5867-4ABC-8839-EF6939A8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0B960-D8ED-4A6D-8E8E-39181321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CBAA9-96A5-43B6-812B-658ABA9B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B2D-DF63-4C51-A6FB-6D519204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26378-53BA-4E96-B56B-6D45C0A5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D3663-09FA-4132-90D8-6CC8187B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051B0-226A-4031-BBA0-BAF8AFED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00006-7161-4E14-A39F-30AAB42D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F02C5-A4B9-46D3-BD1E-2DDE198F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35554-A119-4BAC-BDCE-B97AA51C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CB62C-BFB6-4435-AC0B-7ECEE896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C4176-F028-483F-BCEC-5C5EADF6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88878-D360-40AB-8B6E-61D64E29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A9133-E947-454A-8EC7-6D73EC44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0384-40EB-4630-AB80-2A7CA0B5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13D43-909B-4299-A2BE-CFA2336E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273AD-2459-4366-B6E8-7931B8D4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F7E25-B464-40D3-8739-9BB15CD6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D1A22-5A56-4C9E-B621-A9B2260B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F9DBA-6335-4F78-8889-87279416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518BE-F383-45E7-BDF2-8DEEDBB5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A613F-1053-4E82-B710-EAFCC52B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16F87-5C92-4AD4-99C6-D6D26309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9118D-64A0-4215-864A-3B15FF78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0C5F1-22AF-49D7-8ECE-A6C0EBE7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15AD-F8DC-4153-8771-68B871BE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57465-987B-4D5A-8175-9F39A7C8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FCAD2-717B-4E91-87CD-D4F44571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80030-71DC-43F3-9A6D-74F5D063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2DE38-1567-43C7-BDFA-8FD9AB27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57AE7-8BDA-4667-99ED-5B765497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2E803-6C60-48E3-92A5-1B519A58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D3CC3-A6B7-41B2-B970-EC809A60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2043A-E4B6-41CD-994E-E330590D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08214-59A1-43E9-96F5-6B503A99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E344A-9E96-43BB-8942-CEDE7453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00EE-88BD-43A0-A7D6-877A5A91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59C73-17D2-4447-A9EB-A0B6AB38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18750-14FA-4AA2-BE15-6C2E597D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FB1C6-F9F7-46E8-AC1D-15003D8C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6E774A-7BEA-4129-BA01-02F119E3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142F5-8B7D-4007-9D48-E45017E2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1910E-7974-473E-89BA-03DE93BB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3CD3A-7727-40D6-9B23-85BF5B46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CA95D-F26E-432D-9617-63FB53C4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EA24A-44CB-4763-A6E1-D7A4F367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1D18B4-5A7F-4183-A874-706EA1D8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326E-71E1-4359-A0CC-DC94AB23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9C56A5-D052-4E36-B3CE-B6BB3C1B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084515-6C36-457E-8E0B-9DECFB61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F30F2-2932-49F6-920F-9F234FC8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6B7D68-E257-4256-A4E0-01097CEE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FED05D-216F-404B-A619-8AA3B5D8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053A5-B1B2-4D00-93FB-37DBF687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250F19-0C91-436B-95A6-9EF4A049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6E0DB-739F-49B9-9D8F-A13120AE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F17C18-1548-45A5-AED7-173B77EF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35A2-DC41-40F7-977B-4B6FBF7C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3DBB-0C78-4B15-B916-B9543B93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6782-C356-4F27-851A-FAE06D52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2D0-69E0-4813-BA41-2BB15E1B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ED53-35CE-4390-B26E-0A1CA0AA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E444-E87C-4000-858A-699F4192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455E-6776-44B3-80C7-E0673683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1DE7-32BB-4649-BF6D-5269BE55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DDD5-1A68-4320-A94F-766B96EF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11DB-F194-408D-8BAC-9F1AB2CE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DBF9-1CD9-495A-937B-EE7E603F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A62E8-2530-46DE-9BE7-E6B98B1F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462EC-69A0-4786-BDFF-14C301E3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39D39-D0FA-4CC9-930E-FF2E40E8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F3F-047F-4728-B7B1-55A963D6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D3E4-69F7-4BDC-91B0-65AF9BB1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F1E72-96F9-4B1D-8BF4-3D97FCAF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71B2F-0DAE-45D1-A37A-CF446A64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BF128-1831-4D47-AE21-F7707F40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E41EC-2384-4F93-BC7A-B60F4F8C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7A39D-1E14-49FF-8E6A-5BADBFF2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F7BB7-79EC-46AA-950A-28520AEB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9EB4F-F953-485D-90BD-2D1FBDED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1F83A-2BE0-4D3F-AB70-1455C938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399E2-4B24-4F58-A7AA-4E673880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82E-A2A9-46A9-82F3-50348D1C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7696A-1729-4E06-9B08-D9961BBE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BB21C-2269-4458-A632-EE1DEF35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EC768-51BF-48E2-BB26-EF6E9BD3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A4C1E-5881-44E9-9658-0B64F980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4FFE2-4153-4E7F-9217-213FC381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ED9ED-6E08-4D6B-AE6B-DB2373C9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812F1-9F6D-4F06-B214-B8C74C1A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32210-B3FB-4205-885D-F405B2E6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58FE2-C451-4A55-B9C5-6DF5A8CB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3C34C-105D-4C20-8C5E-235FE003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302-AD88-4DFA-9EE1-95F43EA1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CCC0F-52C7-4521-9B15-E69A6C06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C45F3-7A12-4A1B-9AE2-53C6D6DA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72FDF-201D-4BA0-8075-5CAB8E34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2A96F-D27C-411B-B317-34653B6A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B935A-194F-4F1A-9AAB-54B17C97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D886F-503D-4569-87FA-6C9E8F90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35069-829C-4BCF-9BA3-CC2CFB1B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30E53-EF6A-4758-BE40-06802D75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48A24-0877-4B69-8573-29FD63E1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8EFF7-3264-46FC-A345-BAD0A7F0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FC5-9E70-41EE-8302-3FD2DC3B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F8B88-6282-40BD-92E2-93B144A2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C3709-80CF-4577-B981-F437D345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D34CE-781C-4D58-BDC0-86259133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7EC7B-385E-4D5A-99EA-69D38F4E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5919E-7988-4646-9FFF-574B17A9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ECC1D-D059-4E03-BF95-ED61C928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F3747-5E3B-465F-B33F-334B42EF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E6305-B0AD-4DFA-9720-D282D60F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AC11E-D688-496B-9453-AE591C28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7BD3C-134E-4D91-A98C-CB6741AE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D9B-1A15-429D-A13E-D8B2F1BC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992A4-961A-4A1D-968B-91CDF942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9A590-2AC8-451C-9910-F56C23A0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08759-A696-4246-A9D3-BF0BB2E7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33465-8749-41A3-8202-9F3772E2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A10E1-9E3D-4B7E-B878-1175BCBE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20838-FD30-4ED9-90A6-6D480E5C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2CF17-C45E-4115-A3C0-0338135A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25B5B-4E5F-46BA-9D7E-C4076438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610BB-0656-41A4-87CC-A63FBD1C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A40A5-9B64-46D9-A5CC-DADA71A8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119-4F0C-443A-A341-0CEF4A10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8298D-F3AD-4C47-8173-47DB1CA6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5BDFA-D829-465F-8982-52A1CB63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A397D-6F93-461F-8776-EC0EF88C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87502-7E42-4C98-A313-52E0C7EA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F8743-01EB-425C-B0C5-271A2326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92B03-446E-4BA2-998F-D8B39AD0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1E738-7175-4FCA-A161-9E233936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346F2-B75F-43A6-87CB-4EB2BA3D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3CC2F-68FA-4AAC-903B-9918229C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868DB-7168-4FCC-81DE-D429216A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08AB-3022-4B48-B285-3D6A172A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0ED40-2596-44BF-9EAD-5D540A2C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A263B-8BDE-4009-9053-BA2141FC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30597-2D60-4D97-9E32-1D452113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51326-0D44-4465-AAD4-B4570DD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C47A3-DCB4-40B0-9BB3-743154DB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394DA-51BA-438C-A32C-82FC29E8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63BC8-1645-49DD-9135-0AE69F10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463CB-AD0E-43D2-8540-A3119342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63C6E-A5F0-4E0C-95C5-A24AB4F1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F3462-CA2E-4BF5-B347-AB485313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"/>
          <p:cNvPicPr/>
          <p:nvPr/>
        </p:nvPicPr>
        <p:blipFill>
          <a:blip r:embed="rId2"/>
          <a:stretch/>
        </p:blipFill>
        <p:spPr>
          <a:xfrm>
            <a:off x="0" y="1440"/>
            <a:ext cx="6419880" cy="400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5fa0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1f5fa0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DB84-70CB-44DD-BA7C-26514EFB2C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F6C1-BC0A-40EE-A945-967B077AA6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3609-C5B2-4D40-9E72-98864A4D75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411F-0EA3-4654-BAEB-A353447AB83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1F3C-F76F-42CE-9FD2-E490EE9B35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86EF-53F5-4901-A325-6E4FD7D4C4D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C213-94FF-4EF8-B0D1-0BDF5CAFEA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073F-E546-427F-8117-FB64DDC3979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0C5D-EE0D-47B1-B569-EBA73C977B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9648-9A0F-4EA2-9351-43212CEBC62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BD03-E00D-4F50-A5B4-6F4508B569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rcRect l="0" t="0" r="10987" b="0"/>
          <a:stretch/>
        </p:blipFill>
        <p:spPr>
          <a:xfrm>
            <a:off x="0" y="0"/>
            <a:ext cx="12192120" cy="5040360"/>
          </a:xfrm>
          <a:prstGeom prst="rect">
            <a:avLst/>
          </a:prstGeom>
          <a:ln w="0">
            <a:noFill/>
          </a:ln>
        </p:spPr>
      </p:pic>
      <p:grpSp>
        <p:nvGrpSpPr>
          <p:cNvPr id="43" name="矩形 9"/>
          <p:cNvGrpSpPr/>
          <p:nvPr/>
        </p:nvGrpSpPr>
        <p:grpSpPr>
          <a:xfrm>
            <a:off x="0" y="4071960"/>
            <a:ext cx="12192120" cy="860400"/>
            <a:chOff x="0" y="4071960"/>
            <a:chExt cx="12192120" cy="860400"/>
          </a:xfrm>
        </p:grpSpPr>
        <p:pic>
          <p:nvPicPr>
            <p:cNvPr id="44" name="矩形 9" descr=""/>
            <p:cNvPicPr/>
            <p:nvPr/>
          </p:nvPicPr>
          <p:blipFill>
            <a:blip r:embed="rId3"/>
            <a:stretch/>
          </p:blipFill>
          <p:spPr>
            <a:xfrm>
              <a:off x="0" y="4071960"/>
              <a:ext cx="1219212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4075200"/>
              <a:ext cx="121921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矩形 7"/>
          <p:cNvGrpSpPr/>
          <p:nvPr/>
        </p:nvGrpSpPr>
        <p:grpSpPr>
          <a:xfrm>
            <a:off x="0" y="4449600"/>
            <a:ext cx="12192120" cy="2408400"/>
            <a:chOff x="0" y="4449600"/>
            <a:chExt cx="12192120" cy="2408400"/>
          </a:xfrm>
        </p:grpSpPr>
        <p:pic>
          <p:nvPicPr>
            <p:cNvPr id="47" name="矩形 7" descr=""/>
            <p:cNvPicPr/>
            <p:nvPr/>
          </p:nvPicPr>
          <p:blipFill>
            <a:blip r:embed="rId4"/>
            <a:stretch/>
          </p:blipFill>
          <p:spPr>
            <a:xfrm>
              <a:off x="0" y="4449600"/>
              <a:ext cx="1219212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6"/>
            <p:cNvSpPr/>
            <p:nvPr/>
          </p:nvSpPr>
          <p:spPr>
            <a:xfrm>
              <a:off x="0" y="4451040"/>
              <a:ext cx="12192120" cy="24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任意多边形 11"/>
          <p:cNvSpPr/>
          <p:nvPr/>
        </p:nvSpPr>
        <p:spPr>
          <a:xfrm>
            <a:off x="-12600" y="4427640"/>
            <a:ext cx="12209400" cy="501480"/>
          </a:xfrm>
          <a:custGeom>
            <a:avLst/>
            <a:gdLst/>
            <a:ahLst/>
            <a:rect l="l" t="t" r="r" b="b"/>
            <a:pathLst>
              <a:path w="12212664" h="500155">
                <a:moveTo>
                  <a:pt x="0" y="500155"/>
                </a:moveTo>
                <a:cubicBezTo>
                  <a:pt x="1429718" y="371002"/>
                  <a:pt x="2859437" y="241850"/>
                  <a:pt x="4277532" y="159192"/>
                </a:cubicBezTo>
                <a:cubicBezTo>
                  <a:pt x="5695627" y="76534"/>
                  <a:pt x="7186047" y="-21621"/>
                  <a:pt x="8508569" y="4209"/>
                </a:cubicBezTo>
                <a:cubicBezTo>
                  <a:pt x="9831091" y="30039"/>
                  <a:pt x="11021877" y="172107"/>
                  <a:pt x="12212664" y="314175"/>
                </a:cubicBezTo>
              </a:path>
            </a:pathLst>
          </a:custGeom>
          <a:noFill/>
          <a:ln w="38160">
            <a:solidFill>
              <a:srgbClr val="ffffff"/>
            </a:solidFill>
            <a:bevel/>
          </a:ln>
          <a:effectLst>
            <a:outerShdw dist="5091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5fa0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1f5fa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D408-5E90-4837-9F8D-9142F5200C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FB48-59C9-4343-B5F6-0FC8FE5AB9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172E-C38B-4EE3-98FC-1BAA888041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6D66-D563-4FE1-A3AB-4042311491B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740B-19E0-45A0-BD41-BBB72F810A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98C4-9598-4C3D-9FA7-0D63CE9055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A57E-9942-4C77-B473-361118783F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04C8-D683-4C81-9291-ACCC0FE9EA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9978-1406-45FE-B46F-D8D0CF28B3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18E8-B6BA-4043-AF4E-B0EA46822B6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7F82-5FB7-4F4D-9E33-F0F10C2D69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937C-E530-4727-A241-C7D12C7377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9D44-145A-435D-833D-4BFE5DD353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AF6E-EE93-4062-A25D-3D94F23AF21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88CA-E23B-408A-9F91-F32A42322A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09680" y="3484080"/>
            <a:ext cx="91440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mbria"/>
              </a:rPr>
              <a:t>年终总结系列</a:t>
            </a:r>
            <a:endParaRPr b="0" lang="en-US" sz="4400" spc="-1" strike="noStrike">
              <a:solidFill>
                <a:srgbClr val="1f5fa0"/>
              </a:solidFill>
              <a:latin typeface="Cambr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205000" y="587232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f5fa0"/>
                </a:solidFill>
                <a:latin typeface="Cambria"/>
              </a:rPr>
              <a:t>此处添加标题</a:t>
            </a:r>
            <a:endParaRPr b="0" lang="en-US" sz="3600" spc="-1" strike="noStrike">
              <a:solidFill>
                <a:srgbClr val="1f5fa0"/>
              </a:solidFill>
              <a:latin typeface="Cambri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88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1:59:23Z</dcterms:created>
  <dc:creator>邹恩栋</dc:creator>
  <dc:description/>
  <cp:keywords>XS-宽屏 16：9;SC-淡蓝色;BG-浅色;DH-静态</cp:keywords>
  <dc:language>en-US</dc:language>
  <cp:lastModifiedBy>a</cp:lastModifiedBy>
  <dcterms:modified xsi:type="dcterms:W3CDTF">2014-12-31T04:42:21Z</dcterms:modified>
  <cp:revision>5</cp:revision>
  <dc:subject>TP-理念概念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