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CCC-4921-4B0E-90B7-077E5F5B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99DB-BB92-479F-840C-434B8FA9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A20EF-A7CC-49DB-95E4-5486BB58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1AF6D-A5CF-417E-B83A-B76ADA22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096B6-20E8-4ADE-AEED-33A8924F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F0680-373F-42FE-9685-21641E2F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9B627-A661-4503-BF74-3DAAF072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EA77F-1CE2-485C-993C-8E93593F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7DF19-376B-4AE2-9EA1-4B0362CB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A467E-BE54-4B37-9709-32462A95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8ED43-3879-44C2-BC89-BECA55C1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63ACC-B893-4794-B840-06C6B13F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8C8-79E7-4347-9D5D-9C6EC73D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127A3-5459-4ABD-A531-0CFBB102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4F3E9-CB2B-41E0-81E6-4E3FF3B3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C512D-5914-47FD-B5A9-2736F791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FF505-EBC8-47B0-9601-117BFEA3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77799-AB03-49B2-A4E8-72E51D96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FB77C-57CF-483D-82F3-34CD7C94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3C285-C9E6-4534-9BB6-02D3C6E6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2913A-27F7-4E5F-A00A-AAF058D9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E7FBE-AB2D-45C6-BFD0-9899030A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5E38C-51F5-4879-903F-0530E3AC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9958-B315-49B1-B878-6EE4E986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0D911-D0CA-4437-8DCB-94EF2EB5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EB7D5-5BD7-4971-9D17-3F8121B3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067E7-C4AB-4C06-B09E-732F31BE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2A865-4C4F-42AF-9DE8-9DD248E0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49143-7934-4D34-BBA4-CE1B5240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FE821-6DF8-4A04-8E1D-ED5827E2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77A37-0A66-4640-9E2D-BB3EC88C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33961-D123-43D9-86DB-85E73F2C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C8C63-69FA-441A-890C-BC579583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2A873-15E1-4B84-AD59-B023B16A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14EA-A39B-424E-AFA2-AC2035CD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EA586-D545-48BB-B316-F37951D9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978F3-390F-4AF9-84A1-CFD024C5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61FAA-A448-45C0-9FA9-6CD25337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39ED0-1043-4CEC-886D-D52E780D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2FA2E-6471-4E07-951E-4A15F5CF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E3759-1C87-4BCF-931A-6F0B33DA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C7FFD-9F3E-46B5-9A76-8D11B316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F3DBC-734E-47C4-A6C1-E86B8713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4E361-5A67-47D5-ADDE-0F5C3162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20D32-9940-46ED-938A-766F2090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6F7E-7C72-4112-ABA3-6A6CF567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537BD-A94B-4593-8F18-54F388A3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231A5-00E4-40E7-9D2E-7657EA38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1699C-8322-4C19-89E7-AC43DEC5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C62E6-C0BA-4E26-B00E-717C8ED0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1A086-9C46-4CF0-B083-45D45559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52F32-2F12-42F2-B339-30A0E2FF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ADB4D-E925-4593-9AC3-FA6027BA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6A4C3E-5E78-43D4-93D0-89B31F29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0CB070-FB9D-44A3-93A6-AA94F307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66B147-3525-4748-86BB-C4C9BB9C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A166-EB10-45C7-852E-3A3D4212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37175-073D-4718-9154-FEA72612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6BFC8-3EDC-4A11-8851-C3353C3E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6C5463-038D-45E5-A571-79CACD7B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E7DB3-8E5F-4A78-8CD0-3E02D199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FADE57-56EE-4B9D-9B7B-CD3FDC19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15B4E-9DA9-48B1-9E3B-4E3FA776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15E68-2D93-46C4-A489-2BFA5935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FE5AE-92BD-4799-AA4C-87D7FEB1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B86B8A-9823-4320-821A-3720A096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CDA597-7AF1-43E3-AE4E-3AFC6AFE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9A20-BCF3-4FA1-B1BF-BDA83C4B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85F9D-04CE-4284-A5F0-89ADF323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D44C86-DF72-4332-B94A-9EF8BC6E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C50606-273E-4E51-85C0-47EF91E5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4EA219-D6CC-42B0-B4AF-24CD2EC3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384E9-5AF8-4BE1-B38F-A6D00738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20973-2BD1-4D14-8C68-CDC5FBF9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F3DA35-13A1-47F9-A9DD-2DC52D9D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98BD83-67E0-40A5-B977-B0CD3C0F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8B4A89-A110-42E5-8D65-1516D9AA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D991-156D-436B-87E3-E6915B16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3475-4CE6-4ACE-BBB0-12AC3141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343C-418D-4C4C-BC8E-8712EE82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8B4-2EA8-4DEF-BB15-D6F4BCC1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E55B-EB14-4153-BF98-D8861BF6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BB2C-4AA8-4FF4-9351-4858C944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3FD7-02B1-4871-9137-7E399E14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A843-1B83-409E-ACD7-CB5A42DA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D097-6E07-4CC0-A9A6-8967E54B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C631A-D54E-429D-8CCD-39F2074B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D19C0-B613-4F5B-9771-6F56EA23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E5A8B-F3C7-4293-B807-363A9A59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DBBC7-1A43-4243-AA31-41443E5D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9B95B-DD71-46EF-A796-F21D511F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B21B-6881-4B66-BA07-0843881A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44B98-4989-4DB5-88DB-A392348A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1E463-B5ED-4998-B887-376FB42A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399C5-6173-412D-A7A4-1C172C6F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1C1AD-3D10-44B7-BEFB-76727A58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33922-B54C-4071-BFC3-7A2902AD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118A9-99D9-4127-B2B8-9D069353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386E6-581C-422B-87DA-55D39D5A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E9C3C-E585-4BAA-80B3-99AF34FE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94501-D5D7-4A1F-9BC3-3DB22F1C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6C7D4-3049-422E-A3F9-2707EDD4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88A-3295-480F-9377-FAB169A8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F4E62-C472-4F06-A7E3-42F7C636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6A4A9-46B1-4136-9D21-EB7D758D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B7487-301D-4F0B-9FFE-BE337F04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B4FF3-75F0-4C66-AA0C-51A20765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EB761-2D69-42CD-AF9D-61ACE790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7B648-E559-455C-A130-B2809104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E988D-C763-4A32-93FE-9DF0CDBC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0BA80-19B7-4B65-96A7-C3A6888F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0918C-CBE3-4866-ACD4-3A111EA1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34A15-DC71-4C8E-934D-581CA542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90D1-3433-4F5A-AB0E-C2CEB8F8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7A4B4-564A-495B-898A-1765892B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89B7E-25BC-4BE7-ACC6-1E9ABAE4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B4DF6-C4FA-4815-AAE3-ABBCAF31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A196D-D5D1-4A0E-8820-7AFAA362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67E6D-F461-4F8B-892E-8E3FDE80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0E22A-DE17-48F2-B0F0-8CA89E49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623DE-6568-451B-869A-B9E032ED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92772-AD93-45E4-A87C-987EDD72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55C50-BFCB-40CF-9D9E-1ADE413A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86671-7EC7-4C9D-9089-1D23FB2F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355-7901-4716-B2E3-938A749A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96C48-3A9E-4115-9ACF-02B494FE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4B6D6-A2FB-46FF-8F2C-FEB16637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38849-D5DE-4F43-96DD-21FE3CCD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5682D-790D-4E57-8E5E-ECCE0171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B2F81-E6F6-4343-897B-1606FA57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6A3E8-0BE2-4A72-B5E1-EF1D370F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D458D-33BC-4E9C-8614-5928C089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CAC48-C1A2-430D-880A-DD4BD50E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8812F-72BC-4665-9437-4E6B9E44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B9825-AE77-4E53-82CB-932CA2FD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AD92-91B0-4CFF-9E1A-E2C59F2F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BFF0B-1B81-478E-8006-BB5E11A9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0CBBC-A4D7-429C-8114-A7822308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57DF1-10FD-4FC1-8251-8DBBF8C5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5A807-8908-454C-AE04-A4C47A6F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E5A0E-4663-4CEE-BC88-D339ABB0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19551-CCA7-44B5-852C-AC15DD06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71844-6B11-4AD1-A1D7-54438799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1A9B5-1ECA-4DCF-AA95-61ED6D7C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50A1F-23A7-4192-9709-53B6DA3F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1CC9B-F44F-49FE-AA3A-94679885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8A4-D198-47D3-A9B5-EB9472D3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C8082-631B-4E28-8913-754975CF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0DA12-D50C-4FF1-BCA6-F1D9BAEB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D951B-9D22-4A72-A56D-80267D0F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BE9B3-0AD9-4713-8896-65B1C927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136EF-B3CA-42A4-9A58-A70864E1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DB4AB-C1B7-4D40-B388-FB3CED6C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D11ED-F5C8-4504-B7FF-B679C432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F4B67-578F-4AEB-A11A-92EC2BCE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034FC-EF60-4EBA-8D52-BCBE0F7F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5F338-F936-4B66-A74B-05296919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3A7E-32B6-46DA-BC87-77031B73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11664-5E34-4ED9-81A9-C3EB99D5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AC81F-479A-409C-803E-B585EE00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244FB-1B38-4589-BEC0-02A6C3A5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F840B-63CC-4382-971D-8815074C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F4971-6F9B-4761-8D54-8402C201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99FCC-20AB-4FCE-8468-FEFDB3B9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C5BA1-E990-465F-8740-74ABED03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7A340-7006-4F6D-83A2-CF26A6F9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4886A-1C6F-4700-97E6-52FF6B99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04C2B-6FAB-48D3-9443-C7F7B6CC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rcRect l="0" t="0" r="9633" b="0"/>
          <a:stretch/>
        </p:blipFill>
        <p:spPr>
          <a:xfrm>
            <a:off x="1163520" y="0"/>
            <a:ext cx="11023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ounded Rectangle 8"/>
          <p:cNvSpPr/>
          <p:nvPr/>
        </p:nvSpPr>
        <p:spPr>
          <a:xfrm>
            <a:off x="838080" y="325440"/>
            <a:ext cx="10966680" cy="6207120"/>
          </a:xfrm>
          <a:prstGeom prst="roundRect">
            <a:avLst>
              <a:gd name="adj" fmla="val 4005"/>
            </a:avLst>
          </a:prstGeom>
          <a:noFill/>
          <a:ln w="38160">
            <a:solidFill>
              <a:srgbClr val="fff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16352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88600" y="365040"/>
            <a:ext cx="101552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88600" y="1825200"/>
            <a:ext cx="101552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ca08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240920" y="6356520"/>
            <a:ext cx="316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037120" y="6356520"/>
            <a:ext cx="279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80520" y="6356520"/>
            <a:ext cx="3163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A42C-A57C-4A09-B2DD-FB6558E0EED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A9DC-94FF-4075-AF90-0857EED31E3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6856-B6A0-48E6-A7E7-A47F6D3805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E412-40EC-4125-8DE7-9A39C5CEA77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4CD0-2031-4D42-808B-DA8067C1F4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C3F5-0096-4A5B-9AFB-071D5720B03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B83E-10A1-4C77-B076-BDF9646171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A2E5-E644-4F25-B78E-E5C38D91EBA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AE81-7A89-49FE-8040-E13E46C2EE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4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591D-39FD-4C6F-9D1C-3342D003CC0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4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4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7409-C3E2-4610-80E8-D1AF57213B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2"/>
          <a:srcRect l="0" t="0" r="9633" b="0"/>
          <a:stretch/>
        </p:blipFill>
        <p:spPr>
          <a:xfrm>
            <a:off x="1163520" y="0"/>
            <a:ext cx="110235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ounded Rectangle 8"/>
          <p:cNvSpPr/>
          <p:nvPr/>
        </p:nvSpPr>
        <p:spPr>
          <a:xfrm>
            <a:off x="838080" y="325440"/>
            <a:ext cx="10966680" cy="6207120"/>
          </a:xfrm>
          <a:prstGeom prst="roundRect">
            <a:avLst>
              <a:gd name="adj" fmla="val 4005"/>
            </a:avLst>
          </a:prstGeom>
          <a:noFill/>
          <a:ln w="38160">
            <a:solidFill>
              <a:srgbClr val="fff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1635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rcRect l="18998" t="0" r="0" b="0"/>
          <a:stretch/>
        </p:blipFill>
        <p:spPr>
          <a:xfrm>
            <a:off x="0" y="0"/>
            <a:ext cx="98758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5"/>
          <a:srcRect l="64763" t="0" r="16252" b="0"/>
          <a:stretch/>
        </p:blipFill>
        <p:spPr>
          <a:xfrm>
            <a:off x="9863280" y="0"/>
            <a:ext cx="23288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387360" y="4076640"/>
            <a:ext cx="9475920" cy="201636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ounded Rectangle 8"/>
          <p:cNvSpPr/>
          <p:nvPr/>
        </p:nvSpPr>
        <p:spPr>
          <a:xfrm>
            <a:off x="387360" y="325440"/>
            <a:ext cx="11417400" cy="6207120"/>
          </a:xfrm>
          <a:prstGeom prst="roundRect">
            <a:avLst>
              <a:gd name="adj" fmla="val 7560"/>
            </a:avLst>
          </a:prstGeom>
          <a:noFill/>
          <a:ln w="38160">
            <a:solidFill>
              <a:srgbClr val="fff4ce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Straight Connector 11" descr=""/>
          <p:cNvPicPr/>
          <p:nvPr/>
        </p:nvPicPr>
        <p:blipFill>
          <a:blip r:embed="rId6"/>
          <a:stretch/>
        </p:blipFill>
        <p:spPr>
          <a:xfrm>
            <a:off x="384120" y="5559480"/>
            <a:ext cx="9509040" cy="30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88600" y="365040"/>
            <a:ext cx="101552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88600" y="1825200"/>
            <a:ext cx="101552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ca08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240920" y="6356520"/>
            <a:ext cx="316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037120" y="6356520"/>
            <a:ext cx="279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480520" y="6356520"/>
            <a:ext cx="3163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57A3-4B4C-4855-982B-F14AFB27E3A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53BF-0D27-4593-9319-433D4E8500E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945E-46BE-4CA6-96CB-03A148D277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45AB-DD5D-4C75-891E-F4DBD50BE19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EE23-80CB-4F69-B03A-7DDEA01225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C2E7-CA6B-4EAA-BB12-18503834748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AA83-8160-473F-A65A-9F9D3EEF05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FC36-D78D-444E-A1E8-31828397B4B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799C-B8F4-4F5D-B5A9-31FD1AA8C5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897F-00DD-4B29-A1E5-B95F3BADDF1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0A2E-DE01-44AB-A788-1E6C8BBBA1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0622-A2A6-4067-8054-DA30D9E0669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FBB2-64F1-4D67-8886-4E9F576763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F985-06FE-4B8F-874E-CB68D692DC5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065C-5DF1-40CD-8E13-0E398528EB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74680" y="3100320"/>
            <a:ext cx="1011096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2012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年终总结系列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170000" y="565740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88600" y="365040"/>
            <a:ext cx="101552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 Light"/>
              </a:rPr>
              <a:t>此处添加标题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88600" y="1825200"/>
            <a:ext cx="101552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ca08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此处添加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90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5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07:37:57Z</dcterms:created>
  <dc:creator>邹恩栋</dc:creator>
  <dc:description/>
  <cp:keywords>XS-宽屏 16：9;SC-深棕色;BG-深色;DH-静态</cp:keywords>
  <dc:language>en-US</dc:language>
  <cp:lastModifiedBy>a</cp:lastModifiedBy>
  <dcterms:modified xsi:type="dcterms:W3CDTF">2014-12-15T17:39:27Z</dcterms:modified>
  <cp:revision>9</cp:revision>
  <dc:subject>TP-通用纹理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