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D79-123E-4595-A2B8-78A27BC6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2775-2558-4875-A777-474564FF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B539-571C-4CC9-B163-BE87F8BE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8FBF-853F-4C3B-A985-FE0BA5C2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B74-695E-4673-B1FE-30003AEF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DB89-03BE-435D-98F1-B1623AE8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00D7-C7B6-4704-BCCC-63A80022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CD23-7C37-40D3-A1AF-2F9B4B43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6D72-DA30-4B24-BBEB-376F7E9C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CCB0-095F-4B00-9BCF-2C4504EB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9CC9-FC25-44AC-AA75-71B43970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51E-2ECF-4CAA-8088-E035BFA9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6463-C9A9-47E1-B13B-9991CCFB96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3240" y="3718080"/>
            <a:ext cx="9144000" cy="3143160"/>
          </a:xfrm>
          <a:prstGeom prst="rect">
            <a:avLst/>
          </a:prstGeom>
          <a:solidFill>
            <a:srgbClr val="cc99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76200" y="1843200"/>
            <a:ext cx="5234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cc9900"/>
                </a:solidFill>
                <a:latin typeface="Impact"/>
                <a:ea typeface="微软雅黑"/>
              </a:rPr>
              <a:t>DO </a:t>
            </a:r>
            <a:r>
              <a:rPr b="0" lang="zh-CN" sz="6000" spc="-1" strike="noStrike">
                <a:solidFill>
                  <a:srgbClr val="cc9900"/>
                </a:solidFill>
                <a:latin typeface="Impact"/>
                <a:ea typeface="微软雅黑"/>
              </a:rPr>
              <a:t>SOME</a:t>
            </a:r>
            <a:r>
              <a:rPr b="0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068720" y="387180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Impact"/>
                <a:ea typeface="微软雅黑"/>
              </a:rPr>
              <a:t>HARV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"/>
          <p:cNvSpPr/>
          <p:nvPr/>
        </p:nvSpPr>
        <p:spPr>
          <a:xfrm>
            <a:off x="3240" y="1074600"/>
            <a:ext cx="9144000" cy="5786640"/>
          </a:xfrm>
          <a:prstGeom prst="rect">
            <a:avLst/>
          </a:prstGeom>
          <a:solidFill>
            <a:srgbClr val="cc99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tangolo 5"/>
          <p:cNvSpPr/>
          <p:nvPr/>
        </p:nvSpPr>
        <p:spPr>
          <a:xfrm>
            <a:off x="733320" y="2003400"/>
            <a:ext cx="7572600" cy="3643200"/>
          </a:xfrm>
          <a:prstGeom prst="roundRect">
            <a:avLst>
              <a:gd name="adj" fmla="val 28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9"/>
          <p:cNvSpPr/>
          <p:nvPr/>
        </p:nvSpPr>
        <p:spPr>
          <a:xfrm>
            <a:off x="407880" y="1249200"/>
            <a:ext cx="38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WHA IS HARV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1101240" y="2435400"/>
            <a:ext cx="2061360" cy="2239560"/>
            <a:chOff x="1101240" y="2435400"/>
            <a:chExt cx="2061360" cy="2239560"/>
          </a:xfrm>
        </p:grpSpPr>
        <p:sp>
          <p:nvSpPr>
            <p:cNvPr id="48" name="Rettangolo 7"/>
            <p:cNvSpPr/>
            <p:nvPr/>
          </p:nvSpPr>
          <p:spPr>
            <a:xfrm>
              <a:off x="1101240" y="2876040"/>
              <a:ext cx="206136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1. ADJ-GRADED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不可思议的；难以置信的；极好的；非常棒的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If you say that something is unbelievable, you are emphasizing that it is very good, impressive, intense, or extrem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8"/>
            <p:cNvSpPr/>
            <p:nvPr/>
          </p:nvSpPr>
          <p:spPr>
            <a:xfrm>
              <a:off x="1303200" y="24354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9900"/>
                  </a:solidFill>
                  <a:latin typeface="Articulate"/>
                </a:rPr>
                <a:t>unbeliev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8"/>
          <p:cNvGrpSpPr/>
          <p:nvPr/>
        </p:nvGrpSpPr>
        <p:grpSpPr>
          <a:xfrm>
            <a:off x="3525480" y="2435400"/>
            <a:ext cx="2061360" cy="1813320"/>
            <a:chOff x="3525480" y="2435400"/>
            <a:chExt cx="2061360" cy="1813320"/>
          </a:xfrm>
        </p:grpSpPr>
        <p:sp>
          <p:nvSpPr>
            <p:cNvPr id="51" name="Rettangolo 7"/>
            <p:cNvSpPr/>
            <p:nvPr/>
          </p:nvSpPr>
          <p:spPr>
            <a:xfrm>
              <a:off x="3525480" y="2876040"/>
              <a:ext cx="20613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2. ADJ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极其糟糕的；令人震惊的；令人无法相信的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You can use unbelievable to emphasize that you think something is very bad or shockin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45"/>
            <p:cNvSpPr/>
            <p:nvPr/>
          </p:nvSpPr>
          <p:spPr>
            <a:xfrm>
              <a:off x="3727440" y="24354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9900"/>
                  </a:solidFill>
                  <a:latin typeface="Articulate"/>
                </a:rPr>
                <a:t>unbeliev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1"/>
          <p:cNvGrpSpPr/>
          <p:nvPr/>
        </p:nvGrpSpPr>
        <p:grpSpPr>
          <a:xfrm>
            <a:off x="5947920" y="2435400"/>
            <a:ext cx="2061360" cy="1813320"/>
            <a:chOff x="5947920" y="2435400"/>
            <a:chExt cx="2061360" cy="1813320"/>
          </a:xfrm>
        </p:grpSpPr>
        <p:sp>
          <p:nvSpPr>
            <p:cNvPr id="54" name="Rettangolo 7"/>
            <p:cNvSpPr/>
            <p:nvPr/>
          </p:nvSpPr>
          <p:spPr>
            <a:xfrm>
              <a:off x="5947920" y="2876040"/>
              <a:ext cx="20613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3. ADJ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不可信的；不像真实的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If an idea or statement is unbelievable, it seems so unlikely to be true that you cannot believe it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48"/>
            <p:cNvSpPr/>
            <p:nvPr/>
          </p:nvSpPr>
          <p:spPr>
            <a:xfrm>
              <a:off x="6149880" y="24354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9900"/>
                  </a:solidFill>
                  <a:latin typeface="Articulate"/>
                </a:rPr>
                <a:t>unbeliev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矩形 52"/>
          <p:cNvSpPr/>
          <p:nvPr/>
        </p:nvSpPr>
        <p:spPr>
          <a:xfrm>
            <a:off x="671832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hiller"/>
              </a:rPr>
              <a:t>To 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50"/>
          <p:cNvSpPr/>
          <p:nvPr/>
        </p:nvSpPr>
        <p:spPr>
          <a:xfrm flipH="1">
            <a:off x="3249720" y="2955960"/>
            <a:ext cx="1440" cy="200016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50"/>
          <p:cNvSpPr/>
          <p:nvPr/>
        </p:nvSpPr>
        <p:spPr>
          <a:xfrm>
            <a:off x="5597640" y="2955960"/>
            <a:ext cx="0" cy="200016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5"/>
          <p:cNvSpPr/>
          <p:nvPr/>
        </p:nvSpPr>
        <p:spPr>
          <a:xfrm>
            <a:off x="3240" y="5481720"/>
            <a:ext cx="9144000" cy="1368360"/>
          </a:xfrm>
          <a:prstGeom prst="rect">
            <a:avLst/>
          </a:prstGeom>
          <a:solidFill>
            <a:srgbClr val="cc99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596360" y="5877000"/>
            <a:ext cx="914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英英释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55640" y="909720"/>
            <a:ext cx="381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Ad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1. beyond belief or understand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"at incredible spee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"the book's plot is simply incredibl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synonym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： 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incred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076720" y="1450800"/>
            <a:ext cx="343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2. having a probability to low to inspire bel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synonym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： 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improbable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unconvincing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unlik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50"/>
          <p:cNvSpPr/>
          <p:nvPr/>
        </p:nvSpPr>
        <p:spPr>
          <a:xfrm>
            <a:off x="4633920" y="1054080"/>
            <a:ext cx="0" cy="367200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5"/>
          <p:cNvSpPr/>
          <p:nvPr/>
        </p:nvSpPr>
        <p:spPr>
          <a:xfrm>
            <a:off x="3240" y="5481720"/>
            <a:ext cx="9144000" cy="1368360"/>
          </a:xfrm>
          <a:prstGeom prst="rect">
            <a:avLst/>
          </a:prstGeom>
          <a:solidFill>
            <a:srgbClr val="cc99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7596360" y="5877000"/>
            <a:ext cx="914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语例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755640" y="909720"/>
            <a:ext cx="381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1. Tom was driving his sports car at an unbelievable high spe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汤姆正在以令人难以相信的高速驾驶着自己的跑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2. They work with an unbelievable spe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他们以令人难以置信的速度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076720" y="909720"/>
            <a:ext cx="3434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3. That story is unbeliev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那故事不可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4. Even the mass movement has degenerated to an unbelievable extent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便是群众运动也堕落到叫人难以相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50"/>
          <p:cNvSpPr/>
          <p:nvPr/>
        </p:nvSpPr>
        <p:spPr>
          <a:xfrm>
            <a:off x="4633920" y="1054080"/>
            <a:ext cx="0" cy="367200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5"/>
          <p:cNvSpPr/>
          <p:nvPr/>
        </p:nvSpPr>
        <p:spPr>
          <a:xfrm>
            <a:off x="0" y="1701720"/>
            <a:ext cx="9144000" cy="3143160"/>
          </a:xfrm>
          <a:prstGeom prst="rect">
            <a:avLst/>
          </a:prstGeom>
          <a:solidFill>
            <a:srgbClr val="cc99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Impact"/>
              </a:rPr>
              <a:t>Thanks for liste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6:37:35Z</dcterms:created>
  <dc:creator>yellownancy</dc:creator>
  <dc:description/>
  <dc:language>en-US</dc:language>
  <cp:lastModifiedBy>a</cp:lastModifiedBy>
  <dcterms:modified xsi:type="dcterms:W3CDTF">2014-12-31T04:42:50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