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9513-2E2B-46BD-8873-57D14168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D150-4D93-4033-9B49-86221683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28009-25E6-431A-A086-2AEF37A2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B61CA-E71A-445E-ABA5-A80D6AB1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B7A9E-2D61-41B7-A618-F1DE0A1C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35C53-9435-46B1-AE53-F9114335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1E628-1685-4765-BFB4-64542C5A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FF7E4-3FC1-4762-9282-B42BB129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0F6C1-44FF-45E4-984E-2145E4D7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4F0D1-7498-4EE1-B6A1-1793D412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77307-97B5-45DC-A725-C3F71A00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84F7A-EDBA-4EFD-A79E-53FF5F42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4066-43F4-4919-A874-3E978F19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98897-5E78-4FED-B66A-5A4061D3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E10E1-635E-4EAF-AE2B-5798A932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A48CF-2129-40D5-9094-BDB5EFE7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799D9-75C3-4481-9316-17771771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61C14-2DD4-4FF7-8605-8DD588B0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B66A5-6EE5-4863-827D-A1C7E238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DBEA7-BAED-4314-BE0A-9F6E3BC2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CF6BE-3026-4975-B2C2-789022B0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51B42-FF87-40DC-BA09-F7C08071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F08A5-F7FE-4582-8356-B3591FEA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2D1F-AFAC-4379-AE0F-3A7223C4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824C6-1E58-4018-95D3-7CF3FDC0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AC73F-7BAB-4707-BB1E-4A7412F8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413D2-EA35-410A-8201-3DC74873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ED343-AD73-48D8-9864-EDE32108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2AA07-F231-41BC-A5D6-5F10494C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6A5C6-77DD-4933-9E8E-AEE1C5BC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10397-CBAB-4A8D-9A6B-CDF96C4F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431A5-3062-4D23-90BB-C9C9F52F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84237-6ED4-4D97-893A-B2ECF267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72D0A-D3FD-42F6-A62C-1332F8AF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4563-59C7-4CB9-A718-7AD4CA35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B36C3-FF46-4CFB-91D8-A8639CE4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B0A07-B663-4D58-84EC-A5589FDB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13D81-A686-4523-9F20-33F1889F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9C128-04FD-4A8A-931D-84F839B8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FBD98-5F39-443A-AF91-3E8BBAFB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1198A-82A6-444E-916B-C8FAD908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C27F1-7A73-45EA-A417-BB2EC800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020C0-2C36-41A8-BDD9-BAF175B4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87767-BF4D-4905-B41F-7F29EBF2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DBFB2-A93A-4B58-BFDF-2DBC4B20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D26B-D646-404D-8409-A655AF00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33263-CD36-4B6B-A10D-F413D93D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AC9D8-1380-4FD2-A32A-22F72E54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0EBF2-BB65-4AD7-B490-EE040155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16269-160E-4F84-BAA2-85BFC0D6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AF87D-FD98-4C68-9DF4-5C459F32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655BE6-20A0-44C9-9D48-483ABADE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F85D68-0BCD-4535-AC40-FCAED53D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4B44E0-41F2-483E-9A0B-C381175A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2A6EBC-82E3-458C-994E-CC7E9BC4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03A27A-7E08-4E40-93E8-4375475E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AC0B-3CB0-4F64-ACA4-0BEB6B1E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D48181-1F78-4E4E-A019-ABE0E321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F2EE1B-D297-46DE-908D-EDC12537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A93C74-99D0-411A-8037-512A43E2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0634A7-34C0-475F-AE78-161096AB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171779-2D1A-4C40-8573-6D26028E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74EEF8-9705-4BA3-A529-EC0635AC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D35C98-97AE-4F3C-963A-6EFCFCEB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21A3-638D-4EC7-B36D-C324E675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090A-863C-40D0-AA7D-8E385F0A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1EED-E02C-444B-8CFE-D574B3EA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8212-B05F-4BDC-BE07-88320087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E673-C801-40D3-A2C4-7C40296C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B450-A261-4399-A0F8-2AFDE966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4A34-F992-4F48-8331-F4A4B50B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0608-2101-45B0-897F-4C1CC3AB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7418-4EA5-47D1-A79E-C308FF43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6C14-6142-4D8E-BA98-BA957830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46065-1F7D-4DD4-A842-1A81F593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323AE-D9C8-425F-A720-20E96BB9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46DF8-E3A8-410D-82FE-12EE574C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69850-C22B-4604-A550-B12BC2B8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C7F99-2A30-407F-A555-F460EF5F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2084-0309-41D1-A2A6-8CA7189D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F81F8-0AEC-4E34-8D92-CCA9440E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0A1EB-0221-4B5E-B192-DB3C9531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16E58-2C82-4ED0-9623-A37C189C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6AAAF-390A-41E8-81C7-AFDFD973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68315-B1F4-45E8-A878-4D46C5A4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1CE10-8E4E-4657-9B33-AE201E21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AD9F5-1EC2-4088-9784-A32EBF97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448ED-48A9-449F-8096-1778C263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0ADFC-537E-42CC-BF85-B68CAC5F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4A072-599E-4901-9E96-38CD54CE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114E-44E7-46BC-A2A6-EFA36ED6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12DA0-3CC2-4AC7-B42F-413216AB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C1EC9-8D0D-4B2F-9528-AC32B314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D3FC6-D7D7-4091-85AE-83E930A2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11392-1478-4D9A-9A1F-72DC7C9B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C2B0B-E49E-47A3-BA0E-BB626BE1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D858F-A2C6-48BB-960B-63603419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8A43C-E9D7-4364-AF51-28A10957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FD645-730F-41EE-8DB6-8B463E54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C53A3-57F7-4805-9C9C-F2D91739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97FF9-2336-4660-8EFB-6D7A056C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7EAC-A3EE-4B09-98EB-AA692324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6E21C-641D-41F2-8E25-1339CEA0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23819-CE6C-4598-8404-167527B8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12198-D898-437A-BA4B-2190A120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FD227-A158-409F-9D9A-BEAB3208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1FA27-D532-42FF-BDB7-D015D7AA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99EA3-D71F-4D57-B664-4F36909B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82A32-DC00-4386-BD38-F53D3DBE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8DA08-5175-47E5-A8D9-903D40CB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EF9D7-8D6D-4BC7-84F5-49EA179F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ADED4-2198-43DB-95F7-05B6B3A1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B9FA-5670-4547-82D0-330571C0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2DCB0-E11D-4BFD-907B-19424111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E9EBA-C103-4F80-8E49-709D60DA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6A5C8-79C9-42C7-8BB1-731289FF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8D6AF-89F7-436E-9FF6-D622CC26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9082A-3130-432D-92B2-989A66D7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1B06F-9680-471B-A925-0A4CC09F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B1CA1-293B-488D-9635-99A94F1E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5FA11-9396-499F-B8E3-6FD4CDFE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EB355-A6DB-4BC7-8D30-A6BBE189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67496-AB2F-4352-B13C-29B39736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A6B3-03EC-46F7-B208-331452BB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3E41C-DBF9-4008-AF45-BFB58935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305AD-A10D-44EE-9B30-F201FD29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829E2-8F27-4A8D-B3B7-3B8A66B4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15504-D582-4635-ACE9-54A777D3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38161-7C03-4B36-9F2A-6BF9DDF2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A66C1-8E8D-413F-8368-2CA00B65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CE67B-5DA4-4E89-ABB6-7FFC124B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6B7B8-1E5F-4240-81B0-A2B11CE4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4BCEA-2B5E-440D-82E3-8171EFA3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8F610-B301-43E2-990B-1D16CADF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81F0-D0FC-4B06-8B6D-F55B9DA6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B34AA-BC97-4AE8-8ABB-13EA1CCB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9119D-4BE3-42E3-819B-BC906F05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B1F46-A2D1-4C73-83DA-7EF09C13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0BD2D-F961-450F-BC51-138BDCE1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277E5-EBEF-4EF8-8DED-B7EBA731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23714-F430-489F-BDF3-40998AB5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E99D0-BF29-48A0-9689-3A9196F3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84AD6-561E-4658-A02A-3F5593A6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5F99B-2582-4DBD-B112-BE960B31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02921-08BC-4D67-A638-C31651D2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7F32-CD11-4FEF-9A57-A47EDFC8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0DD0E-8B48-44E7-9C73-B86BA29B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2D765-78EA-4004-8E2B-7037F8A3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E7DAF-BF34-4455-B332-DDAB633C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CFE83-A0AE-4545-BC06-AFA802A8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6A33C-DF0A-4CBC-88E0-34AC3BF9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35757-6D88-40B9-AD47-50A2B431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194D6-2513-4F58-887E-4A2EB5C5A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6F626-6DA8-4DD4-B2F4-A5739C3A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E474B-291E-4364-8706-A8073605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ED769-7A42-41BE-8992-D56DBCE3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F212-976A-4991-90AE-F2630806D67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307A-5EEF-4190-AE3E-EE405A90359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9738-C3B4-4F4E-96E0-1F5AB847076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1298-AE66-40C9-AE6E-91245EE7DD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78A0-2169-4995-A4EB-8F4B6B08A45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180D-FF84-40DB-BF45-1CAD51AB42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426B-EF36-4AF3-A476-64322C15461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BB29-935F-4C8A-9D28-0C990ED571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09AB-437D-4CE6-9A34-D031522B999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8032-D27A-4C0A-9C9D-16F2F4B6A8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E116-CFAD-410F-B4EA-7770CC7D8B4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CE28-8627-477A-AE09-07D716D913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CFDC-3634-4E2C-906C-ECD6597CE51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7F4A-2237-4080-BBB0-73E952A41D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4D92-1111-4FC3-A65E-D764C0208B6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79E2-7BB9-44C7-BEB3-2FEF156765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FC97-28B9-4C8B-8766-02A386C276A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24D8-B5B3-40C4-B98F-7EF0303B06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D4BD-58AE-4153-BD60-5FC0D3A9291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1527-7538-436F-920A-FA79378426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A692-C766-4988-AF3E-C5804A5A113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E6A4-091C-4ACD-9045-720E1A5E9C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E0AE-1F78-425A-8639-80CFAE488F6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1D68-C732-4A60-8312-BBE2E04EB3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72DC-B66F-4E4C-89B4-465B1893729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71C1-B427-440A-87A5-19144D42EA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圆角矩形 9"/>
          <p:cNvSpPr/>
          <p:nvPr/>
        </p:nvSpPr>
        <p:spPr>
          <a:xfrm>
            <a:off x="5191200" y="133524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94d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在此录入文字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圆角矩形 11"/>
          <p:cNvSpPr/>
          <p:nvPr/>
        </p:nvSpPr>
        <p:spPr>
          <a:xfrm>
            <a:off x="9901080" y="1471680"/>
            <a:ext cx="2590920" cy="11523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750960" y="2462040"/>
            <a:ext cx="3333600" cy="31528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" descr=""/>
          <p:cNvPicPr/>
          <p:nvPr/>
        </p:nvPicPr>
        <p:blipFill>
          <a:blip r:embed="rId2"/>
          <a:stretch/>
        </p:blipFill>
        <p:spPr>
          <a:xfrm>
            <a:off x="390600" y="5783400"/>
            <a:ext cx="722160" cy="682560"/>
          </a:xfrm>
          <a:prstGeom prst="rect">
            <a:avLst/>
          </a:prstGeom>
          <a:ln w="0">
            <a:noFill/>
          </a:ln>
        </p:spPr>
      </p:pic>
      <p:sp>
        <p:nvSpPr>
          <p:cNvPr id="537" name="TextBox 16"/>
          <p:cNvSpPr/>
          <p:nvPr/>
        </p:nvSpPr>
        <p:spPr>
          <a:xfrm>
            <a:off x="702360" y="493560"/>
            <a:ext cx="22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4dd43"/>
                </a:solidFill>
                <a:latin typeface="Berlin Sans FB Demi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9"/>
          <p:cNvSpPr/>
          <p:nvPr/>
        </p:nvSpPr>
        <p:spPr>
          <a:xfrm>
            <a:off x="2933280" y="109368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e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圆角矩形 23"/>
          <p:cNvSpPr/>
          <p:nvPr/>
        </p:nvSpPr>
        <p:spPr>
          <a:xfrm>
            <a:off x="5191200" y="299088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94d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在此录入文字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27"/>
          <p:cNvSpPr/>
          <p:nvPr/>
        </p:nvSpPr>
        <p:spPr>
          <a:xfrm>
            <a:off x="1013040" y="61880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duct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圆角矩形 9"/>
          <p:cNvSpPr/>
          <p:nvPr/>
        </p:nvSpPr>
        <p:spPr>
          <a:xfrm>
            <a:off x="5191200" y="133524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在此录入文字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圆角矩形 11"/>
          <p:cNvSpPr/>
          <p:nvPr/>
        </p:nvSpPr>
        <p:spPr>
          <a:xfrm>
            <a:off x="9901080" y="1471680"/>
            <a:ext cx="2590920" cy="11523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750960" y="2462040"/>
            <a:ext cx="3333600" cy="31528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"/>
          <p:cNvPicPr/>
          <p:nvPr/>
        </p:nvPicPr>
        <p:blipFill>
          <a:blip r:embed="rId2"/>
          <a:stretch/>
        </p:blipFill>
        <p:spPr>
          <a:xfrm>
            <a:off x="395280" y="5877000"/>
            <a:ext cx="720720" cy="682560"/>
          </a:xfrm>
          <a:prstGeom prst="rect">
            <a:avLst/>
          </a:prstGeom>
          <a:ln w="0">
            <a:noFill/>
          </a:ln>
        </p:spPr>
      </p:pic>
      <p:sp>
        <p:nvSpPr>
          <p:cNvPr id="545" name="TextBox 16"/>
          <p:cNvSpPr/>
          <p:nvPr/>
        </p:nvSpPr>
        <p:spPr>
          <a:xfrm>
            <a:off x="702360" y="493560"/>
            <a:ext cx="22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000"/>
                </a:solidFill>
                <a:latin typeface="Berlin Sans FB Demi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9"/>
          <p:cNvSpPr/>
          <p:nvPr/>
        </p:nvSpPr>
        <p:spPr>
          <a:xfrm>
            <a:off x="2199960" y="169380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e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圆角矩形 23"/>
          <p:cNvSpPr/>
          <p:nvPr/>
        </p:nvSpPr>
        <p:spPr>
          <a:xfrm>
            <a:off x="5191200" y="299088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在此录入文字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1"/>
          <p:cNvSpPr/>
          <p:nvPr/>
        </p:nvSpPr>
        <p:spPr>
          <a:xfrm>
            <a:off x="1013040" y="61880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duct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圆角矩形 9"/>
          <p:cNvSpPr/>
          <p:nvPr/>
        </p:nvSpPr>
        <p:spPr>
          <a:xfrm>
            <a:off x="5191200" y="133524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92c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在此录入文字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圆角矩形 11"/>
          <p:cNvSpPr/>
          <p:nvPr/>
        </p:nvSpPr>
        <p:spPr>
          <a:xfrm>
            <a:off x="9901080" y="1471680"/>
            <a:ext cx="2590920" cy="11523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750960" y="2462040"/>
            <a:ext cx="3333600" cy="31528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" descr=""/>
          <p:cNvPicPr/>
          <p:nvPr/>
        </p:nvPicPr>
        <p:blipFill>
          <a:blip r:embed="rId2"/>
          <a:stretch/>
        </p:blipFill>
        <p:spPr>
          <a:xfrm>
            <a:off x="390600" y="5783400"/>
            <a:ext cx="722160" cy="682560"/>
          </a:xfrm>
          <a:prstGeom prst="rect">
            <a:avLst/>
          </a:prstGeom>
          <a:ln w="0">
            <a:noFill/>
          </a:ln>
        </p:spPr>
      </p:pic>
      <p:sp>
        <p:nvSpPr>
          <p:cNvPr id="553" name="TextBox 16"/>
          <p:cNvSpPr/>
          <p:nvPr/>
        </p:nvSpPr>
        <p:spPr>
          <a:xfrm>
            <a:off x="702360" y="493560"/>
            <a:ext cx="22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2ccdc"/>
                </a:solidFill>
                <a:latin typeface="Berlin Sans FB Demi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9"/>
          <p:cNvSpPr/>
          <p:nvPr/>
        </p:nvSpPr>
        <p:spPr>
          <a:xfrm>
            <a:off x="2901600" y="115092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e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圆角矩形 23"/>
          <p:cNvSpPr/>
          <p:nvPr/>
        </p:nvSpPr>
        <p:spPr>
          <a:xfrm>
            <a:off x="5191200" y="299088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92c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在此录入文字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13"/>
          <p:cNvSpPr/>
          <p:nvPr/>
        </p:nvSpPr>
        <p:spPr>
          <a:xfrm>
            <a:off x="1013040" y="61880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duct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5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4:45:00Z</dcterms:created>
  <dc:creator>Sophie</dc:creator>
  <dc:description/>
  <cp:keywords/>
  <dc:language>en-US</dc:language>
  <cp:lastModifiedBy>a</cp:lastModifiedBy>
  <dcterms:modified xsi:type="dcterms:W3CDTF">2014-05-24T09:23:36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