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EFB-FC70-4BC7-812C-13D81AC1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D7A-3D50-4E61-A135-8F0BE697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640-B9D6-4192-B12B-2788BF29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1A6-7437-4727-B7A9-448D50A9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193-AD1C-42D4-9822-4C8574F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ABD-66AB-490A-B4D1-75D5C1FC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AFC-AC2C-4761-80E6-B8C6902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08A-E04E-46E5-87DA-DB461667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91A-4F8F-4E4F-8FBA-76D27C3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690-D21C-4BC4-8B04-64227D2D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B02-1947-4490-AB4B-EB385BF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EC1-1B99-41B6-BB3A-9386B4B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2858-B785-4F84-B71B-248465B546C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丘比特之吻动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3:14:39Z</dcterms:created>
  <dc:creator>Mariajose</dc:creator>
  <dc:description/>
  <dc:language>en-US</dc:language>
  <cp:lastModifiedBy>a</cp:lastModifiedBy>
  <dcterms:modified xsi:type="dcterms:W3CDTF">2014-12-31T04:43:57Z</dcterms:modified>
  <cp:revision>2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