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7C2A-DBBD-482D-BC70-457390FD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4B2B-B641-427C-AFBD-C2A71590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505F-764F-40CF-8473-6960D922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736C-E9F5-4A98-AF59-11BEF501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BC25-0A1E-475E-AB0E-62DE840B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12B6-00DD-4BD3-85DC-2F89E748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6BEC-DD48-43A3-855F-A508787E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347-C1A7-4620-9554-7467145F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833D-0F4C-46E5-A75F-85B2E8D5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49FD-F9A1-4B7F-8E17-2579DDFE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13DF-EC8E-4485-9A4D-EEC92144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B630-C8A9-4DE3-9D95-D05E1495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3F6B-9F9F-4875-9BE5-A7D018A5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EC43-17AE-4E6A-B884-C87F8790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EDCB-6472-4B7C-B1C3-25757232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7263-5758-42FC-B97A-C306036D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A424-9AEE-4EF1-807D-F983179E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CAEC-E15C-4949-BE6E-B9032506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06FB-7A7C-46A6-B3D8-E6F8BE0F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0FC9-7AFF-4098-9BD5-CECC0A23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9785-9E41-462E-8D87-13A1AE6B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C095-917B-4936-8F53-3501941D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0B0C-8804-4551-A0D6-FD32E378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D6C1-8645-4095-B19B-C350D34F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682560" y="1476360"/>
            <a:ext cx="8282160" cy="36601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2239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1792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58920" indent="-1792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7928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7928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7928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4916160"/>
            <a:ext cx="21337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C98A-7CC4-42B8-83EE-A0EC06941A60}" type="datetime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4916160"/>
            <a:ext cx="28958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4916160"/>
            <a:ext cx="21337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7B93-241B-4F62-8180-BF8B90DFD7CC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28D6-BE0A-4EAB-9881-C4A4DD1BC7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青翠湿地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059280"/>
            <a:ext cx="640080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973080" y="0"/>
            <a:ext cx="6664320" cy="5398920"/>
            <a:chOff x="973080" y="0"/>
            <a:chExt cx="6664320" cy="5398920"/>
          </a:xfrm>
        </p:grpSpPr>
        <p:sp>
          <p:nvSpPr>
            <p:cNvPr id="126" name="矩形 4"/>
            <p:cNvSpPr/>
            <p:nvPr/>
          </p:nvSpPr>
          <p:spPr>
            <a:xfrm>
              <a:off x="1504800" y="0"/>
              <a:ext cx="5261040" cy="5662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973080" y="1349640"/>
              <a:ext cx="6664320" cy="40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7"/>
            <p:cNvSpPr/>
            <p:nvPr/>
          </p:nvSpPr>
          <p:spPr>
            <a:xfrm rot="20926800">
              <a:off x="2483280" y="2798280"/>
              <a:ext cx="367380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4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5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5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5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5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5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5:05:39Z</dcterms:created>
  <dc:creator>Administrator</dc:creator>
  <dc:description/>
  <dc:language>en-US</dc:language>
  <cp:lastModifiedBy>a</cp:lastModifiedBy>
  <dcterms:modified xsi:type="dcterms:W3CDTF">2014-12-15T17:54:2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