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86C0DA-5368-4918-A4A7-F9E2A164AE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94ECE9-620C-4405-8354-5913EEA7F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594578-F58F-4DB7-872D-65D8C8C15F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1E3C0-20D8-49EE-90D1-E80EC6FB7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B9492-52B8-4ADB-9E8B-96F35F78D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3DCF2F-65F6-4E76-ACAA-3CDF9DD46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724A21-70A0-4DD7-889E-5E8AABA356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690CAE-4533-4EEA-89BD-8C8B89B252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FCE1F4-8451-48E9-8FB3-24DABE4C86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50A421-F9F9-445C-A209-B3E886A422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30A734-FC8D-40D2-8135-0069199F0F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F4E167-E233-4421-8AC9-BA4E7D8AC7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3D9A1-347C-4F45-BF65-9731108FF2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50B432-8722-4118-82AC-31A66E6083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112AF6-3D8A-4E6F-BB25-90BAEB615C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A0DAB-0523-4F49-9434-4466F8A7E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DF6BE-0C2E-46EB-9930-AD4F8AF076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9E3FF-73B5-411D-A268-589F15C330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37749E-D653-4682-A3D6-9BBAA7214E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778D88-9D97-47D8-93E0-E6A7BB12E3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55D722-8934-4242-B59B-D3B4560FE4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5BFD9E-DC0F-4F9D-A96A-BA1D0E24D5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28EEAE-72AD-4B64-B469-90FF208EA5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785283-645D-4BA8-AA31-71B390D388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6784E6-F1F8-45C9-BADE-3F4D27E3DF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E12EAC-DF3F-481A-935A-CC225A8C9B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423E8D-A9F4-4698-8475-7B209D90BF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566B5-C3EE-425B-BD66-2A4C0287C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86540A-B930-48C6-8514-3233D3C91E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842FC9-0889-44CE-930E-E01C7D0AB1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7E0AE2-D685-4D26-B88A-FC6C2C1F04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DFC793-309F-4F26-AB94-6523AF5928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A90C3F-B5E2-4459-9DB3-F41B6133B9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E6133EE-0D31-4BDB-9008-215178B319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135F69-F325-4A96-98C8-212DA6DDAB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7A0AF6-697E-4974-BF2A-D6E7D4CE25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3ABF5B-D734-4FC4-8FE1-E925AB33D5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E38D14-275A-43F0-A286-83024374B1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F7AA66-645C-4323-AF79-FDEF9C2DB4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592817-31B2-4867-A3F8-3735AF764C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9CD963-DBB0-49CA-8F6D-3F87A7D4E8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B91203-BF83-4839-9CFA-55C5C86D88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4F6EC9-765E-4777-961B-C20B641EC4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A8EBC0-995E-40AA-813F-DFC8DCB6B6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8E1E1F-5185-4631-8639-6FDF7209DA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21A877-2097-4C00-8346-2E41BAAC19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0340D2-311D-420B-9951-A2336DB3CC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BDEC60-8731-46E1-94AC-1700882366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82FE7D-9175-4BE3-8612-255A84A715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C52A95-368C-488A-8842-2D1257DD20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D1B888-59BA-4A59-87F2-9F9C003AFB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14D8EF-85B6-4663-B95C-95245DDBDF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EE651B-508D-4700-B330-970749B641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F8BFA3-C26D-4412-89D2-174509E653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CDF0E7-4B0E-4BF6-8096-E7C8C2EBAC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6B1CB1-F34D-43CD-95E4-4724AFE919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AE3CCA-AB84-4AD4-A976-7513BFF9C95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A3BCE0-81A0-4813-8DC5-CAE68F654B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011DAC-2FD9-48B9-ABD1-9FA9C9B24E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D3A35C-BD61-4D30-9AA4-D75B7D0E28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989C0D-EB87-4361-BD0E-81C8435278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B7EBED-46A6-44B8-8CA6-F87C7836DA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EB9A70-7C9F-49F2-A7C7-4717EBD9A8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2980B9-5100-47B8-8EF1-5697953A81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2AB531-CF64-4524-9710-A73D7051D9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627B31-C705-45AD-B8DD-C1ED26A863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340094-5647-480F-8BBA-D240B61319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B98A856-F322-4287-B4A3-D8D358CB70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6A4F19-0B83-4636-A375-E037A28314D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5729D-D339-4272-B946-DD1753EF7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ECF1D-05E4-4FC3-A869-4AD66B2F7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BF679-59B1-4156-B390-427543241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C47F3-1FD6-43BD-B55D-7DE8013E7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29670-750F-480C-A2D5-F373A03BA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E4EE3-9BC8-4D1A-86B6-651C1F8AA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6934-0FBA-410E-B085-614CE216F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5966-FCDF-4502-AACF-98A78A69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864D2-47D1-405B-9AF2-5295673B6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61A79-6FE3-458F-89FE-D68EED7D2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01F5B-3B81-420D-84AB-019DDC650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56B3B-A371-484F-885F-5F3315C76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A0F3E-218A-40F1-BF90-458351C2A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A259C-4151-4DD1-8210-DCB376002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EDD43-7601-49E0-B992-36F05F138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A8344-0410-4298-A0FC-AA141186F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B4900-B0FF-438F-B333-8E3AB2618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72922-6418-4C0F-8C09-76248C9BF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70C3C-6856-4BDD-9DBC-1470263C2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7C782-6141-4D02-9AA7-01F1796AE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5CA4A-D2A2-49CC-BA67-2FA0A268D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B4292-7116-40E5-B81D-76A5046FF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4E437-18C1-4B65-9006-2B418828C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302BE-B2EA-4C63-89EF-0C409134E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016EEF-1796-4148-87D4-78D2253D43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01825-41E2-4BCB-93FD-BB8E602739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02491C-314F-45A9-92FF-435C47F5F8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143CC-B517-4E7B-AFBE-781F4805FD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DC39E3-7E7D-43E0-9C15-88FB22F6B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7B72B-C878-485F-B122-2F7A2F241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40F10-EA30-45F0-8C37-FD8E2C329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606E7-1197-4A2C-A4B0-627ACF164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4EDFF-8AE7-42DC-A3E2-95C2D23E2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C7B16-F7EA-4624-BF8C-408800AA09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1FD8A5-0863-45F9-8A56-908649C02F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45AB63-A342-45C6-A6C6-D266CFAE4D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74AE89-8F17-4F07-84B0-84D51BBE46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AA90F7-20BC-41D6-9863-B542F1A75D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669A4-78AA-476E-A2CD-853BEB0575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325627-504B-4328-A414-FA063FE86C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2275D5-FA3A-44E7-826F-0EA1D42FBE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45358-4A2E-451D-A716-2C11CAF4F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701F1-81A7-40AB-BA94-80F9C99D7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5AA11-9EDA-41DA-A86E-F280B4083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D5010-D538-4AAB-967D-F278E5BC3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380C5-21D1-4B83-BE3C-430878FB6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E63497-BCC4-4D79-B067-27414B7916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453609-1347-4489-A304-1DF0F0E541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80B819-DFE6-4AF1-A38C-B2FE0275E8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EE406-4146-4AC6-95D5-DB63B9934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75880E-9EA3-4B1D-8C19-0771FC1C5F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45B548-8AB9-49E1-9AFE-CBA03A84A2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278CDC-8604-446F-8D25-DBD931E5B9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9E9C5C-98B5-4E0B-8554-1C504EB5F7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A5392-E7C1-46CD-A37F-0C35AAE53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7A3B0-C335-4063-9709-F81BE6237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D3F82-B927-4893-8FAC-62451A10E3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5FD7A1-B4BF-422D-8430-89BECB3BC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AF2551-6B60-4215-B85C-1A3CCB27CB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543713-0666-4465-8ACD-4A8BFA9560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C07873-6E06-4133-9347-FC143FE2A5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9F21AF-A1E4-4BDA-A4D4-47A3A8B324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638362-27C4-42EB-8207-77BCF5BDC3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0C978D-FF7E-4B8F-9A61-3B948FCF29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3735B3-99F7-4446-B5AA-E680C719F3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1A9818-4D2C-49EB-B665-2E2AA7DD84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F7417-0ABB-47C7-8C9E-0676BEDFAE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E9F6B-3221-480C-911C-1F0D481FDA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69D43-FFA1-4680-9645-496483788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EEAF52-7BA5-4BB8-85C6-A22EBCE582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4A82D7-7618-4B10-A5D3-57B06A267B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051258-53B2-48F9-9E81-98FB6F67CF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81C92C-378E-4051-99C4-24B8048E10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CB8EF6-7A86-486E-9421-F4E36E7DD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1B0951-2359-421F-B1DD-13751C75E9D5}"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E59B-B11C-417B-9822-4386C33FEA14}"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36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73D7-A220-493A-907B-EE11032D11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E5DE-B56C-4E03-9F04-67A260DB476E}"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40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DF2A-7DDA-4C58-AF95-501E7BA2D3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00D0-75BA-40A8-BC24-BD74073D652E}"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44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5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CA4D-6258-47FF-8F49-4E99788EAC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A0E7-DED3-409E-8FA8-CC79824130AD}"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49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9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3591-76DC-43BC-8530-5AF3DD91AB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32AF-35B4-4A13-A946-650DBD462BCE}"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53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A356-B246-4A22-924E-A262A179CE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7"/>
          <p:cNvSpPr/>
          <p:nvPr/>
        </p:nvSpPr>
        <p:spPr>
          <a:xfrm>
            <a:off x="0" y="609480"/>
            <a:ext cx="4952880" cy="1371600"/>
          </a:xfrm>
          <a:prstGeom prst="rect">
            <a:avLst/>
          </a:prstGeom>
          <a:solidFill>
            <a:srgbClr val="b92d1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9"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40"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B9BC-F1DC-4F1E-B679-AF09654F4D36}"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8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8ECA-E7A0-4FA8-A903-78B06EED95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4404-745E-4F83-9612-F227F5E0F20F}"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12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3AD3-F088-46E3-BE2D-A826176AA3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A34E-5E07-46D7-8F28-BFF3C8707C2A}"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16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6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5FDD-0A80-470F-BFFE-668EE7FB0C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0F88-740C-4D62-A8F3-6AEAECDE0D56}"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20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0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8A6B-4A86-48CA-BF04-4CBA00FFAA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6877-A5BA-41BA-9CAD-8E086C887B3C}"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24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B2D8-5865-4187-B3F6-98160246E6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2580-0570-4004-8413-2C3CE7D652A6}"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28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9D74-4FEC-4C82-ADF5-221AB255B7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B3F6-8CE4-4BF6-88FB-EF58E46769CA}"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2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BBDF-B176-4CD6-AA1B-4F91B60A8D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52440" y="769680"/>
            <a:ext cx="4648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Microsoft Sans Serif"/>
                <a:ea typeface="宋体"/>
              </a:rPr>
              <a:t>起跑线</a:t>
            </a:r>
            <a:r>
              <a:rPr b="0" lang="en-US" sz="3200" spc="-1" strike="noStrike">
                <a:solidFill>
                  <a:srgbClr val="ffffff"/>
                </a:solidFill>
                <a:latin typeface="Microsoft Sans Serif"/>
                <a:ea typeface="宋体"/>
              </a:rPr>
              <a:t>ppt</a:t>
            </a:r>
            <a:r>
              <a:rPr b="0" lang="zh-CN" sz="3200" spc="-1" strike="noStrike">
                <a:solidFill>
                  <a:srgbClr val="ffffff"/>
                </a:solidFill>
                <a:latin typeface="Microsoft Sans Serif"/>
                <a:ea typeface="宋体"/>
              </a:rPr>
              <a:t>模板</a:t>
            </a: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218960" y="182196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2d14"/>
                </a:solidFill>
                <a:latin typeface="Microsoft Sans Serif"/>
                <a:ea typeface="宋体"/>
              </a:rPr>
              <a:t>Slide master</a:t>
            </a:r>
            <a:endParaRPr b="0" lang="en-US" sz="4400" spc="-1" strike="noStrike">
              <a:solidFill>
                <a:srgbClr val="4d4d4d"/>
              </a:solidFill>
              <a:latin typeface="Microsoft Sans Serif"/>
            </a:endParaRPr>
          </a:p>
        </p:txBody>
      </p:sp>
      <p:sp>
        <p:nvSpPr>
          <p:cNvPr id="571" name="PlaceHolder 2"/>
          <p:cNvSpPr>
            <a:spLocks noGrp="1"/>
          </p:cNvSpPr>
          <p:nvPr>
            <p:ph/>
          </p:nvPr>
        </p:nvSpPr>
        <p:spPr>
          <a:xfrm>
            <a:off x="1142640" y="3041280"/>
            <a:ext cx="6705720" cy="3282840"/>
          </a:xfrm>
          <a:prstGeom prst="rect">
            <a:avLst/>
          </a:prstGeom>
          <a:noFill/>
          <a:ln w="0">
            <a:noFill/>
          </a:ln>
        </p:spPr>
        <p:txBody>
          <a:bodyPr lIns="90000" rIns="90000" tIns="46800" bIns="46800" anchor="t">
            <a:normAutofit/>
          </a:bodyPr>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Your Text here</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2d14"/>
                </a:solidFill>
                <a:latin typeface="Microsoft Sans Serif"/>
                <a:ea typeface="宋体"/>
              </a:rPr>
              <a:t>Print master</a:t>
            </a:r>
            <a:endParaRPr b="0" lang="en-US" sz="4000" spc="-1" strike="noStrike">
              <a:solidFill>
                <a:srgbClr val="4d4d4d"/>
              </a:solidFill>
              <a:latin typeface="Microsoft Sans Serif"/>
            </a:endParaRPr>
          </a:p>
        </p:txBody>
      </p:sp>
      <p:sp>
        <p:nvSpPr>
          <p:cNvPr id="573"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74" name="Group 2"/>
          <p:cNvGrpSpPr/>
          <p:nvPr/>
        </p:nvGrpSpPr>
        <p:grpSpPr>
          <a:xfrm>
            <a:off x="0" y="0"/>
            <a:ext cx="8466120" cy="6858000"/>
            <a:chOff x="0" y="0"/>
            <a:chExt cx="8466120" cy="6858000"/>
          </a:xfrm>
        </p:grpSpPr>
        <p:sp>
          <p:nvSpPr>
            <p:cNvPr id="57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欢迎访问</a:t>
              </a:r>
              <a:r>
                <a:rPr b="1" lang="en-US" sz="4000" spc="-1" strike="noStrike">
                  <a:solidFill>
                    <a:srgbClr val="000000"/>
                  </a:solidFill>
                  <a:latin typeface="微软雅黑"/>
                  <a:ea typeface="微软雅黑"/>
                </a:rPr>
                <a:t>PPT</a:t>
              </a:r>
              <a:r>
                <a:rPr b="1" lang="en-US" sz="4000" spc="-1" strike="noStrike">
                  <a:solidFill>
                    <a:srgbClr val="000000"/>
                  </a:solidFill>
                  <a:latin typeface="微软雅黑"/>
                  <a:ea typeface="微软雅黑"/>
                </a:rPr>
                <a:t>之家</a:t>
              </a:r>
              <a:r>
                <a:rPr b="1" lang="en-US" sz="4000" spc="-1" strike="noStrike">
                  <a:solidFill>
                    <a:srgbClr val="000000"/>
                  </a:solidFill>
                  <a:latin typeface="微软雅黑"/>
                  <a:ea typeface="微软雅黑"/>
                </a:rPr>
                <a:t>--- eeppt.com </a:t>
              </a:r>
              <a:endParaRPr b="0" lang="en-US" sz="4000" spc="-1" strike="noStrike">
                <a:solidFill>
                  <a:srgbClr val="4d4d4d"/>
                </a:solidFill>
                <a:latin typeface="Arial"/>
              </a:endParaRPr>
            </a:p>
          </p:txBody>
        </p:sp>
        <p:pic>
          <p:nvPicPr>
            <p:cNvPr id="57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7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免费</a:t>
              </a:r>
              <a:r>
                <a:rPr b="1" lang="en-US" sz="3200" spc="-1" strike="noStrike">
                  <a:solidFill>
                    <a:srgbClr val="0070c0"/>
                  </a:solidFill>
                  <a:latin typeface="微软雅黑"/>
                  <a:ea typeface="微软雅黑"/>
                </a:rPr>
                <a:t>ppt</a:t>
              </a:r>
              <a:r>
                <a:rPr b="1" lang="en-US"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en-US"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a</cp:lastModifiedBy>
  <dcterms:modified xsi:type="dcterms:W3CDTF">2014-12-15T17:41:36Z</dcterms:modified>
  <cp:revision>26</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