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2AEF-137F-43DB-9454-263D5902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42E8-72B4-401A-A575-B8194677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C97B-EE3E-44C0-AD91-D3B5243C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7BF3-9B10-49C2-A071-FA7D304F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2D46-2DD7-4C38-A10B-5DFC4089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492-84B3-4225-9B58-0768068E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56F4-7E21-4A58-ACF1-CD1AE3DE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B663-186F-4C37-9DE9-D40D0010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92DE-ACFD-4858-8D6A-730990D0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824-3383-4563-A9A8-FA92C846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6BDE-EB14-4B34-81AE-AE76E36D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618-6AC6-43DF-8ECC-544000DB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AF16-0EAE-40D7-B49E-414C725A116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fefe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0588-8A76-4142-8F76-F7314A7D7F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82160" cy="19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efefe9"/>
              </a:solidFill>
              <a:latin typeface="隶书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14040" y="4724280"/>
            <a:ext cx="6465960" cy="94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efefe9"/>
                </a:solidFill>
                <a:latin typeface="Arial"/>
              </a:rPr>
              <a:t>                   </a:t>
            </a:r>
            <a:endParaRPr b="1" lang="en-US" sz="2800" spc="-1" strike="noStrike">
              <a:solidFill>
                <a:srgbClr val="efefe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fefe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1774440"/>
            <a:ext cx="8209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fefe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efefe9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fefe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4T10:07:59Z</dcterms:created>
  <dc:creator>deng haifeng</dc:creator>
  <dc:description/>
  <dc:language>en-US</dc:language>
  <cp:lastModifiedBy>a</cp:lastModifiedBy>
  <cp:lastPrinted>2000-08-30T13:14:01Z</cp:lastPrinted>
  <dcterms:modified xsi:type="dcterms:W3CDTF">2014-12-21T05:45:04Z</dcterms:modified>
  <cp:revision>314</cp:revision>
  <dc:subject/>
  <dc:title>现代财务管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