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0A0-965C-46F2-BC59-885CEB6C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1F4-7005-4900-ACB0-3C781C60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646-0741-4068-819D-12A8DB4D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300-2458-4C83-9641-5BDDC2F9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BCBF-4AE5-4EF8-9E81-5625AFAB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F513-4C2F-4360-B748-BE1C2431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78E6-08EF-431B-9D1C-923F3BE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A3A-5129-4D78-8A61-93374407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521F-1E07-4442-A772-EE63A8C2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0E38-6B8E-47B9-85ED-4839A40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5A7C-E7FF-4369-B125-2EF728E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64F-B60C-49FC-89F7-10788E1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A565-8DE7-4AD7-8B21-A57E3DB7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4510-4A21-4557-82B9-7526C8C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DA7-E4DD-455E-99EA-4A30EDB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FECB-ED8E-44AD-BB72-33DFF82D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F47E-99D0-45A2-8341-C91257FC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F2C-E6C4-4371-A9E9-78BC904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C6D-9DD6-4117-8487-A3CBA78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533-F9AC-4C8F-A115-E36B18F6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383-C399-4719-98D6-240777A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6A0-9603-4733-BA83-828AC27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4AB-54E1-4E80-BF52-59EA405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2F3-5C1B-41FB-A422-F56129B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F04-D916-4B15-BB40-3BA47833942A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95B-FA82-4BBA-B354-209F8AD95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C31-FD60-4E87-95CD-9C1A0702C07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56B-C94C-4BE8-B4EB-D2BF2BE58E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七色几何图形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A524-C9FE-44DF-A7EF-27D676CB04E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E866-9EF0-43B9-BDDF-F27A481D7D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00:53Z</dcterms:created>
  <dc:creator>Nan Shastry</dc:creator>
  <dc:description/>
  <dc:language>en-US</dc:language>
  <cp:lastModifiedBy>a</cp:lastModifiedBy>
  <dcterms:modified xsi:type="dcterms:W3CDTF">2014-12-15T17:55:34Z</dcterms:modified>
  <cp:revision>7</cp:revision>
  <dc:subject/>
  <dc:title>Artist: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