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3F5-6279-4E55-AF14-ED9C86DB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276-B7B1-4C0E-8881-AC42A91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1CD10-C497-4BA1-AB07-AA88C4B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13E8-5C6D-4179-8ADE-DC7CBF3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D2AB5-2561-4A8D-B1A0-27567D3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5E968-947A-4E93-8F2B-BDD2BC6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094F5-8435-4CA6-8277-802ADEC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C1277-0416-4A04-8353-AC3F27C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F2DC-6F9C-4314-A34B-10CE3528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AEB8D-8BC0-4C7B-8DA2-9312B33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B221D-FC47-4CE5-96B6-49385125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36D88-865A-4E8B-903F-0A895B5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A38-0C06-42B4-8D25-FEEFE801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E2EC0-8406-47D3-874C-33EBE748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CE4A-EFE0-4F20-A252-54524BF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C2DA6-A3EE-463F-9865-8FB8CA5E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2E0C0-7756-430E-B9DF-762056B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6B451-DF94-4F52-BA0B-9201DEBB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3A8E5-F8ED-4D55-B337-1B2CA3F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C443A-D711-478B-9293-B54DD03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FAE54-2022-4A1A-95DC-495776F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6A14C-586B-4020-83B5-75E7518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DF910-97DA-49A8-97BF-9BA51B16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2E9-9014-4B63-80CE-C6117667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3EF47-B88C-4548-828F-739A159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A1A4-D07A-4475-9C3C-16589381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3FEBD-D213-417D-A714-55451021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5084-FECD-48BC-AE78-2D04DA6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FFBC2-D0C9-476C-886B-7D87B94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1051A-C7CB-4628-915A-5F8B9D0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0A2F1-4436-46DB-960F-7077F85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F0E1D-56CB-4A90-BD4D-EEA1157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B46F6-01C9-430F-B9C5-6659DBB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7F4D7-C99D-49AB-9B32-4546BCB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578-2A9A-447A-8E62-71597E5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89B95-3618-4DDB-BBCC-A0918DD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E321-22D7-4CA6-B7D0-12B8A73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A9521-6019-4444-858C-2E1EA15B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4FBC3-19C9-4160-8623-8C178178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D9963-FA3A-4129-B817-0AE2CC9C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B5118-D63A-4FCD-AC48-3B16AD95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8A141-8CF0-4C8B-922A-146A622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9C4B6-B345-43C0-939A-53E94A4D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8559A-5AAB-42BB-AF0B-67EC846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C0108-E3B9-47A7-8F43-88BA9FA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23D-DEC6-43A0-9DD3-951F2E05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61940-809B-4010-B48E-D5BC238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4DA46-3099-4451-866F-DA5755F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47A2D-B94A-4723-B3E3-308897AE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A878F-4400-41BD-85E0-337139F3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8FE31-74F1-44F4-8C56-69AD0AAC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390CA-2449-47BE-97EA-5F7E1022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EA9E5-A9B1-4503-B8AA-85AEEE9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DFAC6-62EA-4662-8923-C7D9A15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DC442-F9FF-48A7-98D4-EFAE374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7D4D2-09C8-4BD2-BAEA-702ADA3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9BE-3256-4FEF-AAC0-B3BCB15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84A44-B182-4EB9-BE4A-A1CAEB85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675AA-DA6E-403D-877B-1E1ADC7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2558E-A760-464D-A500-44EA442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41C13-2ECF-46E0-80D0-2E3CB49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D3224-998C-4911-91EF-78820AF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DDEDC-C8FD-4E12-A6C8-10F2D4EB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8A3DE-5A7E-4AF5-8704-46C0A195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DB39B-9631-4DC5-9BAF-3356CC23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E858F-23DB-4F61-A6C6-78247F9D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57E00-E49E-46C5-BC32-E5B6E42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F5AD-38F1-479E-8F3E-2BFF82FD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35B0E-71E1-44B2-8964-AB1B887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8F55B-41BE-4B1C-ACCB-FCC57F0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FEC4E-DA68-4211-AE34-97190D76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D3CF6-3902-4CA4-8D81-4CEC873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D12AE-5249-4715-A716-4780DED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70031-9952-4E78-919A-1226A9C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31FD5-98AB-4D6A-9FD8-A9A6D787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7CA6C-F83F-47C9-8F50-76697A01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34279-1C3A-4201-826E-D25A666E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B49B2-6269-4357-B0BB-3B4C9560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F89-D4FB-403A-A229-CBF7D19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C0F13-5DC6-407F-B756-6BEA647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87FFC-C38A-4FC6-AF22-A9315C4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366CF-71BC-4A2C-8F65-00705C90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90AF0-DECE-44C2-976C-9AB3D0A1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A5FCA-ACB2-4BB9-8F60-E89972BA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64430-943E-4EBD-8F1C-820B5A6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D0B70-F885-428A-9714-FD5CD81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9BC8A-86E9-4F5A-A27C-F233D4A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9C823-7E63-4246-ADE9-67E43E44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36EF8-0061-4AF4-929B-39E6941B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A80-F96C-42CA-B1AB-7ED0168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7FF48-FD6E-43C3-89D5-AD2D0F03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DDE-AB93-4ABE-96A9-2D76324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8BD-831A-47CC-BCE1-0892C6D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23F-BBC2-4116-A78B-1F7CB4C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CF06-3FA8-40B0-827D-F4FF838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B5C-324D-4F93-8FCA-81BB7C0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360-4ADE-4878-9048-1048E4E2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0EFE-661F-4279-83DF-E19A94B1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DCC7-5946-4D35-8E7B-F8F04D2D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F497-3A19-4F09-B22E-6EC65DD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949D-8541-4138-AF58-D6C35519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DB7D-AAE0-4EC2-A724-6523D0D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E467-66D4-4193-B3EB-A0251790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04F-4544-45BC-AC90-B5B20A0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2D02-17B3-445E-912E-BD13A4A7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5ABD-77F0-4666-A077-B773A73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5391-9443-4FA7-888F-6AF05FF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EBF1-3B7F-4459-ADC7-5B0812B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F0ED-BC3D-4B6C-BC07-4909F08D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0C86-1EB2-43B3-8CDA-1D185238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EB11-F2B6-4E8A-9E09-5A14D365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325B-6DBB-41B2-BD24-37EBAECE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4D7E-1E38-4D8A-9E70-11F4357B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A37A-FE41-420B-ADFE-61937E18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A0B-F5CA-45AA-91D1-C1AF7C3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30AC-4E42-4309-B127-697AE7C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6A83-5083-49AE-9F69-EF36B658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7319-5525-4BAA-BEB8-8B30710C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DD0D-9325-44B2-B96A-6250F4D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4ED3-CC5B-4020-AE7D-1190CF6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8E84-D1ED-4388-9F97-DF39FA6E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651E-5C4D-43B8-A17F-F2746A9C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5557-75AF-4D5A-A845-55B0002A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E4FE-A663-46CE-BC8C-A976DCDD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C46A-DC15-42E4-B6FA-33B9C91A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A70-D66D-4789-A818-20C37481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EF5F-C006-48B7-B92C-61DDD0CE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FA1A9-73E7-4874-B21D-B852304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6C86-1577-4953-85B4-0332B8B7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9F9D-DF0D-4BB1-B85D-22A2CE1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E241-BA52-45CB-95AF-D5B38301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3FA8-0DDD-44BC-A86D-AF292F2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C979-FB76-423D-A233-CD5DD39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8FCF2-FDC1-4C41-B3DE-5E7B1AA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A2A9-0B6F-44CD-84D0-E9A130E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837A-620F-427A-9B94-29FE7EB7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B6B-7197-4484-95BD-B96CADC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AE99-4E83-4CBF-96AD-B7A4350E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F59E-7E10-4D64-B12C-09D45782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315E-A132-4260-AEE4-BB02DDC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F045-706B-42FD-829A-FB6E9CD4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B0C0E-7367-42CC-B3B0-8EADF8D6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FA53-D7F9-41F1-B510-46EDDDD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9DD7-4E8A-4116-8518-DA9621A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3209-48D5-403A-8E1C-745E236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38E8-311E-4033-B184-6AD9EEE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A157-B4A8-4DA9-9DED-56EFF0F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215-9C1C-4336-9FD1-455DCB1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BA9D-6CB1-48C6-8CBE-CF4246E8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6E8C-703F-41AE-9E06-F6BEB223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9B07-A373-4D24-A0E2-249178DB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B085-C29A-409E-B23C-F257708B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A425-6189-407D-A048-4E19183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D31B9-9860-4A5B-AF31-EA63D81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884B-9800-4B50-AF0D-FDDBF37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3957-7C11-4A3A-8760-917A625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8A9B-6D9F-4B78-8CD3-8A8B3EA7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2A8E-FBB6-449E-A0BC-267AE74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6DF-5DBA-4BA9-8B8F-B978C9F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959F-888C-40D8-8F68-52F76CAE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6434-E8D3-4B33-ACD8-4546E2C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3114-5617-49F2-86F1-724BB9B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74F4A-E2B8-413E-A084-947B0700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FC93-9A11-4480-B98F-D099D073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FF6B-7E2C-44E4-BB32-9A44B8D9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9A87A-AA55-4870-B76C-0DAECB0F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2947-FEBF-4504-B5F6-E64BAAF2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5F0E-FDDE-4A7A-ADB2-D829D20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F1B1-B7F9-47A2-A073-B94D01D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FD6-CD75-441A-AA3D-0AEFC89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4D99-2C7D-4699-A7DD-B2730E7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E7A3-D0E9-42A7-8B99-233D614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5E0D2-C856-42B9-A829-F2C0EBD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79047-212E-4224-90F9-25F7DE8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1E89-FB8D-41F0-AE12-988E8B0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413D-04B6-4A87-9FA5-1EA19A91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9B4C-B4CC-403E-8C9E-5CF2F88A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4F09B-57C1-44D1-AF07-3BD358D5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C9B82-1B14-4734-8ECA-FC5E4BC6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1B70C-FF18-42D1-BFED-E92339F9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A7C-F443-44BB-A591-7F7AEB460F2E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8021-24EC-4D39-B458-7BB93CC1B3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D642-249B-4567-9669-68068AD22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E9DE-0A5B-41FE-BCEB-1B39ECDE5B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847-7035-41F2-83CA-ED4B8AEAB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88F-0259-4006-A6F3-F2D1098DFC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1A4-2032-49DB-B383-F6FBAE6AC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182-3BD3-43E8-B4DF-807C1C1143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4F8-7724-42C3-BDCE-E0BF83189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2C73-CCDF-4773-A51A-DF71A220ED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2007-5AD8-4C8C-9AC3-092BFC209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4CD-0532-4E95-91BF-9321F7B489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7D2-8DE8-4815-B6D3-380EAFBF9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31C-D5C9-4A30-91BB-5678C1F96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2484360" y="177336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89C8-FD9B-4891-B457-D298B4EB675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915-AAAB-46D1-82C4-9C073232B4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78E-CC8F-4F61-9B85-6BAC61BAE97B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563-5FAD-4746-BEEB-564FACA242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8203-F4E5-4F71-947B-D566F14D4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A6CC-B096-416A-924E-734EFC1CC3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0E32-085D-40B6-BF68-B801B4421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8BC0-1F9F-4C27-A725-85B18A0D57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BC0B-86F8-4F19-A61F-410F205D65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FF7-5B52-4493-98DC-F9EE7374F1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DED-120A-46AE-B3F7-5AE060678A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6B10-56D8-48E8-9C11-3441D9573A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9BAC-DE7C-42A9-BD37-DC4C54AD3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1294920" y="205380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0CE-635E-4A7E-899F-7885CBBA2882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7D48-930F-4757-9E53-47E3B4835271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graphicFrame>
        <p:nvGraphicFramePr>
          <p:cNvPr id="635" name="Object 3"/>
          <p:cNvGraphicFramePr/>
          <p:nvPr/>
        </p:nvGraphicFramePr>
        <p:xfrm>
          <a:off x="1219320" y="1830240"/>
          <a:ext cx="655164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30240"/>
                    <a:ext cx="65516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490480" y="3962520"/>
            <a:ext cx="3986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之家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3048120" y="2362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SimHei"/>
              <a:ea typeface="SimHei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76320" y="2498400"/>
            <a:ext cx="2971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ffffff">
                        <a:alpha val="40000"/>
                      </a:srgbClr>
                    </a:gs>
                  </a:gsLst>
                  <a:lin ang="5400000"/>
                </a:gradFill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atin typeface="SimHei"/>
              <a:ea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42:21Z</dcterms:created>
  <dc:creator>Rhea</dc:creator>
  <dc:description>www.nordridesign.cn
</dc:description>
  <cp:keywords/>
  <dc:language>en-US</dc:language>
  <cp:lastModifiedBy>a</cp:lastModifiedBy>
  <dcterms:modified xsi:type="dcterms:W3CDTF">2014-05-24T09:28:05Z</dcterms:modified>
  <cp:revision>22</cp:revision>
  <dc:subject/>
  <dc:title>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Version">
    <vt:r8>1</vt:r8>
  </property>
</Properties>
</file>