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D11-9D51-4536-9776-2CCDC79F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AB9-7686-407F-8B1C-982E5F08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773-C440-486B-8632-55555535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A71-1D0A-4C53-8696-25A3C376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25CB-318E-42B7-B600-497143A2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FE50-5523-4F67-84B9-F810665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B48-A66B-49EA-BE58-7B59C0C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A11E-9BC6-483E-A78E-4A8C9044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4B7A-8D7E-4546-A715-3297186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D041-8711-44B4-9F8A-80D954A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706-0BA0-4EF6-A23B-4258D60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08A-8C67-426B-B5D5-F6E9733A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1A83-6B35-4817-A765-9F508E0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E66B-90B1-484A-8112-4AAEB49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0C31-26D6-4F45-8DA5-192E94CC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F82-D396-465F-A0F1-51B19DB5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9AC-378F-4B7D-81CC-02748CD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973F-82D0-4878-8D94-AA1CC055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2E04-430F-41F3-98C4-57DF671B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40FA-8677-4F5A-B43E-09AC13CD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AEF2-D5D7-4E51-8D07-3CA3C9D7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E689-73C0-4896-A165-E608B61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061-5DBC-41E4-9A72-4E73476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C235-BC9D-4385-97E8-14A514F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D138-E9AC-4B4F-BCE7-1FA8F6B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FBAC-8C99-4652-8D9D-DC672B9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7C57-4124-4A24-964E-0DFA96E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609A-8B31-47AB-B495-F77CCB5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D1A4-1B99-4D03-8D12-9A5B9D42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150B-612C-4988-BE2B-3DA944E9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347-6306-457D-9525-FC7A4FA5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57D-BFF7-4689-AA13-DEA8ECC9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A4B-53B9-43A7-8173-F8CC8F9B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6AF-2DCB-4FEC-A63E-F330927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A82-F6D8-48E0-8910-A7FFB4A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1F6-AA97-4EE6-A26C-9CC5D38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8893080" y="1035000"/>
            <a:ext cx="250920" cy="17766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3080" y="2855880"/>
            <a:ext cx="250920" cy="4002120"/>
          </a:xfrm>
          <a:prstGeom prst="rect">
            <a:avLst/>
          </a:prstGeom>
          <a:solidFill>
            <a:srgbClr val="91a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1a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5920"/>
            <a:ext cx="8893080" cy="874800"/>
          </a:xfrm>
          <a:prstGeom prst="rect">
            <a:avLst/>
          </a:prstGeom>
          <a:solidFill>
            <a:srgbClr val="c8d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9C81-B7E0-4073-8C2A-A1A48A4D1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AD6-5685-4AF2-ADA8-338E2CB47D9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4AD-5D01-4E04-B2CC-C53A0CE988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172280" y="1062000"/>
            <a:ext cx="1971720" cy="579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172280" y="1028880"/>
            <a:ext cx="1971720" cy="5829120"/>
          </a:xfrm>
          <a:prstGeom prst="rect">
            <a:avLst/>
          </a:prstGeom>
          <a:solidFill>
            <a:srgbClr val="c8d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7142040" cy="573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5676840"/>
            <a:ext cx="7142040" cy="118260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172280" y="0"/>
            <a:ext cx="1971720" cy="990720"/>
          </a:xfrm>
          <a:prstGeom prst="rect">
            <a:avLst/>
          </a:prstGeom>
          <a:solidFill>
            <a:srgbClr val="91a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1"/>
          <p:cNvPicPr/>
          <p:nvPr/>
        </p:nvPicPr>
        <p:blipFill>
          <a:blip r:embed="rId4"/>
          <a:stretch/>
        </p:blipFill>
        <p:spPr>
          <a:xfrm>
            <a:off x="4676760" y="1324080"/>
            <a:ext cx="2465280" cy="3387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71760" y="4721400"/>
            <a:ext cx="7572240" cy="16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1B58-A4AF-4A5D-BB6F-62E0C7007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4800600"/>
            <a:ext cx="7096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人物商务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299120" y="5759280"/>
            <a:ext cx="74520" cy="152640"/>
          </a:xfrm>
          <a:prstGeom prst="rect">
            <a:avLst/>
          </a:prstGeom>
          <a:solidFill>
            <a:srgbClr val="015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3:15:08Z</dcterms:created>
  <dc:creator>a</dc:creator>
  <dc:description/>
  <dc:language>en-US</dc:language>
  <cp:lastModifiedBy>a</cp:lastModifiedBy>
  <dcterms:modified xsi:type="dcterms:W3CDTF">2014-12-15T17:40:06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