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FF1-FFE7-44A6-9D00-A4F4537D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1FA-F77C-4DBA-AD2E-D636AFE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FC4-F6C7-4963-9B92-D591446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E13-9F2F-472C-8F46-C9D223EE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D19-2D25-47F5-9C67-A0018520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9E9-90F8-4559-94DB-06CED73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603-B818-4D81-98EB-5C00F45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F0E8-F4AD-483D-992F-58FA3DF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9371-22E1-405B-8F3C-06CE73A1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DC6-6F0A-432A-A217-5978D67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22E9-552B-4120-B2A0-B327B64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696-7347-4355-B50D-7D83A29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06C7-51B5-4EBC-B039-B42C4E2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C75A-10B6-4590-8E59-AF1B203A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F7F5-96F6-4D35-B922-F7DA348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CF8A-BC9F-4F5A-A53A-E57DC2EC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1444-58EB-4412-B5F7-3C471E0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48-1CC6-4C7B-A5FF-B7080AE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1B5-0A17-403C-8CA3-0FD0C5E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D7F-77F5-4A79-9EE1-C1C74B8B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9F9-708A-484A-9312-F7906A45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E84-C2C0-414C-9AD5-BF60FD9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768-B05A-404F-9F38-7C91F31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653-C300-48E9-ABE6-193F4AE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3B7D-F88D-4ACB-9C80-23005810115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FB3-6CCA-4155-81F5-17637FD1DF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7EE-6492-47C1-9E8E-B3D187223B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0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山地自行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600880"/>
            <a:ext cx="64008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102520" y="6638760"/>
            <a:ext cx="936720" cy="1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3:25:36Z</dcterms:created>
  <dc:creator/>
  <dc:description/>
  <dc:language>en-US</dc:language>
  <cp:lastModifiedBy/>
  <dcterms:modified xsi:type="dcterms:W3CDTF">2014-12-15T17:46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