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2ED-F98F-4779-8209-0194652D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197000"/>
            <a:ext cx="8004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3772080"/>
            <a:ext cx="8004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ED6-1B44-4830-904B-F9BBF885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197000"/>
            <a:ext cx="3906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4400" y="1197000"/>
            <a:ext cx="3906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3772080"/>
            <a:ext cx="3906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4400" y="3772080"/>
            <a:ext cx="3906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C2D-2348-4463-82F1-62FB3B12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197000"/>
            <a:ext cx="2577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9040" y="1197000"/>
            <a:ext cx="2577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5520" y="1197000"/>
            <a:ext cx="2577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3772080"/>
            <a:ext cx="2577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9040" y="3772080"/>
            <a:ext cx="2577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5520" y="3772080"/>
            <a:ext cx="2577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FE6-CC66-4812-8423-185A1D47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197000"/>
            <a:ext cx="80042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60C-9449-4794-937F-90D1D374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197000"/>
            <a:ext cx="80042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995-5BC7-49CC-97D5-CB0E807E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197000"/>
            <a:ext cx="3906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4400" y="1197000"/>
            <a:ext cx="3906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B49-1310-4ACE-A9F2-DD3FA338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6E6-F7B9-421C-8A5B-7C3EF6ED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274680"/>
            <a:ext cx="800424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09B-8C78-42B2-BD59-C2D703C1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197000"/>
            <a:ext cx="3906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4400" y="1197000"/>
            <a:ext cx="3906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3772080"/>
            <a:ext cx="3906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29C-0B8F-43BA-9492-D475638C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197000"/>
            <a:ext cx="3906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4400" y="1197000"/>
            <a:ext cx="3906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4400" y="3772080"/>
            <a:ext cx="3906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EE8-B362-4187-8716-60280B6C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197000"/>
            <a:ext cx="3906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197000"/>
            <a:ext cx="3906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3772080"/>
            <a:ext cx="8004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A13-F093-4AC4-BB0D-FB66DCC0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938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2CC0-9CD6-46F1-AE0B-0D1DCB3CBA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2560" y="1197000"/>
            <a:ext cx="80042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7600" y="4869000"/>
            <a:ext cx="61167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世界杯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5878440"/>
            <a:ext cx="51768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2560" y="27468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2560" y="1197000"/>
            <a:ext cx="80042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03:09:00Z</dcterms:created>
  <dc:creator/>
  <dc:description/>
  <dc:language>en-US</dc:language>
  <cp:lastModifiedBy>a</cp:lastModifiedBy>
  <dcterms:modified xsi:type="dcterms:W3CDTF">2014-12-31T03:32:30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