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B316-A5A7-4AAA-BDEC-3B1BD25A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2269-61DD-4411-9204-2F47603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5912E-7F20-4F13-99F9-63203AF5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3FB82-CCF9-4921-B230-8AB7D4C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C4C6-FEAE-4A07-8315-742EDDE9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E7D54-E807-4CDB-9C06-A9A2CA6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122E-9380-4E85-A6F9-F78A5CD5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2E005-9246-486C-8BC8-889D088F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9BFAA-9F6B-4760-90D5-34F2B2F2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CFF6F-6270-46E9-B4F1-395A1664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5191-536C-4184-989D-C2F1A22F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A2061-988F-41E0-A6B9-B91CB0C2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2A0A-F535-4EBF-A14F-8130563C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E8A44-0708-4421-AA88-C81936D5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9A1A-C3E4-445B-B220-E5744FE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37EBF-78C0-4366-AF98-BAA19C54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FDE2F-E748-428A-B67F-662B63B0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BCE1-F1FF-414F-BD90-823C2CA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56872-D369-452C-A475-D0EC2819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C0C6C-95A5-40B6-B99B-76257B9B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8078-81B1-4ACE-938A-21453CFF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DA469-D300-40CA-984B-7FCAD5DC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28BA-5533-4FA1-88E4-B1A6BC0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88C30-B91D-4F99-9FBC-B63BE5D2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0869A-9EA1-4B91-8995-EE710CD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CC6D4-38E7-4556-8EFF-59061775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D7EDA-BF75-41FF-87CB-89D49D7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9E6B8-5449-4DE2-94B6-EB1B67CF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80DB3-C7C6-4F78-88EB-240B5A5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A282C-5D78-4047-92A1-7F6043D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3C0-642F-4F08-8234-16596DF7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059DA-19E6-4C5F-A68B-9C0FC4D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B443C-BC26-475C-A377-E50769B0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7575B-D891-4992-9208-D19F9BAB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7B4E0-8339-4338-B5DC-E8EAB8CE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642DE-4531-41AF-99AC-82F72315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88C97-432A-4E65-A76F-A4EC86E4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27330-E89E-4B55-A1C9-DD9A56E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9DF34-560F-4970-99FC-CD2AF20C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46B7F-89E7-4178-BE7D-2C7C955F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C4980-3C03-43F7-867E-BAC2B6A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06D-BECD-4641-9D76-21DA7BF4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6A149-1CE0-4E53-A3F4-1E94373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4DE0B-7714-4948-979D-2690860D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F1F50-48FF-4D08-A73B-CFD881D1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CAABC-D43C-43CB-94A4-021B702E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32751-81B9-42B4-8BF0-476E057B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FC03-18D8-44B8-81CF-7906834E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D6F99-3787-4895-95DC-AF832B8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2DF42-5858-4B9D-ADB4-BB97255C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F5BDD-A149-49AC-BFC2-AC5FF3F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FD22E-A6FC-4C88-8571-A050B031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AC6-B8CD-47D3-95ED-55216199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36E47-2969-4566-9D54-A35DD1E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DFFF0-248E-4226-84A8-72F239B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53963-CFB6-452D-9FEE-C803DDC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EF082-DF3A-43E8-A990-B5B0106E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239FF-3934-4315-B5CA-D943DF1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BB7D-E8BA-4767-89AD-8A60FA98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A7842-8F89-41B4-93CE-731CD100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A6D1F-D57A-4171-A160-5A420AF1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81F6E-B0B9-4C65-802C-5D2BCC2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C8093-E031-4261-ADF2-123D1EB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58F-15B9-445A-A543-C7FD1B04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10F18-F709-454C-99AD-36276ACD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6C02E-C4D8-43AB-AD2C-8918F28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91D31-B966-4117-BB53-919F587C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C7ABF-13E7-454E-BA17-2303FE6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AFBD0-9DEA-4EE7-B062-EB11B33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2662C-AB4B-4CC0-8EE4-E4B69BAA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99CFC-9D28-4378-BD96-C86E152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A08EF-2BEF-4F50-BB28-AB388AA5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5D76E-08C5-405B-B871-DEA9E8A7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3ED-7F48-4E70-A6C4-4030037A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1A9-CFDF-4B38-A908-CA207A4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9ED-3C48-47F1-809D-CEBE15C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609-D14F-4C2B-9885-7475E9D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67F-F375-4172-B2E1-2FD0E590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858-9D74-4857-B9F8-E877DCE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A6F-C0DE-42C1-962E-D78BBCAB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82B-1FF6-45F1-A5B3-1C902250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1D45-9744-459F-9A3F-A99596E0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FA50-B7BD-49AF-BA0F-F2D5E44C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413-E54F-4B6F-913C-4C6AA710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659E-7BC0-4D8A-9326-C4F310A1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4FC9-7639-4901-B3CB-D7229101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43B2-6074-46C6-B4A6-B145A26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2376-A3C2-4774-ABB6-11835F17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27AE-87F1-495A-A4CE-40CF0E1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474F-830F-425B-B8FD-21FC972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F78E-2758-45C5-A602-4AAF5541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A30A-036A-464C-89B9-3BA480CD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37E6-790D-4EA7-B214-2A8FD07E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E1F2-DC43-48A3-A821-1C2BCD39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C0BA-28CB-4E33-A210-ED13C4C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5402-423F-48A5-A402-76267353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ECA5-4069-4E93-9E8E-F8493565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D000-E570-4433-8B34-A2A66F8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B607-BD59-40FA-9496-75BF989E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10C9-4988-47E8-97F6-ABF8E75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32FC-32E0-469F-9BE2-E04FF2CA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02B4-0F61-4FF1-A3AC-F847FEC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509C-647A-4597-9E39-D0909164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2E45-60D4-462E-BBC3-AF1533D6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36D7-8D55-41A9-8E7F-4F81B5BD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870F2-534F-4CFB-899B-12D12D9D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C074-E2CD-47EA-9DAE-B7B0F47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2EB1-3E52-4DC7-895F-62C73DB9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D07B-FC05-4813-91DA-9638627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C0B5-432E-4C5F-A5BD-8B351CA8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9534-716E-470C-850E-EB5D70BA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61A2-5F76-474B-B54A-853368E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3183-835A-452F-BC6E-FCEF548F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142A-DBAA-4B5A-A2BD-E04B3B5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46DD-1107-47CD-933B-CA7ED11B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4F50E-4A61-44D1-81A3-CFFCB32B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4A3A-A795-4E5F-A9BB-62E126B1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2759B-6EE7-4726-9192-C97CCE94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D5AC-D6C9-450A-BCC0-0658CB12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45F3-03CD-42D8-94C2-7012C007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C089-EC28-44C5-A6F0-2413900A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1304B-D2AB-479B-911C-4B2F4FAC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7E228-17F0-42B0-8151-C7B250D7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D40B4-77E0-4F1E-88B9-F5DA58F7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058B-9A61-429B-ABA6-E95BCE5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52E1-1C5B-421A-A325-A5E34C9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AC9E-7E38-4EAD-AB3A-C4CB4DC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5401-55D4-439D-AC33-BD1C115E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14AF-10BA-4D97-A333-A87BC66A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CE0F4-77FF-4B0E-B5FB-059C719B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8E6F8-9D21-4312-B8AC-B6471F9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70EC-BA09-43DA-B1D5-A8DE841E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D1863-16A2-439C-92BE-E4C2346E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B5107-491B-4251-A16E-100BD2FD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F16D5-CE45-49A4-8986-3F6572A9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64357-35BB-40A3-B122-040C439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94AFC-6D87-46C2-A85D-CA6F149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B9409-58B1-4D72-AB78-8EC9EB4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77C7-CA36-42FA-A7AF-10A2F96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D34D8-98F4-4F50-B66C-C9E9551E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194E-7E97-49F1-A642-8639DA26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482D2-4807-4749-BC22-5197010C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90F87-EEEE-499A-AA83-EA571629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E7BB-14C0-42E7-BE21-8B9B9E9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45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52352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1315-6737-4669-9EA6-CFBCD77A7C8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844A-085F-4CDC-A2A8-92A85045A4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C9BF-42D7-4A3A-9B6E-E21A2B1EB13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1DD1-282D-4AE4-BCC9-749D4A20FB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86E-336F-494B-8D48-38729D9B0C2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CDF-26AD-42A9-BBA4-EC8637BD70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4432-A474-492D-9AE6-B1349D352C0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C449-54F9-47F9-B725-BE50B93C31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2969-B417-4A57-8356-9ADBEDC6C8A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D8B3-A200-4A7A-BF15-49C92ED9FD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E9C3-3107-46D3-93DE-416A6E712A4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F20C-0783-4A1E-B84D-A3CA4508B7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457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66680" y="152352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41AD-F11A-412C-AA5D-79A0DD08977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BD1C-34EC-4EA2-A77C-2D0D27C993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9135-9802-4562-BA40-F621A69C354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3A15-6B07-40DE-8DA9-0B64488BC9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7636-41A0-4039-BB79-55E3FC64E1F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491E-CE57-467D-BE76-9106C05F84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F37D-2068-42FC-8D51-1D7C029EE6D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A58A-25B5-4611-9B7E-218F51C13A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D21-4BF5-48CD-AD59-C23EE496DC6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0A7-22A5-4853-BAC6-10C3181B2D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E47-18B4-4048-B28C-42EFC56F46D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BA70-C20A-4C49-9564-8E3C35DB41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数据线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usbppt</a:t>
            </a:r>
            <a:r>
              <a:rPr b="0" lang="zh-CN" sz="3600" spc="-1" strike="noStrike">
                <a:solidFill>
                  <a:srgbClr val="ffffff"/>
                </a:solidFill>
                <a:latin typeface="Microsoft Sans Serif"/>
              </a:rPr>
              <a:t>演示模板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990720" y="1069920"/>
            <a:ext cx="72388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76320" y="216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81080" y="7380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a</cp:lastModifiedBy>
  <dcterms:modified xsi:type="dcterms:W3CDTF">2014-12-21T03:40:42Z</dcterms:modified>
  <cp:revision>21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