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3D8-4C69-4B93-92E4-0C958B2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BAA-FF07-4AB2-ACBD-1DB79578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2BD-8557-42B9-988D-A1FD8958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2D7-36E4-4255-B087-E1DF6233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6B2-B0F3-4CDB-A0CE-AC92BE59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221-AD3E-4D41-A7D0-9E2EBED3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309-41CE-4679-BE90-7BFC0B8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E43-5445-440F-B7E7-8A6C05CD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4E5-A76A-4D93-A66D-BA12F74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30B-346D-4F59-B1B4-E840CD1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373-403A-43C6-AADD-AAE9307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1806-9841-4214-9A23-4A53F8D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B612-856C-4A6A-9ACB-215730547F9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深蓝卡通圣诞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单击此处添加内容</a:t>
            </a: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单击此处添加内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1:34:34Z</dcterms:created>
  <dc:creator>Admin</dc:creator>
  <dc:description/>
  <dc:language>en-US</dc:language>
  <cp:lastModifiedBy>a</cp:lastModifiedBy>
  <dcterms:modified xsi:type="dcterms:W3CDTF">2014-12-26T05:17:02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