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4E18-6E7E-4201-AF13-DB4EAA341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D4E2-BFFC-4FCB-9040-0A603C2B4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3F24-70F8-4654-9976-20CE161E2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9FCC-0666-4761-A264-C058CF569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00D3E-41F3-41BE-948D-3AFB6F341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06661-F2F0-44B0-B82E-E44F45D6F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1C490-83D7-4759-A103-46790D279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FDDA5-F5AE-4FFE-A6A6-C2DE9BEAE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278FE-6DC9-4FC5-AFD3-D8E6B8589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D9DB4-B255-4640-8E02-E82EAF041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D080D-8E10-4564-85BF-65ECA0E9E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84F7-189B-492A-A8D3-E3420ADB0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30A94-54A9-4EFF-84ED-4AC7E4839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537AA-4E48-4F74-9585-42973B7DE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10792-C5F7-4B54-BB38-446D6012D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60E64-20E1-4386-A6C3-9F9502DF5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EAC3C-4E8B-47BB-9E8E-DA5A5A5A9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ED90B-C2A5-49DC-8E2A-BA31714E3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1C6CF-6099-4BBA-83E5-3C53F9ADF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2201E-5B74-4C16-83A6-6B7DFA1CE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8DE68-E0FE-4A05-A504-77EF434F5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8C9A8-02EC-496A-A406-FC76C04A5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37EB-BBC8-436F-B471-FF8D476D0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5AE38-5380-498E-A27F-56C3D0344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4D252-6055-4F5A-A200-815E1F435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A9275-1746-48C4-8295-E03105EA8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F1980-6189-438B-BFE9-EF4CB5DF0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6EE60-E8AC-4468-864E-ED6968A03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9A16A-F2F3-4F6E-990F-AB431A7FC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FE858-16EC-4A3C-B57B-912F316B8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4BB3-8173-44B6-A2B2-96B2B71C6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3FD6-5D9F-4E6F-A34C-8CB7C8FC3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EDC0-60AD-4581-9E22-355EF8A0F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CF41-2BD7-485E-BF56-1D8F8A1B5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E0F1-9BD5-4A34-87DA-E38A5A9E3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EA99-68F4-4217-BA85-61C0435BA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81200" y="27432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81200" y="1600200"/>
            <a:ext cx="741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848D2-E051-4C70-8D1C-790A27BC02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81200" y="27432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E11BA-51F0-4FE7-B577-40F13E758A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379C3-FE99-44CB-99D8-7B5971390BB1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4123F-D70D-4E2B-98CD-3ADF106CE90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水绿色地球地图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81200" y="27432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681200" y="1600200"/>
            <a:ext cx="741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2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en-GB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en-GB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en-GB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en-GB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en-GB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en-GB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6T05:40:35Z</dcterms:created>
  <dc:creator>Geetesh Bajaj</dc:creator>
  <dc:description/>
  <dc:language>en-US</dc:language>
  <cp:lastModifiedBy>a</cp:lastModifiedBy>
  <dcterms:modified xsi:type="dcterms:W3CDTF">2014-12-26T05:20:16Z</dcterms:modified>
  <cp:revision>45</cp:revision>
  <dc:subject/>
  <dc:title>Welcom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