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179-3F80-47BA-BD58-F1A534B9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D6DB-2C61-4136-93FD-9AF1531C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BB07-27A5-4CE2-BBB7-C1E970B9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33DD-B52E-48DD-B7F5-D82662E3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51C4-E765-4979-9EE1-C27B8B23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5878-7ADB-48A2-B188-AEF0AAC9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9A03-E0C6-4317-830A-6D2AA063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9E07-247A-4D6E-9412-ED1DDD9D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F85C-EBBA-4DC9-AC04-EBAC394A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29CE-1A51-41A5-BAD7-AEFF1354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9851-9543-436D-B0EF-04A169FF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1B83-D699-4AF9-89F6-D3307AE8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E789-5C92-4B2F-AB6C-14CF1EF0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DC71-DD24-4C55-8050-706190C8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7472-16EB-4287-B40F-06D0057A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63A4-5CAA-497A-991A-D15757C2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C4D3-B71D-4721-94A4-DF3E74BA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2BC3-0AF2-46B2-A8EA-A9652437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4B9-1A10-4C7C-B05E-7D5CB6BC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514-0E7F-4793-A7B2-68254AA3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C50-9F3C-45DE-924A-3E3CAE9F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C2D-ACCA-49E7-A5E0-724F8A0B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7F79-45DB-4E8B-8D77-81F00723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7265-12EB-4759-951F-455E9E62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C355-81F8-444D-A7B4-19173C8003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AFC0-CB45-4122-89A4-A62886A0A5E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DFC5-82A2-4C1B-BA21-12BDD84C95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86064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墨中国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640" y="5013360"/>
            <a:ext cx="64008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5:20:24Z</dcterms:created>
  <dc:creator>Administrator</dc:creator>
  <dc:description/>
  <dc:language>en-US</dc:language>
  <cp:lastModifiedBy>a</cp:lastModifiedBy>
  <dcterms:modified xsi:type="dcterms:W3CDTF">2014-12-26T05:20:3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