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DB3-AD8C-48BE-ABC8-85DC9DB4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767-F810-4EE6-A640-EB06AED9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A59-0AB7-41FA-B2E3-AAA16348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09D-150C-4D00-927A-37C1AFEB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DB6B-16DA-4F94-9C75-8AC55E33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A7E0-907C-43B1-9051-2481478D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A588-6AD6-4B9B-B6D1-30F33420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A6D6-2327-46B1-8F84-4E52FBA7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6091-E940-4A90-9C33-6D264CB5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1C6B-E1CB-4DAC-80C4-5D885545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9039-8B7E-4467-836B-2B4F1345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894-D599-4A3C-A17F-09BEA999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3A34-933F-4B8E-ACCC-166195FF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7BCE-74F3-4D97-B235-4D82973C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3D73-03A9-4C50-80EF-FABDF66F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1D59-F1DA-40AD-B35D-3059F660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3728-2234-4750-B994-8F5EF3E9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73D6-96FA-4522-BE97-23605B87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6403-E280-4BDF-ACA5-DABA3F6B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5607-D9BE-4240-936C-BCC27B7B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45E9-CE72-488B-AF62-CFFCF461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D2AE-7C2E-40AA-BCAD-C449CCAA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D39-B6C3-429B-8742-0BFF07EA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CED39-AA49-4C8D-B4FB-5385220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24E0-938D-4E7F-9F41-D46326CA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D168-91C3-4F48-8B14-B06B2C13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4C0D-8500-4F0F-9C3A-15D1042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0B6C1-BB7B-4183-A096-D6863E50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3E3F-6E1A-4017-9D0A-DB31791F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C986-849F-4CAC-8A30-F540AB4E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779-14EA-4A74-B593-DCDE54E2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E82-3516-4F53-9055-2C44DB19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512-5C4B-4B3D-B585-93A836DE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F65-5BE7-440F-B3F4-45E09C1E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16B-E95C-414B-A1FF-DCADB093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BBB-4DE3-4375-B030-79D85E26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310B-F876-4E60-ADE5-1C8424783625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B16E-1ED0-482B-B091-4EB1F0104E4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8727-7574-4238-B8A2-20613A0BCE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E813-FF70-440D-B74C-E936E5EB629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沙滩风景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 Arial  F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4:27:07Z</dcterms:created>
  <dc:creator>Nan Shastry</dc:creator>
  <dc:description/>
  <dc:language>en-US</dc:language>
  <cp:lastModifiedBy>a</cp:lastModifiedBy>
  <dcterms:modified xsi:type="dcterms:W3CDTF">2014-12-21T03:46:09Z</dcterms:modified>
  <cp:revision>7</cp:revision>
  <dc:subject/>
  <dc:title>Beach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