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7366-C938-4522-8C73-4C75F37A6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0946-4365-4FBA-AADC-221225B26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4A91-2F24-41D0-8502-4D03CBEEE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AF75-6B6B-4AA0-87F5-8AFBD9AAE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E49E-508D-4FC9-A1AD-C35ACDD83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AC25-2982-4DE2-A23B-B93CCC725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B481-25D6-4425-8FA4-4EC97757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5A8F-150D-45A7-8CAA-E0B7E379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5338-AA3D-44EF-BA7D-47AEB399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B350-ABA3-4FDD-8FD9-D39B61940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677C-084E-4136-8338-2449C5B2B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9502-C1A9-4C46-8D9C-CF915A90B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87A70-8594-445B-9B3E-1BD6B7A00BA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AB88C-8323-4526-A33B-2FFBAE19AF1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4280" y="4357440"/>
            <a:ext cx="77724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商务未来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pt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模板下载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0920" y="3284280"/>
            <a:ext cx="776124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ow it helps software users and provi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58920" y="3860280"/>
            <a:ext cx="7570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reen recording software to save your time and cost to create software video tutorials, presentations, online software training and visual online hel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0" y="1143000"/>
            <a:ext cx="5686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5451f"/>
                </a:solidFill>
                <a:latin typeface="Tahoma"/>
              </a:rPr>
              <a:t>How DemoCreator 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286000" y="2071800"/>
            <a:ext cx="6400800" cy="40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Record the actions taken on the applic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- Record mouse movements and keystrok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Record narrations as i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dd balloons, highlights and animations to enhance the video tutor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ublish to Flash movie, auto-running CD/EXE, LMS and email with AICC/SCROM compl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68000" y="3357360"/>
            <a:ext cx="547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Thank you !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6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03:21:24Z</dcterms:created>
  <dc:creator/>
  <dc:description/>
  <dc:language>en-US</dc:language>
  <cp:lastModifiedBy>a</cp:lastModifiedBy>
  <dcterms:modified xsi:type="dcterms:W3CDTF">2014-12-15T17:42:47Z</dcterms:modified>
  <cp:revision>2</cp:revision>
  <dc:subject/>
  <dc:title>Wondershare DemoCreato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