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9EB-5AC4-4E7C-9320-C2825F2C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237-432C-4B27-84C1-B108FDB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D79-D85E-48A6-A296-157D797C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66F-8BA4-4D83-8460-FBACEB4B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507-744A-48B0-ACE4-A7DB9398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E73-281C-4B3E-8676-0F9AB6F3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99D-AD33-4FB7-9C12-18DA2439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6BE-1161-4860-A793-DA68945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D7F-6839-4A78-9A88-E3701625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E2D-9EC0-4BBA-809F-A132C02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926-60F2-42E9-AA49-EE4A8B5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A83-615B-4D98-93EE-2EF7A3A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8A4-A599-412A-BE6D-B4822CAD4F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商务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9"/>
          <p:cNvSpPr/>
          <p:nvPr/>
        </p:nvSpPr>
        <p:spPr>
          <a:xfrm>
            <a:off x="3997440" y="6093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00000" y="1198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11111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37080" y="3141720"/>
            <a:ext cx="55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7000" y="6426360"/>
            <a:ext cx="9349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619280" y="1998720"/>
            <a:ext cx="75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26T05:16:21Z</dcterms:modified>
  <cp:revision>6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