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345-E620-4A36-BB4D-1CE3F300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2B0-7EE0-4874-961C-93833A8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EEC-7805-4223-B074-5F6B88CB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7E0-E500-4C92-8BF3-3E1C5277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888-FABB-42D0-9FEA-ECD2834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F53-CD8E-492B-8B0D-BBF61B0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2AA-BEE6-4743-ADA2-3264490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D26-3A57-4FDA-8558-86EE21A0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738-1BE5-4E6E-9B82-74C3A08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3E5-83A5-4FC7-ADBD-4BB80B6A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BAC-98BD-4D03-A9C5-E6E6D35A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A06-46EF-4C5D-85E3-75AA96FA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 rot="5400000">
            <a:off x="3880080" y="-3385080"/>
            <a:ext cx="1363680" cy="844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f5b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4965-C428-4DA3-9984-470FC0496D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713A-E109-451E-AC40-F67C2C6F9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79532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f5b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树叶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完整版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80960" y="3819600"/>
            <a:ext cx="64008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51:42Z</dcterms:created>
  <dc:creator>Administrator</dc:creator>
  <dc:description/>
  <dc:language>en-US</dc:language>
  <cp:lastModifiedBy>a</cp:lastModifiedBy>
  <dcterms:modified xsi:type="dcterms:W3CDTF">2014-12-26T05:25:41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8814409991</vt:lpwstr>
  </property>
</Properties>
</file>