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C29-C793-4C3F-BAEE-F1D8444F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597-34B9-4D50-98E3-6C5F68A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28DB7-B3A0-4E2A-8390-AB89B177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AA615-1309-4211-8670-E905B17B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315A0-E7FC-424E-86DC-1C3B6E27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1C9BE-9839-4999-AB31-01E30AE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4A410-5DCC-428A-B616-A2E5014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0370E-3E46-4127-A5B3-78DF154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F63E7-4E0D-4B12-8785-6569FE52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24B80-03AB-4FD0-B4A5-A19D6D3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28D81-25C5-40A5-AF2C-F96CE7A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11492-535D-485C-A3BE-895B34C1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1E8-5E82-475D-9E2C-89A730AB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1AD9B-4B42-419F-901C-2397F301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4A358-D924-4024-B9D1-61659A0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F4F25-327C-406C-8D54-4FA3806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D99A-46F2-4236-A6D1-B92F84E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303C5-6FCB-4835-8D68-35D9A4C6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A346-2E6A-4C3E-BB1B-5D27C4B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A7A79-372E-4A2D-825F-487EDBC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B9B87-FCF6-4E8D-8EB0-977206F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A1D5A-94DC-441F-8395-6EF0B866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4354-AD0F-4CD3-A7D7-9E403AE6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7D5-03CB-4E0F-A20B-AD00D3F6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60877-9C44-4B2C-B5A4-4ACCEBC7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8800-A3D8-4D4A-9EC0-39EE5FCC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1CDB-F385-42DD-BED7-65D8302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3C5E6-3C7B-4377-8F3B-CA5DC53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CDC45-0AB2-47B7-A26A-A33DCAE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F0D7-0315-461C-B86A-EA178E80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B10C-E62C-4861-86A9-6449432B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6BA86-4994-4164-BC9A-994A18D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165AD-3551-44D1-99FD-C2E3CA5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145E4-97C7-4621-B910-67E8F90F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497-3833-4899-902E-9F86306C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5A44-9D5F-43A0-8835-A7102D9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F355-67F9-4EE7-A1AB-505A5AD9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3A454-6C52-483B-BED8-13C82F71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8A764-2407-428F-B830-01F9710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4CEC-116F-43D4-B06B-21D29EE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487EF-205E-4F22-87AF-42697445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58E0B-F26D-46D2-B411-731034FE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7EBDF-E65C-41FE-B673-5F4E353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3605C-A824-4E93-BAC7-F7B8BFD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5212B-395C-4481-B0CC-7D41FD8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061-9FE4-4EEB-8AF9-ED3FE39E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7C055-EA8E-421B-BBBF-A81F9E4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115EA-4F49-40FF-9D91-2BA2FE0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C6E2-A946-4EA7-AF5A-917B40E4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19981-745F-479D-B66C-C11E8CFD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7E800-7950-432C-898F-71EE7A89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7720D-FF75-403D-A8FB-41B4A0A2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84DDC-F33B-48AA-A6F6-EB9360E3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A1A6B-7AD2-4466-A883-FC6BF7BA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5D7BB-8589-4358-A9CD-2F42792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4E4FB-7132-46C4-8F68-6EAE85A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78D-4D93-465C-BBF6-F58E6C3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7F791-E6A5-4C1D-91B3-1A71FA24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BD08D-205B-4E7B-B0D4-1282907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7112C-0E9A-4753-A64C-8AB0444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EDCA3-CE81-4C5D-8177-7BDC1C9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C4ECD-47EF-43E3-9ED1-5747B4C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BCFE2-1A45-496B-9C13-64E17E35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26CA0-3585-4754-B9FF-EB2A87EA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B877A-5790-43AB-9B1F-E99A8A93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E0999-8B7D-48E0-BDD0-DBCD5F7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5C22C-5B7F-4B37-B65C-917479D0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0459-E18D-4AFD-AB3B-B30C9AC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26756-8988-4801-A60D-BDCC89C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EE337-B466-4AFC-A277-BDF97E9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D003E-4145-4966-8CB4-46350E4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2BC6C-4CEB-4905-A32E-CBD2F7C3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F9150-0CF0-42F8-8BE4-C5062DD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70BA4-DF4C-4976-A5EE-17DC3D2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5FD22-08B8-43E0-ABA0-8E5B23DB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7D374-8714-4FF3-89F8-8656D642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C7ED5-5CAD-4FF6-A438-44CF6808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025A-0893-434C-8EAA-B4D9241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11FD-A4AB-41A2-83D8-04714A3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0C54-1302-4F42-A2D6-E73DEF7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5EA-0546-47B0-8881-3968A4E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8D0D-A3AB-45CD-8083-3BD6BAD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CCDF-16C4-4198-8C85-B2BA2E1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48A-6E41-4A09-9043-C6E9853C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C8AA-5907-4F1F-9B41-E536F58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E1A1-B4F1-4349-B61D-BD92EDE8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0A3B-82B7-444E-9CB1-A5371B47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ECC7-04F9-487F-A5EB-DC930919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AB66-C546-46E8-B8A7-1212BF8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8B2C-2EC5-46BB-875D-B560EB8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38BB-AC3C-4373-A8E6-53F8DEBF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C86-AD80-4300-9DE3-0A8DA33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DA5B-DE5E-41DA-B4E9-9E08254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8862-4C87-4C23-BC26-6FFEC9A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8BCB-1C15-4B24-BFEF-D4463BAD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A444-5797-489F-BB4C-6A7698D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F050-0850-4D24-998C-4D2AF22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09FA-5104-4EF9-8643-8FEE8FF8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1D41-2B15-4F1A-A9CB-F5ED9F89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1A14-DA2C-4721-B598-97DFB421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6F1D-7271-4C7B-8A03-9E01225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8081-ED83-4213-AADB-F688355E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F79-0266-4A69-A087-A7BB4F7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7EA3-F9D5-4E50-B288-1909249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5B45-D9F0-449E-8E81-B340A8D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8A67-05BF-4A2A-A809-25741E13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112B-0193-4D49-B290-9CA429D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C638-6552-4AA5-9569-F82DAC7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44EC-0A65-4FE7-AEF1-A306ABB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C424-9321-40A2-B1E8-A067443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9C12-9DBA-4B58-966E-1788CAD1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9CB0-E4E3-4839-8B33-2F9A133E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2AE8-1FA6-463E-848D-657E53CE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403-A933-4703-988D-0ABDCDC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61BA-9A6D-4FC0-803A-3CBB773C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CB2C-440A-4864-8763-9B29219A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9977-8193-4C16-BCB8-70E5422D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3E75-9C17-49D2-B90E-42F2606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98C7-A873-4BCA-9940-8726F3A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8350F-37D1-45A5-A799-27B02BA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26DF-3105-4E1B-97C4-5184CB0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CCBA-85A1-487B-BAFC-5AA0027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2691-1B8F-46D9-A52A-1D956750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3EAD-9E5B-438C-9BDA-E03450A5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425-AE46-4206-9738-9A925F9D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C604-B157-4EB4-A110-B576398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B7ED-AE02-4061-819A-05B3D57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9AA6-6B75-4381-8079-2976B73A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350A7-8866-4382-9BB1-44A172F8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6224-C18C-41C2-950E-6D6BB2A4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49259-CC22-4576-AD92-4972C2B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987D-D1C0-45C8-BEFC-6DADC764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03FD-C799-42D9-B547-85BF9EA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8B6A-FB26-49EB-BDDA-0D88000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9090-7BA9-418F-B28E-9A59D18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2D8-5E32-491A-9E9D-2C24013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5B20-839C-46CB-8EA2-B0DE9F6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FE2A-0721-4529-A54A-3A78308B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5EC0-0D1D-41D5-88F0-6410C254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5527-B223-4C62-A8D6-17BC95E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F099-0E87-4B26-9CA7-5292590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A3B8-EAE5-4663-B707-4A20869E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BA649-2F47-40C3-B2DA-908FACE4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5311-8E88-4BD6-B9C3-90FCF1CE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471FD-14FF-48C9-9276-B0EA4A5B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BBC3C-D067-49A3-9A59-3CE6F1C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A64-493D-4C03-83E1-C8BD6C4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5ECB8-D26D-4C60-A3AE-06EF999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6C87-EEE0-449E-9715-5B0F87E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36864-7EBF-488D-9687-48EA787E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1238-2109-4148-8C85-8808CF8C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97AA-4D4B-48D4-BD16-C6DC73B8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5A8E-91A2-4CBF-8C7B-DC81C765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633B5-30A9-4A42-BAD5-FB4D2001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2255-5266-4C67-8970-BE8FF142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2A702-DCEA-40FF-A082-FBD6AC1B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AB45-FB89-4196-BF94-AB460A0B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4B4-1C7C-405E-B5E2-EB7291B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B450B-F96C-42A5-84CA-16A96059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5769-034C-4782-AD1D-BEF3A0B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3A6F-909A-4A8F-86A1-AD59CA8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5AFEE-AF90-48CB-828E-8FCDCAA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EAAE-75A3-41FD-BE8D-B14879E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717E-9814-4858-A33D-B7F67618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8FD4-CFC8-425B-B108-C70A6E08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E8CDE-476C-4A9C-8EC3-6AF579CE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15760-93B1-4D2D-B158-1202C32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5F98B-B258-4C03-991E-CA56600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a8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d1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54E-4C54-48A0-A90A-0803185B79AC}" type="slidenum">
              <a:rPr b="0" lang="ko-KR" sz="14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cap="rnd" w="2844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7BD-5E5D-4614-A643-4AA3D3A74D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63F-9C8B-47B7-A551-D29FE34A0E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8684-8344-4144-AAF8-FD9A5BB2FD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55CE-FAF2-4B10-B4B9-C3A7AE2A0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304-5B1E-4615-BC6A-4A1D0EA8A8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319-98F4-454F-99F7-FD488BC6A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E4E-E769-4A0B-B5A8-6EDDCD427A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9D18-2C2E-4B14-A4BA-F0B0D112E9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433-28F2-4E48-BD00-A23185C671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7F2-1771-4F38-B17C-0A9483DB7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084C-AE3F-4317-A52A-695129B0CA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D37-F154-4636-BB6A-ED10E6A0BB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2743200" y="1600200"/>
            <a:ext cx="3505320" cy="3352680"/>
          </a:xfrm>
          <a:prstGeom prst="ellipse">
            <a:avLst/>
          </a:prstGeom>
          <a:noFill/>
          <a:ln cap="rnd" w="3816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200400" y="2133720"/>
            <a:ext cx="2514600" cy="2404800"/>
          </a:xfrm>
          <a:prstGeom prst="ellipse">
            <a:avLst/>
          </a:prstGeom>
          <a:noFill/>
          <a:ln cap="rnd" w="3816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a8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d1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B17C-3C63-4392-99E2-470F0C5DB1A3}" type="slidenum">
              <a:rPr b="0" lang="ko-KR" sz="14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7BB2-36DB-48F7-9F48-980B634373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3A8-1F64-42FC-9473-2B4B5E9D1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E0B-E7B7-46CD-A599-56B12A01D4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0DDB-7796-4393-A24E-5DA52FE47B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1463-247A-4A6E-B626-3C49B1D0BD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EB8F-9A06-48F4-888F-9551868F7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BB6-064C-4939-B301-B227F99F9F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22C-CD31-4767-BFE3-536831C97B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1411-EF1E-49C8-BBF8-60AF9A4D61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E028-40F7-44AB-AF22-234E540F6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F9FB-5394-44FA-8E2C-B06D477982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EBA9-23C2-4FA9-98D3-25310A097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11280" y="504720"/>
            <a:ext cx="59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太空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47600" y="159084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03:18:47Z</dcterms:created>
  <dc:creator>user</dc:creator>
  <dc:description/>
  <dc:language>en-US</dc:language>
  <cp:lastModifiedBy>a</cp:lastModifiedBy>
  <cp:lastPrinted>2000-01-31T08:46:34Z</cp:lastPrinted>
  <dcterms:modified xsi:type="dcterms:W3CDTF">2014-12-31T04:48:11Z</dcterms:modified>
  <cp:revision>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