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B48E7-76DD-430C-919F-0613FB69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07853-F51F-49BE-81E3-E2D822C7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12B7D-B454-4EDA-8CFE-BC4550DF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D7FD5-D469-41FC-A37B-482DAE77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FD39D-7FE0-4492-8A68-66A77490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31BF0-EF9B-4830-B714-F9C15DA8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B0112-703B-4FE0-87FF-F5AE47E4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475EE-1CB7-4B65-BFDC-BC4B44B8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B9CD9-7318-412E-BA85-7AE6FF22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9FE17-192C-4180-BED6-D612DF06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A1A5B-E72D-4ECB-B638-40582F8B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EA4B3-C1C9-4ADE-B92A-32F18EA9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FDE0-2D1A-41BC-B622-E9C025FC5F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32D9-E318-4423-A60B-BAB79302A4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3499920"/>
            <a:ext cx="9144000" cy="1676880"/>
            <a:chOff x="0" y="3499920"/>
            <a:chExt cx="9144000" cy="1676880"/>
          </a:xfrm>
        </p:grpSpPr>
        <p:sp>
          <p:nvSpPr>
            <p:cNvPr id="81" name="Rectangle 3"/>
            <p:cNvSpPr/>
            <p:nvPr/>
          </p:nvSpPr>
          <p:spPr>
            <a:xfrm>
              <a:off x="0" y="3879720"/>
              <a:ext cx="9144000" cy="1297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5"/>
            <p:cNvSpPr/>
            <p:nvPr/>
          </p:nvSpPr>
          <p:spPr>
            <a:xfrm flipV="1">
              <a:off x="0" y="349920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1442880" y="5311800"/>
            <a:ext cx="6394680" cy="730080"/>
          </a:xfrm>
          <a:prstGeom prst="rect">
            <a:avLst/>
          </a:prstGeom>
          <a:ln w="0">
            <a:noFill/>
          </a:ln>
        </p:spPr>
      </p:pic>
      <p:sp>
        <p:nvSpPr>
          <p:cNvPr id="84" name="Freeform 22"/>
          <p:cNvSpPr/>
          <p:nvPr/>
        </p:nvSpPr>
        <p:spPr>
          <a:xfrm rot="13500000">
            <a:off x="2749320" y="3282840"/>
            <a:ext cx="2772000" cy="1933560"/>
          </a:xfrm>
          <a:custGeom>
            <a:avLst/>
            <a:gdLst>
              <a:gd name="textAreaLeft" fmla="*/ 0 w 2772000"/>
              <a:gd name="textAreaRight" fmla="*/ 2772360 w 2772000"/>
              <a:gd name="textAreaTop" fmla="*/ 0 h 1933560"/>
              <a:gd name="textAreaBottom" fmla="*/ 1933920 h 1933560"/>
            </a:gdLst>
            <a:ahLst/>
            <a:rect l="textAreaLeft" t="textAreaTop" r="textAreaRight" b="textAreaBottom"/>
            <a:pathLst>
              <a:path w="1104" h="1608">
                <a:moveTo>
                  <a:pt x="888" y="0"/>
                </a:moveTo>
                <a:cubicBezTo>
                  <a:pt x="184" y="0"/>
                  <a:pt x="184" y="0"/>
                  <a:pt x="184" y="0"/>
                </a:cubicBezTo>
                <a:cubicBezTo>
                  <a:pt x="184" y="0"/>
                  <a:pt x="0" y="40"/>
                  <a:pt x="0" y="200"/>
                </a:cubicBezTo>
                <a:cubicBezTo>
                  <a:pt x="0" y="360"/>
                  <a:pt x="8" y="952"/>
                  <a:pt x="8" y="952"/>
                </a:cubicBezTo>
                <a:cubicBezTo>
                  <a:pt x="8" y="952"/>
                  <a:pt x="48" y="1160"/>
                  <a:pt x="144" y="1240"/>
                </a:cubicBezTo>
                <a:cubicBezTo>
                  <a:pt x="436" y="1532"/>
                  <a:pt x="436" y="1532"/>
                  <a:pt x="436" y="1532"/>
                </a:cubicBezTo>
                <a:cubicBezTo>
                  <a:pt x="436" y="1532"/>
                  <a:pt x="576" y="1608"/>
                  <a:pt x="680" y="1520"/>
                </a:cubicBezTo>
                <a:cubicBezTo>
                  <a:pt x="960" y="1240"/>
                  <a:pt x="960" y="1240"/>
                  <a:pt x="960" y="1240"/>
                </a:cubicBezTo>
                <a:cubicBezTo>
                  <a:pt x="960" y="1240"/>
                  <a:pt x="1104" y="1072"/>
                  <a:pt x="1088" y="920"/>
                </a:cubicBezTo>
                <a:cubicBezTo>
                  <a:pt x="1064" y="128"/>
                  <a:pt x="1064" y="128"/>
                  <a:pt x="1064" y="128"/>
                </a:cubicBezTo>
                <a:cubicBezTo>
                  <a:pt x="1064" y="128"/>
                  <a:pt x="1056" y="24"/>
                  <a:pt x="888" y="0"/>
                </a:cubicBezTo>
                <a:close/>
              </a:path>
            </a:pathLst>
          </a:custGeom>
          <a:solidFill>
            <a:srgbClr val="b2cf7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1"/>
          <p:cNvSpPr/>
          <p:nvPr/>
        </p:nvSpPr>
        <p:spPr>
          <a:xfrm rot="2700000">
            <a:off x="4233600" y="1714680"/>
            <a:ext cx="1933560" cy="277164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2771640"/>
              <a:gd name="textAreaBottom" fmla="*/ 2772000 h 2771640"/>
            </a:gdLst>
            <a:ahLst/>
            <a:rect l="textAreaLeft" t="textAreaTop" r="textAreaRight" b="textAreaBottom"/>
            <a:pathLst>
              <a:path w="1104" h="1608">
                <a:moveTo>
                  <a:pt x="888" y="0"/>
                </a:moveTo>
                <a:cubicBezTo>
                  <a:pt x="184" y="0"/>
                  <a:pt x="184" y="0"/>
                  <a:pt x="184" y="0"/>
                </a:cubicBezTo>
                <a:cubicBezTo>
                  <a:pt x="184" y="0"/>
                  <a:pt x="0" y="40"/>
                  <a:pt x="0" y="200"/>
                </a:cubicBezTo>
                <a:cubicBezTo>
                  <a:pt x="0" y="360"/>
                  <a:pt x="8" y="952"/>
                  <a:pt x="8" y="952"/>
                </a:cubicBezTo>
                <a:cubicBezTo>
                  <a:pt x="8" y="952"/>
                  <a:pt x="48" y="1160"/>
                  <a:pt x="144" y="1240"/>
                </a:cubicBezTo>
                <a:cubicBezTo>
                  <a:pt x="436" y="1532"/>
                  <a:pt x="436" y="1532"/>
                  <a:pt x="436" y="1532"/>
                </a:cubicBezTo>
                <a:cubicBezTo>
                  <a:pt x="436" y="1532"/>
                  <a:pt x="576" y="1608"/>
                  <a:pt x="680" y="1520"/>
                </a:cubicBezTo>
                <a:cubicBezTo>
                  <a:pt x="960" y="1240"/>
                  <a:pt x="960" y="1240"/>
                  <a:pt x="960" y="1240"/>
                </a:cubicBezTo>
                <a:cubicBezTo>
                  <a:pt x="960" y="1240"/>
                  <a:pt x="1104" y="1072"/>
                  <a:pt x="1088" y="920"/>
                </a:cubicBezTo>
                <a:cubicBezTo>
                  <a:pt x="1064" y="128"/>
                  <a:pt x="1064" y="128"/>
                  <a:pt x="1064" y="128"/>
                </a:cubicBezTo>
                <a:cubicBezTo>
                  <a:pt x="1064" y="128"/>
                  <a:pt x="1056" y="24"/>
                  <a:pt x="888" y="0"/>
                </a:cubicBezTo>
                <a:close/>
              </a:path>
            </a:pathLst>
          </a:custGeom>
          <a:solidFill>
            <a:srgbClr val="6b9b1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8"/>
          <p:cNvSpPr/>
          <p:nvPr/>
        </p:nvSpPr>
        <p:spPr>
          <a:xfrm rot="18814200">
            <a:off x="3176640" y="1706040"/>
            <a:ext cx="1933560" cy="277164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2771640"/>
              <a:gd name="textAreaBottom" fmla="*/ 2772000 h 2771640"/>
            </a:gdLst>
            <a:ahLst/>
            <a:rect l="textAreaLeft" t="textAreaTop" r="textAreaRight" b="textAreaBottom"/>
            <a:pathLst>
              <a:path w="1104" h="1608">
                <a:moveTo>
                  <a:pt x="888" y="0"/>
                </a:moveTo>
                <a:cubicBezTo>
                  <a:pt x="184" y="0"/>
                  <a:pt x="184" y="0"/>
                  <a:pt x="184" y="0"/>
                </a:cubicBezTo>
                <a:cubicBezTo>
                  <a:pt x="184" y="0"/>
                  <a:pt x="0" y="40"/>
                  <a:pt x="0" y="200"/>
                </a:cubicBezTo>
                <a:cubicBezTo>
                  <a:pt x="0" y="360"/>
                  <a:pt x="8" y="952"/>
                  <a:pt x="8" y="952"/>
                </a:cubicBezTo>
                <a:cubicBezTo>
                  <a:pt x="8" y="952"/>
                  <a:pt x="48" y="1160"/>
                  <a:pt x="144" y="1240"/>
                </a:cubicBezTo>
                <a:cubicBezTo>
                  <a:pt x="436" y="1532"/>
                  <a:pt x="436" y="1532"/>
                  <a:pt x="436" y="1532"/>
                </a:cubicBezTo>
                <a:cubicBezTo>
                  <a:pt x="436" y="1532"/>
                  <a:pt x="576" y="1608"/>
                  <a:pt x="680" y="1520"/>
                </a:cubicBezTo>
                <a:cubicBezTo>
                  <a:pt x="960" y="1240"/>
                  <a:pt x="960" y="1240"/>
                  <a:pt x="960" y="1240"/>
                </a:cubicBezTo>
                <a:cubicBezTo>
                  <a:pt x="960" y="1240"/>
                  <a:pt x="1104" y="1072"/>
                  <a:pt x="1088" y="920"/>
                </a:cubicBezTo>
                <a:cubicBezTo>
                  <a:pt x="1064" y="128"/>
                  <a:pt x="1064" y="128"/>
                  <a:pt x="1064" y="128"/>
                </a:cubicBezTo>
                <a:cubicBezTo>
                  <a:pt x="1064" y="128"/>
                  <a:pt x="1056" y="24"/>
                  <a:pt x="888" y="0"/>
                </a:cubicBezTo>
                <a:close/>
              </a:path>
            </a:pathLst>
          </a:custGeom>
          <a:solidFill>
            <a:srgbClr val="4c7013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3"/>
          <p:cNvSpPr/>
          <p:nvPr/>
        </p:nvSpPr>
        <p:spPr>
          <a:xfrm rot="8182200">
            <a:off x="4242960" y="2857320"/>
            <a:ext cx="1932120" cy="2771640"/>
          </a:xfrm>
          <a:custGeom>
            <a:avLst/>
            <a:gdLst>
              <a:gd name="textAreaLeft" fmla="*/ 0 w 1932120"/>
              <a:gd name="textAreaRight" fmla="*/ 1932480 w 1932120"/>
              <a:gd name="textAreaTop" fmla="*/ 0 h 2771640"/>
              <a:gd name="textAreaBottom" fmla="*/ 2772000 h 2771640"/>
            </a:gdLst>
            <a:ahLst/>
            <a:rect l="textAreaLeft" t="textAreaTop" r="textAreaRight" b="textAreaBottom"/>
            <a:pathLst>
              <a:path w="1104" h="1608">
                <a:moveTo>
                  <a:pt x="888" y="0"/>
                </a:moveTo>
                <a:cubicBezTo>
                  <a:pt x="184" y="0"/>
                  <a:pt x="184" y="0"/>
                  <a:pt x="184" y="0"/>
                </a:cubicBezTo>
                <a:cubicBezTo>
                  <a:pt x="184" y="0"/>
                  <a:pt x="0" y="40"/>
                  <a:pt x="0" y="200"/>
                </a:cubicBezTo>
                <a:cubicBezTo>
                  <a:pt x="0" y="360"/>
                  <a:pt x="8" y="952"/>
                  <a:pt x="8" y="952"/>
                </a:cubicBezTo>
                <a:cubicBezTo>
                  <a:pt x="8" y="952"/>
                  <a:pt x="48" y="1160"/>
                  <a:pt x="144" y="1240"/>
                </a:cubicBezTo>
                <a:cubicBezTo>
                  <a:pt x="436" y="1532"/>
                  <a:pt x="436" y="1532"/>
                  <a:pt x="436" y="1532"/>
                </a:cubicBezTo>
                <a:cubicBezTo>
                  <a:pt x="436" y="1532"/>
                  <a:pt x="576" y="1608"/>
                  <a:pt x="680" y="1520"/>
                </a:cubicBezTo>
                <a:cubicBezTo>
                  <a:pt x="960" y="1240"/>
                  <a:pt x="960" y="1240"/>
                  <a:pt x="960" y="1240"/>
                </a:cubicBezTo>
                <a:cubicBezTo>
                  <a:pt x="960" y="1240"/>
                  <a:pt x="1104" y="1072"/>
                  <a:pt x="1088" y="920"/>
                </a:cubicBezTo>
                <a:cubicBezTo>
                  <a:pt x="1064" y="128"/>
                  <a:pt x="1064" y="128"/>
                  <a:pt x="1064" y="128"/>
                </a:cubicBezTo>
                <a:cubicBezTo>
                  <a:pt x="1064" y="128"/>
                  <a:pt x="1056" y="24"/>
                  <a:pt x="888" y="0"/>
                </a:cubicBezTo>
                <a:close/>
              </a:path>
            </a:pathLst>
          </a:custGeom>
          <a:solidFill>
            <a:srgbClr val="90ba45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5"/>
          <p:cNvSpPr/>
          <p:nvPr/>
        </p:nvSpPr>
        <p:spPr>
          <a:xfrm>
            <a:off x="4121280" y="3119400"/>
            <a:ext cx="1103040" cy="1104840"/>
          </a:xfrm>
          <a:custGeom>
            <a:avLst/>
            <a:gdLst>
              <a:gd name="textAreaLeft" fmla="*/ 53640 w 1103040"/>
              <a:gd name="textAreaRight" fmla="*/ 1049400 w 1103040"/>
              <a:gd name="textAreaTop" fmla="*/ 53640 h 1104840"/>
              <a:gd name="textAreaBottom" fmla="*/ 1051200 h 11048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b9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 rot="18676800">
            <a:off x="2633400" y="2243880"/>
            <a:ext cx="1706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 rot="2700000">
            <a:off x="4962240" y="2201040"/>
            <a:ext cx="1706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 rot="2700000">
            <a:off x="2880360" y="4421160"/>
            <a:ext cx="1704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 rot="19011000">
            <a:off x="5036400" y="4665240"/>
            <a:ext cx="1706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4167360" y="3386160"/>
            <a:ext cx="106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00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feld 7"/>
          <p:cNvSpPr/>
          <p:nvPr/>
        </p:nvSpPr>
        <p:spPr>
          <a:xfrm>
            <a:off x="252360" y="1746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6b9b1a"/>
                </a:solidFill>
                <a:latin typeface="Arial"/>
              </a:rPr>
              <a:t>VENN</a:t>
            </a:r>
            <a:r>
              <a:rPr b="0" lang="de-DE" sz="5400" spc="-1" strike="noStrike">
                <a:solidFill>
                  <a:srgbClr val="595959"/>
                </a:solidFill>
                <a:latin typeface="Arial"/>
              </a:rPr>
              <a:t>DIAGRAM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-360"/>
            <a:ext cx="9144000" cy="5948280"/>
            <a:chOff x="0" y="-360"/>
            <a:chExt cx="9144000" cy="5948280"/>
          </a:xfrm>
        </p:grpSpPr>
        <p:sp>
          <p:nvSpPr>
            <p:cNvPr id="96" name="Rectangle 2"/>
            <p:cNvSpPr/>
            <p:nvPr/>
          </p:nvSpPr>
          <p:spPr>
            <a:xfrm flipV="1">
              <a:off x="0" y="-720"/>
              <a:ext cx="9144000" cy="263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"/>
            <p:cNvSpPr/>
            <p:nvPr/>
          </p:nvSpPr>
          <p:spPr>
            <a:xfrm>
              <a:off x="0" y="2924280"/>
              <a:ext cx="9144000" cy="1473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 flipV="1">
              <a:off x="0" y="254376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 flipV="1">
              <a:off x="0" y="4383720"/>
              <a:ext cx="914400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2"/>
          <p:cNvSpPr/>
          <p:nvPr/>
        </p:nvSpPr>
        <p:spPr>
          <a:xfrm>
            <a:off x="20484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Venn Diagra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1442880" y="5311800"/>
            <a:ext cx="6394680" cy="73008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22"/>
          <p:cNvSpPr/>
          <p:nvPr/>
        </p:nvSpPr>
        <p:spPr>
          <a:xfrm rot="13500000">
            <a:off x="2749320" y="3282840"/>
            <a:ext cx="2772000" cy="1933560"/>
          </a:xfrm>
          <a:custGeom>
            <a:avLst/>
            <a:gdLst>
              <a:gd name="textAreaLeft" fmla="*/ 0 w 2772000"/>
              <a:gd name="textAreaRight" fmla="*/ 2772360 w 2772000"/>
              <a:gd name="textAreaTop" fmla="*/ 0 h 1933560"/>
              <a:gd name="textAreaBottom" fmla="*/ 1933920 h 1933560"/>
            </a:gdLst>
            <a:ahLst/>
            <a:rect l="textAreaLeft" t="textAreaTop" r="textAreaRight" b="textAreaBottom"/>
            <a:pathLst>
              <a:path w="1104" h="1608">
                <a:moveTo>
                  <a:pt x="888" y="0"/>
                </a:moveTo>
                <a:cubicBezTo>
                  <a:pt x="184" y="0"/>
                  <a:pt x="184" y="0"/>
                  <a:pt x="184" y="0"/>
                </a:cubicBezTo>
                <a:cubicBezTo>
                  <a:pt x="184" y="0"/>
                  <a:pt x="0" y="40"/>
                  <a:pt x="0" y="200"/>
                </a:cubicBezTo>
                <a:cubicBezTo>
                  <a:pt x="0" y="360"/>
                  <a:pt x="8" y="952"/>
                  <a:pt x="8" y="952"/>
                </a:cubicBezTo>
                <a:cubicBezTo>
                  <a:pt x="8" y="952"/>
                  <a:pt x="48" y="1160"/>
                  <a:pt x="144" y="1240"/>
                </a:cubicBezTo>
                <a:cubicBezTo>
                  <a:pt x="436" y="1532"/>
                  <a:pt x="436" y="1532"/>
                  <a:pt x="436" y="1532"/>
                </a:cubicBezTo>
                <a:cubicBezTo>
                  <a:pt x="436" y="1532"/>
                  <a:pt x="576" y="1608"/>
                  <a:pt x="680" y="1520"/>
                </a:cubicBezTo>
                <a:cubicBezTo>
                  <a:pt x="960" y="1240"/>
                  <a:pt x="960" y="1240"/>
                  <a:pt x="960" y="1240"/>
                </a:cubicBezTo>
                <a:cubicBezTo>
                  <a:pt x="960" y="1240"/>
                  <a:pt x="1104" y="1072"/>
                  <a:pt x="1088" y="920"/>
                </a:cubicBezTo>
                <a:cubicBezTo>
                  <a:pt x="1064" y="128"/>
                  <a:pt x="1064" y="128"/>
                  <a:pt x="1064" y="128"/>
                </a:cubicBezTo>
                <a:cubicBezTo>
                  <a:pt x="1064" y="128"/>
                  <a:pt x="1056" y="24"/>
                  <a:pt x="888" y="0"/>
                </a:cubicBezTo>
                <a:close/>
              </a:path>
            </a:pathLst>
          </a:custGeom>
          <a:solidFill>
            <a:srgbClr val="69a2e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1"/>
          <p:cNvSpPr/>
          <p:nvPr/>
        </p:nvSpPr>
        <p:spPr>
          <a:xfrm rot="2700000">
            <a:off x="4233600" y="1714680"/>
            <a:ext cx="1933560" cy="277164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2771640"/>
              <a:gd name="textAreaBottom" fmla="*/ 2772000 h 2771640"/>
            </a:gdLst>
            <a:ahLst/>
            <a:rect l="textAreaLeft" t="textAreaTop" r="textAreaRight" b="textAreaBottom"/>
            <a:pathLst>
              <a:path w="1104" h="1608">
                <a:moveTo>
                  <a:pt x="888" y="0"/>
                </a:moveTo>
                <a:cubicBezTo>
                  <a:pt x="184" y="0"/>
                  <a:pt x="184" y="0"/>
                  <a:pt x="184" y="0"/>
                </a:cubicBezTo>
                <a:cubicBezTo>
                  <a:pt x="184" y="0"/>
                  <a:pt x="0" y="40"/>
                  <a:pt x="0" y="200"/>
                </a:cubicBezTo>
                <a:cubicBezTo>
                  <a:pt x="0" y="360"/>
                  <a:pt x="8" y="952"/>
                  <a:pt x="8" y="952"/>
                </a:cubicBezTo>
                <a:cubicBezTo>
                  <a:pt x="8" y="952"/>
                  <a:pt x="48" y="1160"/>
                  <a:pt x="144" y="1240"/>
                </a:cubicBezTo>
                <a:cubicBezTo>
                  <a:pt x="436" y="1532"/>
                  <a:pt x="436" y="1532"/>
                  <a:pt x="436" y="1532"/>
                </a:cubicBezTo>
                <a:cubicBezTo>
                  <a:pt x="436" y="1532"/>
                  <a:pt x="576" y="1608"/>
                  <a:pt x="680" y="1520"/>
                </a:cubicBezTo>
                <a:cubicBezTo>
                  <a:pt x="960" y="1240"/>
                  <a:pt x="960" y="1240"/>
                  <a:pt x="960" y="1240"/>
                </a:cubicBezTo>
                <a:cubicBezTo>
                  <a:pt x="960" y="1240"/>
                  <a:pt x="1104" y="1072"/>
                  <a:pt x="1088" y="920"/>
                </a:cubicBezTo>
                <a:cubicBezTo>
                  <a:pt x="1064" y="128"/>
                  <a:pt x="1064" y="128"/>
                  <a:pt x="1064" y="128"/>
                </a:cubicBezTo>
                <a:cubicBezTo>
                  <a:pt x="1064" y="128"/>
                  <a:pt x="1056" y="24"/>
                  <a:pt x="888" y="0"/>
                </a:cubicBezTo>
                <a:close/>
              </a:path>
            </a:pathLst>
          </a:custGeom>
          <a:solidFill>
            <a:srgbClr val="0061b2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8"/>
          <p:cNvSpPr/>
          <p:nvPr/>
        </p:nvSpPr>
        <p:spPr>
          <a:xfrm rot="18814200">
            <a:off x="3176640" y="1706040"/>
            <a:ext cx="1933560" cy="277164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2771640"/>
              <a:gd name="textAreaBottom" fmla="*/ 2772000 h 2771640"/>
            </a:gdLst>
            <a:ahLst/>
            <a:rect l="textAreaLeft" t="textAreaTop" r="textAreaRight" b="textAreaBottom"/>
            <a:pathLst>
              <a:path w="1104" h="1608">
                <a:moveTo>
                  <a:pt x="888" y="0"/>
                </a:moveTo>
                <a:cubicBezTo>
                  <a:pt x="184" y="0"/>
                  <a:pt x="184" y="0"/>
                  <a:pt x="184" y="0"/>
                </a:cubicBezTo>
                <a:cubicBezTo>
                  <a:pt x="184" y="0"/>
                  <a:pt x="0" y="40"/>
                  <a:pt x="0" y="200"/>
                </a:cubicBezTo>
                <a:cubicBezTo>
                  <a:pt x="0" y="360"/>
                  <a:pt x="8" y="952"/>
                  <a:pt x="8" y="952"/>
                </a:cubicBezTo>
                <a:cubicBezTo>
                  <a:pt x="8" y="952"/>
                  <a:pt x="48" y="1160"/>
                  <a:pt x="144" y="1240"/>
                </a:cubicBezTo>
                <a:cubicBezTo>
                  <a:pt x="436" y="1532"/>
                  <a:pt x="436" y="1532"/>
                  <a:pt x="436" y="1532"/>
                </a:cubicBezTo>
                <a:cubicBezTo>
                  <a:pt x="436" y="1532"/>
                  <a:pt x="576" y="1608"/>
                  <a:pt x="680" y="1520"/>
                </a:cubicBezTo>
                <a:cubicBezTo>
                  <a:pt x="960" y="1240"/>
                  <a:pt x="960" y="1240"/>
                  <a:pt x="960" y="1240"/>
                </a:cubicBezTo>
                <a:cubicBezTo>
                  <a:pt x="960" y="1240"/>
                  <a:pt x="1104" y="1072"/>
                  <a:pt x="1088" y="920"/>
                </a:cubicBezTo>
                <a:cubicBezTo>
                  <a:pt x="1064" y="128"/>
                  <a:pt x="1064" y="128"/>
                  <a:pt x="1064" y="128"/>
                </a:cubicBezTo>
                <a:cubicBezTo>
                  <a:pt x="1064" y="128"/>
                  <a:pt x="1056" y="24"/>
                  <a:pt x="888" y="0"/>
                </a:cubicBezTo>
                <a:close/>
              </a:path>
            </a:pathLst>
          </a:custGeom>
          <a:solidFill>
            <a:srgbClr val="004074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3"/>
          <p:cNvSpPr/>
          <p:nvPr/>
        </p:nvSpPr>
        <p:spPr>
          <a:xfrm rot="8182200">
            <a:off x="4242960" y="2857320"/>
            <a:ext cx="1932120" cy="2771640"/>
          </a:xfrm>
          <a:custGeom>
            <a:avLst/>
            <a:gdLst>
              <a:gd name="textAreaLeft" fmla="*/ 0 w 1932120"/>
              <a:gd name="textAreaRight" fmla="*/ 1932480 w 1932120"/>
              <a:gd name="textAreaTop" fmla="*/ 0 h 2771640"/>
              <a:gd name="textAreaBottom" fmla="*/ 2772000 h 2771640"/>
            </a:gdLst>
            <a:ahLst/>
            <a:rect l="textAreaLeft" t="textAreaTop" r="textAreaRight" b="textAreaBottom"/>
            <a:pathLst>
              <a:path w="1104" h="1608">
                <a:moveTo>
                  <a:pt x="888" y="0"/>
                </a:moveTo>
                <a:cubicBezTo>
                  <a:pt x="184" y="0"/>
                  <a:pt x="184" y="0"/>
                  <a:pt x="184" y="0"/>
                </a:cubicBezTo>
                <a:cubicBezTo>
                  <a:pt x="184" y="0"/>
                  <a:pt x="0" y="40"/>
                  <a:pt x="0" y="200"/>
                </a:cubicBezTo>
                <a:cubicBezTo>
                  <a:pt x="0" y="360"/>
                  <a:pt x="8" y="952"/>
                  <a:pt x="8" y="952"/>
                </a:cubicBezTo>
                <a:cubicBezTo>
                  <a:pt x="8" y="952"/>
                  <a:pt x="48" y="1160"/>
                  <a:pt x="144" y="1240"/>
                </a:cubicBezTo>
                <a:cubicBezTo>
                  <a:pt x="436" y="1532"/>
                  <a:pt x="436" y="1532"/>
                  <a:pt x="436" y="1532"/>
                </a:cubicBezTo>
                <a:cubicBezTo>
                  <a:pt x="436" y="1532"/>
                  <a:pt x="576" y="1608"/>
                  <a:pt x="680" y="1520"/>
                </a:cubicBezTo>
                <a:cubicBezTo>
                  <a:pt x="960" y="1240"/>
                  <a:pt x="960" y="1240"/>
                  <a:pt x="960" y="1240"/>
                </a:cubicBezTo>
                <a:cubicBezTo>
                  <a:pt x="960" y="1240"/>
                  <a:pt x="1104" y="1072"/>
                  <a:pt x="1088" y="920"/>
                </a:cubicBezTo>
                <a:cubicBezTo>
                  <a:pt x="1064" y="128"/>
                  <a:pt x="1064" y="128"/>
                  <a:pt x="1064" y="128"/>
                </a:cubicBezTo>
                <a:cubicBezTo>
                  <a:pt x="1064" y="128"/>
                  <a:pt x="1056" y="24"/>
                  <a:pt x="888" y="0"/>
                </a:cubicBezTo>
                <a:close/>
              </a:path>
            </a:pathLst>
          </a:custGeom>
          <a:solidFill>
            <a:srgbClr val="2a79d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4121280" y="3119400"/>
            <a:ext cx="1103040" cy="1104840"/>
          </a:xfrm>
          <a:custGeom>
            <a:avLst/>
            <a:gdLst>
              <a:gd name="textAreaLeft" fmla="*/ 53640 w 1103040"/>
              <a:gd name="textAreaRight" fmla="*/ 1049400 w 1103040"/>
              <a:gd name="textAreaTop" fmla="*/ 53640 h 1104840"/>
              <a:gd name="textAreaBottom" fmla="*/ 1051200 h 11048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61b2"/>
              </a:gs>
              <a:gs pos="50000">
                <a:srgbClr val="285ea0"/>
              </a:gs>
              <a:gs pos="100000">
                <a:srgbClr val="0061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 rot="18676800">
            <a:off x="2633400" y="2243880"/>
            <a:ext cx="1706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 rot="2700000">
            <a:off x="4962240" y="2201040"/>
            <a:ext cx="1706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 rot="2700000">
            <a:off x="2880360" y="4421160"/>
            <a:ext cx="1704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 rot="19011000">
            <a:off x="5036400" y="4665240"/>
            <a:ext cx="1706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4167360" y="3386160"/>
            <a:ext cx="106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00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82692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1:39:15Z</dcterms:created>
  <dc:creator>Administrator</dc:creator>
  <dc:description/>
  <cp:keywords/>
  <dc:language>en-US</dc:language>
  <cp:lastModifiedBy>a</cp:lastModifiedBy>
  <dcterms:modified xsi:type="dcterms:W3CDTF">2014-05-29T01:13:5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