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FA2-C71E-44C4-9452-16A7AA03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C7F-B706-4AEB-A34E-9E64BBD9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5EF-71B3-495C-87A5-A6E19A14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EA4-B573-44BD-B311-EA62E5C3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1BD3-F641-49DC-947D-95F6A085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CD6B-B477-47F6-A074-A54057FC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BEEE-DE45-4D1E-822E-4C9A685C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B707-5CCD-4692-AD3E-03ECC624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E1DB-A03E-445F-88F4-64072DCD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1615-BF87-4400-9994-9F4EB9AC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780C-D783-49D6-8C41-291BB80B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60D-5E9D-488E-88DC-9A15AC65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FC50-C7E3-4F54-B2A9-5878804C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3085-1F30-4AA1-AAE9-66FD38AE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5966-A5D3-4196-AF12-F51D9255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66FB-3F74-480D-AD38-574E357B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3542-124B-4833-9303-BBB04EB5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81E4D-F3FC-4356-84DF-13E50C48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D836-A149-4475-B09F-AA90F553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304B1-A431-46BB-AB66-5038496C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F151-BE3E-434F-9447-7B418C90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A6F78-E5A9-4AC6-A4F3-51D65121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DB9-7F7D-4ED2-AB9F-0CFB627F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B1AF4-2969-4A55-A93A-7EB476A5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3C2BA-EF0D-48AF-9375-950CDAAF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E3E9-90D7-48A9-A82B-38A88972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8DABD-F7A1-48B1-8429-07BAB112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3EE2C-B917-48C6-94D8-8A5072BF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F9803-86AB-48DD-87A7-C200C96A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4B8AC-73A3-4970-A994-29F17DDB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DCB-6E5C-4BDC-91D6-83FA84BF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9D6-81B3-40F9-ADD1-6431DCB6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01D-79E6-495A-95C4-349C5DDB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DE4-DB1F-4F1D-AECF-B5E855BA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AA1-2384-4AAE-8305-F730944D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45A-C107-4405-835B-5515C9AE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37160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549840"/>
            <a:ext cx="2209680" cy="2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549840"/>
            <a:ext cx="2514600" cy="2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549840"/>
            <a:ext cx="2286000" cy="2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E3EC-53C6-45DA-A75C-FAA5D8409016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4920" y="137160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BC0B-BAB8-45FA-BD8D-2C0C1E28F3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49BA-7D75-4340-8B8F-B6A47A0A6F5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B05E-60C3-40A9-95E5-E634B35436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  <a:ea typeface="宋体"/>
              </a:rPr>
              <a:t>FULL CIRCL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宋体"/>
              </a:rPr>
              <a:t>YOUR TOPIC GOES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137160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  <a:ea typeface="宋体"/>
              </a:rPr>
              <a:t>YOUR TOPIC GOES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137160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cc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0720" y="2514240"/>
            <a:ext cx="7162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  <a:ea typeface="宋体"/>
              </a:rPr>
              <a:t>TRANSITIONAL PAG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Picture 6" descr="circles1"/>
          <p:cNvPicPr/>
          <p:nvPr/>
        </p:nvPicPr>
        <p:blipFill>
          <a:blip r:embed="rId2"/>
          <a:stretch/>
        </p:blipFill>
        <p:spPr>
          <a:xfrm>
            <a:off x="2209680" y="48769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ircles2"/>
          <p:cNvPicPr/>
          <p:nvPr/>
        </p:nvPicPr>
        <p:blipFill>
          <a:blip r:embed="rId3"/>
          <a:stretch/>
        </p:blipFill>
        <p:spPr>
          <a:xfrm>
            <a:off x="3886200" y="4876920"/>
            <a:ext cx="1486080" cy="1485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circles3"/>
          <p:cNvPicPr/>
          <p:nvPr/>
        </p:nvPicPr>
        <p:blipFill>
          <a:blip r:embed="rId4"/>
          <a:stretch/>
        </p:blipFill>
        <p:spPr>
          <a:xfrm>
            <a:off x="533520" y="4876920"/>
            <a:ext cx="14857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00200" y="763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elemen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3" name="Picture 6" descr="full_circle_prt"/>
          <p:cNvPicPr/>
          <p:nvPr/>
        </p:nvPicPr>
        <p:blipFill>
          <a:blip r:embed="rId1"/>
          <a:stretch/>
        </p:blipFill>
        <p:spPr>
          <a:xfrm>
            <a:off x="5715000" y="419112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34" name="Picture 7" descr="full_circle_qx"/>
          <p:cNvPicPr/>
          <p:nvPr/>
        </p:nvPicPr>
        <p:blipFill>
          <a:blip r:embed="rId2"/>
          <a:stretch/>
        </p:blipFill>
        <p:spPr>
          <a:xfrm>
            <a:off x="2133720" y="1371600"/>
            <a:ext cx="304776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35" name="Picture 8" descr="full_circle_sld"/>
          <p:cNvPicPr/>
          <p:nvPr/>
        </p:nvPicPr>
        <p:blipFill>
          <a:blip r:embed="rId3"/>
          <a:stretch/>
        </p:blipFill>
        <p:spPr>
          <a:xfrm>
            <a:off x="2133720" y="4191120"/>
            <a:ext cx="304776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36" name="Picture 9" descr="full_circle_trs"/>
          <p:cNvPicPr/>
          <p:nvPr/>
        </p:nvPicPr>
        <p:blipFill>
          <a:blip r:embed="rId4"/>
          <a:stretch/>
        </p:blipFill>
        <p:spPr>
          <a:xfrm>
            <a:off x="5715000" y="137160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37" name="Picture 10" descr="circles1"/>
          <p:cNvPicPr/>
          <p:nvPr/>
        </p:nvPicPr>
        <p:blipFill>
          <a:blip r:embed="rId5"/>
          <a:stretch/>
        </p:blipFill>
        <p:spPr>
          <a:xfrm>
            <a:off x="380880" y="5334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circles2"/>
          <p:cNvPicPr/>
          <p:nvPr/>
        </p:nvPicPr>
        <p:blipFill>
          <a:blip r:embed="rId6"/>
          <a:stretch/>
        </p:blipFill>
        <p:spPr>
          <a:xfrm>
            <a:off x="380880" y="3657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circles3"/>
          <p:cNvPicPr/>
          <p:nvPr/>
        </p:nvPicPr>
        <p:blipFill>
          <a:blip r:embed="rId7"/>
          <a:stretch/>
        </p:blipFill>
        <p:spPr>
          <a:xfrm>
            <a:off x="380880" y="1981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circles4"/>
          <p:cNvPicPr/>
          <p:nvPr/>
        </p:nvPicPr>
        <p:blipFill>
          <a:blip r:embed="rId8"/>
          <a:stretch/>
        </p:blipFill>
        <p:spPr>
          <a:xfrm>
            <a:off x="380880" y="304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828800" y="43434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2:14:01Z</dcterms:created>
  <dc:creator/>
  <dc:description/>
  <cp:keywords/>
  <dc:language>en-US</dc:language>
  <cp:lastModifiedBy>a</cp:lastModifiedBy>
  <dcterms:modified xsi:type="dcterms:W3CDTF">2014-05-27T01:14:42Z</dcterms:modified>
  <cp:revision>4</cp:revision>
  <dc:subject/>
  <dc:title>FULL CIRC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