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D75-5B7F-4AC8-8E73-B04FF6B3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ABBF-B244-4624-AAED-AA6B5976F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F906-3B92-447C-A4A4-18A925B83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2D37-3833-468C-9CD9-4D7ED12D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ED09-D1AE-4A00-81C0-920A24BF3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448B1-7698-4F1A-83A8-8A30D56A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D0D1-834C-4421-9D88-A5740DCE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9868-6A70-4CFB-8A3A-254835A4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BF02B-58A0-408C-B194-A79C77C2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C7D6-1143-4604-A2A6-D72345FB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33BF-18A7-4157-B074-47582CF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ECE-6AD9-4187-A776-258F4BE25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3BF5-5A2B-49D9-BB00-F79F6818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3FF0-CF86-4D51-B09F-D191D1D6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8B75D-4178-457A-AABC-19E7D514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A14D-64D3-4817-9924-4DA308758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3077-6347-4C56-8420-932731535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E02E2-B8D2-4790-8579-0842D6747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35EB1-2611-4316-91E1-9AA5CE69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79EE5-1160-46AD-83F4-36EB51C9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7B5EF-D1AC-4BB7-89A9-B1B056E7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3C27C-9221-46E0-8D54-C459F9FE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391-46D8-4A71-917D-B0D1D2E3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87F2D-563A-4A62-973F-3CF49B5F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DEB4E-8EF3-4F36-99DA-005CA6BF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EAA34-99FE-4FB5-884D-48C1634D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EB3B3-9F8C-47E5-9A86-C1F06F40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55067-0AC7-490F-BBAE-083B5C7D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61D8-0DFC-4E44-9BDC-8D61E6A8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5C68-F809-48D2-AE1B-AAEB3C7B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CB59-8BB9-424B-9B7D-EED1E56E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99AA-37FE-429F-BA7D-58693AC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A8F4-2D1D-4D10-9278-6AA60AD3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B96-EE33-4B59-93EC-77103044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6351-ECFB-4079-ADD7-EC071594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8484-D28F-4505-BA7A-421E4285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1928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3280" y="6244920"/>
            <a:ext cx="239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13080" y="6244920"/>
            <a:ext cx="266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244920"/>
            <a:ext cx="1954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4B9D8-ED22-47B5-83D6-C41B2D590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" name="Rectangle 28"/>
            <p:cNvSpPr/>
            <p:nvPr/>
          </p:nvSpPr>
          <p:spPr>
            <a:xfrm>
              <a:off x="0" y="0"/>
              <a:ext cx="9144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29"/>
            <p:cNvSpPr/>
            <p:nvPr/>
          </p:nvSpPr>
          <p:spPr>
            <a:xfrm rot="16200000">
              <a:off x="-3393720" y="3394080"/>
              <a:ext cx="6858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30"/>
            <p:cNvSpPr/>
            <p:nvPr/>
          </p:nvSpPr>
          <p:spPr>
            <a:xfrm rot="16200000">
              <a:off x="5680080" y="3394080"/>
              <a:ext cx="6858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31"/>
            <p:cNvSpPr/>
            <p:nvPr/>
          </p:nvSpPr>
          <p:spPr>
            <a:xfrm>
              <a:off x="0" y="6788160"/>
              <a:ext cx="9144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7" name="Rectangle 8"/>
            <p:cNvSpPr/>
            <p:nvPr/>
          </p:nvSpPr>
          <p:spPr>
            <a:xfrm>
              <a:off x="0" y="0"/>
              <a:ext cx="9144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 rot="16200000">
              <a:off x="-3393720" y="3394080"/>
              <a:ext cx="6858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1"/>
            <p:cNvSpPr/>
            <p:nvPr/>
          </p:nvSpPr>
          <p:spPr>
            <a:xfrm rot="16200000">
              <a:off x="5680080" y="3394080"/>
              <a:ext cx="6858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20"/>
            <p:cNvSpPr/>
            <p:nvPr/>
          </p:nvSpPr>
          <p:spPr>
            <a:xfrm>
              <a:off x="0" y="6788160"/>
              <a:ext cx="9144000" cy="6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61928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62C0-2E7B-40F6-B694-CB6E750C21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532B-821A-43DF-BBEE-41694FC0273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33A6-3FD5-4C4F-A000-E7646B6522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393372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网络黑客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61928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619280" y="115920"/>
            <a:ext cx="734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619280" y="981000"/>
            <a:ext cx="7345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3:07:41Z</dcterms:created>
  <dc:creator>Y PC</dc:creator>
  <dc:description/>
  <dc:language>en-US</dc:language>
  <cp:lastModifiedBy>a</cp:lastModifiedBy>
  <dcterms:modified xsi:type="dcterms:W3CDTF">2014-12-26T02:36:49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