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4D1-0D65-40AC-8FD5-9742BAAB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97D-7C69-462F-AAB8-380C123C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A98-B7D9-4F3A-A359-48E7127B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451-853A-4349-A9EC-098896B2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7F14-F237-4BAE-8E37-26A0A74E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373D-44D4-44A0-93ED-13F00E5C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4B3B-2E3A-49E9-993A-4E21A166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CC86-93CD-4159-AA8A-0E8548CB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9D8E-F06A-4EB0-B714-A3510AF6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C08C-AC42-44AE-A505-C956FA13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5BFB-B85E-4DBE-8FF4-AF906931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1BB-65C2-4933-91AA-75F88ED2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49C8-4A27-4462-9064-8D6C420B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8608-B5C3-4C19-BB0B-6CB3D848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9AF6-B626-4BD6-B02B-EFCB9E7E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6847-4AE5-4AE1-81E3-19CD270D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EE2C-A19B-4E32-9DF9-D6EA4845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9D8D0-4AD5-4FBB-90FB-79939BC4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1B30-1D11-4817-A5C8-E53CE436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E283-42AC-495D-A9AE-99DE1E9A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3733-D6C0-48AA-B18F-774AE039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D876-E2D6-4740-9E1D-FB667076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FBF-1B43-4887-94A3-4FB1EEC9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8D14-B554-4F00-975C-35007501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94EC-3A9A-4934-A101-146712EA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43882-C39A-4A9E-9ECA-DD7A6A03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565A-D95C-464C-A308-01E2B220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49C7D-6612-4A6D-9F57-89EFFC9B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E01F-C2C0-4D20-AC61-6F0C992A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E8C2-E6C7-4F44-82D7-9C05E14C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5E9-F7F5-4DA5-B9BC-322E3E42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0B0-090E-4018-9133-09255853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B4D-146E-42B8-BED4-BC8FAFFD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282-95AD-4D25-80BF-064EC37D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E39-D336-48A1-B828-D7D310F8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9D2-639D-4A9E-8269-6A149451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606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0606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2025-07F4-4C64-BFFD-574FF46A36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7546-9095-40C2-9636-396929034D3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F1B0-F667-4986-833B-AFE17CFB7D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606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0606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94A5-42F7-4545-B981-E8AD3A1587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6063"/>
                </a:solidFill>
                <a:latin typeface="Times New Roman"/>
                <a:ea typeface="宋体"/>
              </a:rPr>
              <a:t>网球运动</a:t>
            </a:r>
            <a:r>
              <a:rPr b="0" lang="en-US" sz="4400" spc="-1" strike="noStrike">
                <a:solidFill>
                  <a:srgbClr val="c06063"/>
                </a:solidFill>
                <a:latin typeface="Times New Roman"/>
                <a:ea typeface="宋体"/>
              </a:rPr>
              <a:t>PPT</a:t>
            </a:r>
            <a:r>
              <a:rPr b="0" lang="en-US" sz="4400" spc="-1" strike="noStrike">
                <a:solidFill>
                  <a:srgbClr val="c06063"/>
                </a:solidFill>
                <a:latin typeface="Times New Roman"/>
                <a:ea typeface="宋体"/>
              </a:rPr>
              <a:t>模板</a:t>
            </a:r>
            <a:endParaRPr b="0" lang="en-US" sz="4400" spc="-1" strike="noStrike">
              <a:solidFill>
                <a:srgbClr val="c0606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440" y="35812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6063"/>
              </a:solidFill>
              <a:latin typeface="Times New Roman"/>
              <a:ea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6063"/>
              </a:solidFill>
              <a:latin typeface="Times New Roman"/>
              <a:ea typeface="宋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aeaea"/>
              </a:solidFill>
              <a:latin typeface="Eurostile"/>
              <a:ea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19640" y="12697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2" name="Picture 4" descr="tennis_outline_prt"/>
          <p:cNvPicPr/>
          <p:nvPr/>
        </p:nvPicPr>
        <p:blipFill>
          <a:blip r:embed="rId1"/>
          <a:stretch/>
        </p:blipFill>
        <p:spPr>
          <a:xfrm>
            <a:off x="6477120" y="4667400"/>
            <a:ext cx="236196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3" name="Picture 5" descr="tennis_outline_qx"/>
          <p:cNvPicPr/>
          <p:nvPr/>
        </p:nvPicPr>
        <p:blipFill>
          <a:blip r:embed="rId2"/>
          <a:stretch/>
        </p:blipFill>
        <p:spPr>
          <a:xfrm>
            <a:off x="3657600" y="2381400"/>
            <a:ext cx="236232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6" descr="tennis_outline_sld"/>
          <p:cNvPicPr/>
          <p:nvPr/>
        </p:nvPicPr>
        <p:blipFill>
          <a:blip r:embed="rId3"/>
          <a:stretch/>
        </p:blipFill>
        <p:spPr>
          <a:xfrm>
            <a:off x="3657600" y="4667400"/>
            <a:ext cx="236232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Picture 7" descr="tennis_outline_trs"/>
          <p:cNvPicPr/>
          <p:nvPr/>
        </p:nvPicPr>
        <p:blipFill>
          <a:blip r:embed="rId4"/>
          <a:stretch/>
        </p:blipFill>
        <p:spPr>
          <a:xfrm>
            <a:off x="6477120" y="2381400"/>
            <a:ext cx="236196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Picture 8" descr="outline"/>
          <p:cNvPicPr/>
          <p:nvPr/>
        </p:nvPicPr>
        <p:blipFill>
          <a:blip r:embed="rId5"/>
          <a:stretch/>
        </p:blipFill>
        <p:spPr>
          <a:xfrm>
            <a:off x="228600" y="2590920"/>
            <a:ext cx="3203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8:49:20Z</dcterms:created>
  <dc:creator>yang</dc:creator>
  <dc:description/>
  <dc:language>en-US</dc:language>
  <cp:lastModifiedBy>a</cp:lastModifiedBy>
  <dcterms:modified xsi:type="dcterms:W3CDTF">2014-12-15T17:47:03Z</dcterms:modified>
  <cp:revision>2</cp:revision>
  <dc:subject/>
  <dc:title>TENNIS OUT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