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61B-5D0F-4EC8-92B8-29CFE230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5CB-996E-4F90-ABE4-02FB4DAB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F539E-6577-45A4-85FA-1E7E7E30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22C78-94A0-4ECC-903D-5AD43C5B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17809-779E-4BD0-B4CD-1FBE4A7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6D827-0B6C-46E0-954B-394AA42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E7FF9-DE33-4465-8539-D58308C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F3A97-895E-41F6-9B52-2EDB99D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B262-A4A4-4243-8EE5-D5234A5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B5D2-CEE8-4BFF-8F52-780D6BBD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11C54-98CB-42A5-AEB4-90EE7DDF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421DD-2368-458E-8AF0-C775CCA0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966-13EA-4CB2-8038-002C781E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81C7E-65AB-4361-A8DD-09A8D4CE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BA72A-0F24-401E-AEC1-F34E4850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A2A16-9215-4BF5-B89C-DAF2531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63F99-F4BC-4E84-B2BA-7225F79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D5FF8-2B72-4CB5-B748-92A7A5B2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9086-2981-4D32-930D-4EAD864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DEDDF-C0E6-4A69-B8CF-EC6E871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38301-5EB7-474A-B94C-0C6D729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9F3AF-45BF-4364-A71F-0C5DA081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A76EA-46D7-4733-9F1E-6FC247F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D79-7579-4A16-AD74-C8C06892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A503C-C924-4344-A4B3-119B767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13F0A-BFC6-4C45-A0EF-CDA6FE23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B1634-5F88-4322-9E25-26D4187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6618D-F831-4C5A-8B57-70E9DAC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B11E0-9392-4598-B8DD-721C6AE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834E-8C78-432E-AA17-07C2BB9A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B147-DFDF-4970-857D-556DB295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96FB6-F1D8-4A6D-A68D-A2B34B2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D2A8-D736-46CF-B422-3E7324C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1897-E6E2-458B-BB70-B1EFDE0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04B2-F14F-4306-B991-FF1FFC4C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0B8F9-C02D-42F3-84FB-4ECFB24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DAE1E-D44A-4A77-ACD2-DBAA81F0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234C9-F636-4558-907E-B32FE4F8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DF9AA-513A-4BD8-A510-05CD3581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4C85-A3E0-4816-AA62-ECA8FA9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37BD7-F599-4740-9460-EA314221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CE925-6EFA-48C6-9F01-B7EF352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75F0-93E9-4519-95C6-B4F2253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37A7-01C1-4E23-9CA1-FD5779E2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9497F-700A-45C4-B6D2-2DBBB30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02E-7217-410C-A58F-9804F5E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0CAE4-4BFD-461D-A2C5-415C5E4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899CF-723E-47E0-B44C-95515A0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AAC9-BA73-4194-AD9D-C22651E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54374-F67C-44E0-BCE3-76850953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FD6C8-F12F-4AD1-A73C-BBDCA8B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055F0-EF8D-4931-B669-9C31D8D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10A2A-40A7-464D-B8DF-6B562FB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98E80-F1C9-4CA7-BB37-1AB9CAA6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3DCC4-63DA-4C45-A29B-E8FE483F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04E17-7B79-493A-AF5A-82F84316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7271-00EC-4997-8AA1-21461B5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6477C-D52C-4194-A4C2-D204876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1D393-399D-470D-802E-72BBC774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127CB-5074-4CE5-AC31-D723DB2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30703-CAF3-474A-8686-AAE4F4A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6E72F-DC43-43C0-B59E-282859F2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891A5-C3B6-49FE-9ED8-088BA424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3B38C-B8FD-4727-8AA7-DA7DF4D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0F28-D689-46F1-8242-4AF6D27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F9CE-580E-4745-BDD4-0FCBF387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5412-DC5F-4B3E-BDAA-68F72A9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EDF3-602B-4741-B5FF-3E5FE43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826-0ACD-4D4C-8C86-6D9D291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66FE-E947-4FFA-94E3-6CFB3D5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1318-FF8B-4D48-B84F-FF07B1E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F3B0-78D5-4081-B295-38275759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E9D-604F-4780-9589-896A0D75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5C3C-CBF3-4AED-8E7D-EDAB84AC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0763-3A0C-4459-8919-0A71B953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9835-AFC5-4377-A245-2BDB3FD5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40C8-2668-40E7-84E5-846D6D07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0D8E-7720-4924-A5C1-5EFCC57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18CF-E1A6-4E58-AEAE-6542F1FD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654-4EB3-47A1-935A-C5901DF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6FEF-4214-49B5-A137-86632AE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321D-ED5B-4910-B449-34660CD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A3B8-77D6-4DDD-9ED1-0A565D8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3009-9AEF-4F5A-BD5F-B8B9C85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2811-8AC2-466D-811C-0CA40627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FA47-EDF5-417B-A3B6-0702704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2778-DD50-4950-BB60-E0BB002D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31E2-1E03-452B-8641-1CD3B4D2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88B9-27C4-4B64-8833-62E8875D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DD0C-D4A2-4D17-950F-22E14DC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091-5FBC-4A59-B99A-C7AB428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D0D5-723A-42A2-8B29-D8EBD79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87F1-9F9F-460E-90A9-DFE238DD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8529-E849-4127-AE09-AFD448B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FCA6-7B55-467F-A0BE-3CEDB6D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62D9-FF49-4522-BF40-1A41F64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785E-AC1F-4377-8ABF-86DE491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851B-050C-4BBD-8F40-BDEAF9C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E90D-FC04-44DF-A34F-3E225B09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45CD-C62B-4EA5-B1DD-83E43EEC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9371-2358-46F4-821A-53C69FA4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287-8502-4557-9E8D-7158496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27EB-2DDB-4E2D-824E-F533881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D838-55D8-4883-B30A-D6E0B721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FD33-C410-47D6-A914-4F7223E4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10347-18C5-4D57-B78F-5081619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F5A9-C700-425C-A6CF-1FEBA36B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BBDA-BF87-432D-B848-C7FCDB7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07C0-88C4-4EA0-9772-86D751C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90B6-3A0E-423C-93AA-D71B11B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B31A-2F4A-4FFB-ADA0-1905F152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3AB1B-C584-4E01-928D-53BCB004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433-5730-44E6-B75A-6CEF3F9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4117-9334-4207-8038-2D1CA467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268F-6D0A-4851-A02F-E42389A9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BFDE-0046-42CB-947F-EBC44EC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A30E5-6F41-4BCF-A60B-A2FBD148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0831-35EE-4C33-820C-BB5AFB5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6163-A224-403F-9EF7-2F35C4ED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7ED2-325C-451C-8A6B-9E42BE4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C9D6-84E1-4C67-89B2-5AFADA2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15DD4-2829-425A-A77E-291373C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BF25-1D27-4319-934F-A095123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AF5-C6BB-4A7E-A377-E15BA2F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C5F6-062D-4D4F-951F-D5D2D96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EC1E-57E9-4D63-B53B-D810FF13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3E05-5C24-4C45-9258-91A38A1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2ADD-55D6-454B-BFE0-270186E6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07A3D-F211-4EA0-9025-4285FB3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C6C8-089A-4116-B4AD-166F26E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D92F-C040-4201-864E-305EA61C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4564-9491-4712-92F0-A5B1A8A5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FAE6-A106-4D14-8E09-B3034BB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6972-CE1D-45A7-8F56-2CFF027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597-A21D-456A-A357-8995EA1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F82C-56C4-4E96-819B-24CECE6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65110-7299-4F5B-9B0C-151F73D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F4DF-4C3D-4A2B-9892-42A3AC5E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A6F3F-D763-4617-B3C2-186F4315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7FC4-C797-4AC0-B998-E391B4A9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E3425-461D-480C-9D37-E2FEF044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0A790-CD53-434C-BB7A-35223FA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37354-ADDA-4C87-A252-509B655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3709-72D7-4C78-829F-59A4AB0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B859A-7425-427B-A4AC-D920671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488-2672-4CFC-9697-0954462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E780-3B67-4A89-B43A-BFDEE7D9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4DBE-44C8-49B9-930B-7C5E675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F8E9E-E0B1-4482-A8D7-FCE2D155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1443-FAAA-4DA8-8EC7-EA5D70F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DD6B5-D187-4220-9210-72CC421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FD52-2F4D-449D-B25E-6A7164A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A23D-67BD-49AF-9648-29C631C4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6D81E-5C46-463A-9374-1986895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36E10-2F08-45F7-9DC6-19B42A99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5E015-5E0E-4076-8619-5E85E5F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17FE-9BB2-46FF-8BF7-B31DC60DF8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55A-49C9-4F31-B955-F729AB1C301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4CC0-C990-43E3-8AFF-D7C092BEC09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E8A-61A3-4051-9FE6-9822D89A178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63E8-79B9-4730-86D8-8DE23867148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A57-7AF6-4EC8-B7A7-22E4FEA37A0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4787-3940-4792-9B91-62A95964532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EF4-708B-4684-BC3A-57D6495BF63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3018-93AF-44E2-BE12-8D5C53C4907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9D2A-D032-429F-8909-ED22FE4473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490-74CD-4A22-9DA4-53DE5B7EC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116-4324-4E68-B437-0D389261DAB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15D-A4BE-47DE-887E-AE5A9502277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B61F-BA04-4F1E-853E-B29A6B71DB0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596-725B-4BBE-A6DA-F705646CCBF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D14-20F6-4177-B890-DEF4974F51D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B0C-A4C8-4F9E-9672-C616ADF6962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2DD-7714-4493-933C-9F4E88F404F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49C-B01B-4C7C-A484-54528E90A55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B933-B4D2-4BD8-B654-5CEDE1318F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EFF-2552-4B90-9990-3AAAAB05755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9A57-62B8-4F04-9410-27462CA3410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A9A-9CEB-4D60-8E0D-44FDDC9C549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CFFD-4DDA-4B2F-9EF7-724B225CEB2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DC1-EF68-4A88-BCCD-52E2C45F060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重要提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543000" y="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公众沟通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---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523880" y="4343400"/>
            <a:ext cx="205740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4000" rIns="504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技法概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3352680" y="1295280"/>
            <a:ext cx="221004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288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沟通分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5334120" y="4343400"/>
            <a:ext cx="198108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36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拟训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5334120" y="3657600"/>
            <a:ext cx="761760" cy="6094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 flipH="1">
            <a:off x="2743200" y="3657600"/>
            <a:ext cx="838080" cy="6094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2"/>
          <p:cNvSpPr/>
          <p:nvPr/>
        </p:nvSpPr>
        <p:spPr>
          <a:xfrm flipV="1">
            <a:off x="4495680" y="2057400"/>
            <a:ext cx="0" cy="8380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3581280" y="2971800"/>
            <a:ext cx="1752840" cy="686880"/>
          </a:xfrm>
          <a:prstGeom prst="rect">
            <a:avLst/>
          </a:prstGeom>
          <a:gradFill rotWithShape="0">
            <a:gsLst>
              <a:gs pos="0">
                <a:srgbClr val="fedc98"/>
              </a:gs>
              <a:gs pos="50000">
                <a:srgbClr val="ffffff"/>
              </a:gs>
              <a:gs pos="100000">
                <a:srgbClr val="fedc9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书沟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三种类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6667920" y="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技法概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8440" y="3816360"/>
            <a:ext cx="1239840" cy="60372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写完后重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858960" y="4654440"/>
            <a:ext cx="2133360" cy="60372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修改文书，大胆删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1392120" y="2666880"/>
            <a:ext cx="1371600" cy="60372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一口气写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1239840" y="914400"/>
            <a:ext cx="1828800" cy="603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50000">
                <a:srgbClr val="ffffff"/>
              </a:gs>
              <a:gs pos="100000">
                <a:srgbClr val="fee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整理写作思路，考虑文书内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1"/>
          <p:cNvSpPr/>
          <p:nvPr/>
        </p:nvSpPr>
        <p:spPr>
          <a:xfrm>
            <a:off x="2001960" y="19051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2"/>
          <p:cNvSpPr/>
          <p:nvPr/>
        </p:nvSpPr>
        <p:spPr>
          <a:xfrm>
            <a:off x="2001960" y="33526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2920" bIns="142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2001960" y="44258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2001960" y="52642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762120" y="5568840"/>
            <a:ext cx="2154240" cy="603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50000">
                <a:srgbClr val="ffffff"/>
              </a:gs>
              <a:gs pos="100000">
                <a:srgbClr val="fee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检查细节，确认无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693800" y="289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温写作过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3602160" y="9144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Webdings"/>
                <a:ea typeface="Webdings"/>
              </a:rPr>
              <a:t>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准备准备再准备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5506920" y="879480"/>
            <a:ext cx="320040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目标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:who,what,wh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提纲：结构、策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整理：信息、需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360216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Webdings"/>
                <a:ea typeface="Webdings"/>
              </a:rPr>
              <a:t>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3756960" y="457200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Webdings"/>
                <a:ea typeface="Webdings"/>
              </a:rPr>
              <a:t>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检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1"/>
          <p:cNvSpPr/>
          <p:nvPr/>
        </p:nvSpPr>
        <p:spPr>
          <a:xfrm>
            <a:off x="2992320" y="-2519640"/>
            <a:ext cx="609840" cy="14723280"/>
          </a:xfrm>
          <a:custGeom>
            <a:avLst/>
            <a:gdLst>
              <a:gd name="textAreaLeft" fmla="*/ 0 w 609840"/>
              <a:gd name="textAreaRight" fmla="*/ 220320 w 609840"/>
              <a:gd name="textAreaTop" fmla="*/ 0 h 14723280"/>
              <a:gd name="textAreaBottom" fmla="*/ 14723640 h 1472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cc00"/>
            </a:solidFill>
            <a:miter/>
          </a:ln>
          <a:effectLst>
            <a:outerShdw dist="17819" dir="2700000" blurRad="0" rotWithShape="0">
              <a:srgbClr val="7a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edd8c"/>
                </a:solidFill>
                <a:latin typeface="Arial Black"/>
              </a:rPr>
              <a:t>         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22"/>
          <p:cNvSpPr/>
          <p:nvPr/>
        </p:nvSpPr>
        <p:spPr>
          <a:xfrm>
            <a:off x="3144960" y="1295280"/>
            <a:ext cx="457200" cy="1584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23"/>
          <p:cNvSpPr/>
          <p:nvPr/>
        </p:nvSpPr>
        <p:spPr>
          <a:xfrm flipV="1">
            <a:off x="4592520" y="1295280"/>
            <a:ext cx="685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24"/>
          <p:cNvSpPr/>
          <p:nvPr/>
        </p:nvSpPr>
        <p:spPr>
          <a:xfrm>
            <a:off x="2916360" y="2895480"/>
            <a:ext cx="685800" cy="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5583240" y="2847960"/>
            <a:ext cx="32004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肯定、否定、指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26"/>
          <p:cNvSpPr/>
          <p:nvPr/>
        </p:nvSpPr>
        <p:spPr>
          <a:xfrm>
            <a:off x="45925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7"/>
          <p:cNvSpPr/>
          <p:nvPr/>
        </p:nvSpPr>
        <p:spPr>
          <a:xfrm>
            <a:off x="4592520" y="4800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8"/>
          <p:cNvSpPr/>
          <p:nvPr/>
        </p:nvSpPr>
        <p:spPr>
          <a:xfrm>
            <a:off x="5430960" y="4038480"/>
            <a:ext cx="342900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删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关信息、大幅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注意错误：语法、拼写、描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细节：标点、日期、称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技法概要总结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6667920" y="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技法概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09480" y="685800"/>
          <a:ext cx="815364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6390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作方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1eeff"/>
                    </a:solidFill>
                  </a:tcPr>
                </a:tc>
              </a:tr>
            </a:tbl>
          </a:graphicData>
        </a:graphic>
      </p:graphicFrame>
      <p:sp>
        <p:nvSpPr>
          <p:cNvPr id="681" name="Text Box 24"/>
          <p:cNvSpPr/>
          <p:nvPr/>
        </p:nvSpPr>
        <p:spPr>
          <a:xfrm>
            <a:off x="76212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肯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同意某种请示，提供一个机会，或者是一些好消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5"/>
          <p:cNvSpPr/>
          <p:nvPr/>
        </p:nvSpPr>
        <p:spPr>
          <a:xfrm>
            <a:off x="3276720" y="1447920"/>
            <a:ext cx="533376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直截了当地给接受者好消息，使之高兴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解释这个好消息，消除接收者可能产生的疑问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用好祝愿来结束文书，使受信人知道，你在分享他的愉快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26"/>
          <p:cNvSpPr/>
          <p:nvPr/>
        </p:nvSpPr>
        <p:spPr>
          <a:xfrm>
            <a:off x="762120" y="3124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否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要求的一种否定，或者是一个坏消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27"/>
          <p:cNvSpPr/>
          <p:nvPr/>
        </p:nvSpPr>
        <p:spPr>
          <a:xfrm>
            <a:off x="3124080" y="2819520"/>
            <a:ext cx="5639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开始以自然渐进的方式叙述，为受信人接受坏消息先行铺垫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给出坏消息之前给出一些背景方面的信息，进行暗示，使之有思想准备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给出坏消息，要清楚、准确。不能使人产生误解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用良好的祝愿结束，不要为坏消息做任何辩解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8"/>
          <p:cNvSpPr/>
          <p:nvPr/>
        </p:nvSpPr>
        <p:spPr>
          <a:xfrm>
            <a:off x="685800" y="4572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指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指示他人进行某项工作，开展某些活动，同意你的见解或提供你的信息等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29"/>
          <p:cNvSpPr/>
          <p:nvPr/>
        </p:nvSpPr>
        <p:spPr>
          <a:xfrm>
            <a:off x="3200400" y="4614840"/>
            <a:ext cx="55627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开头对受信人应具有吸引力，要生动，使人产生兴趣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表述事实，要求或建议。当这些与某种利益相关时，使受信者屈从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清楚地指示受信者如何去做，鼓励克服困难，尽快完成任务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模拟练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6667920" y="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技法概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295280" y="838080"/>
          <a:ext cx="7010640" cy="5257800"/>
        </p:xfrm>
        <a:graphic>
          <a:graphicData uri="http://schemas.openxmlformats.org/drawingml/2006/table">
            <a:tbl>
              <a:tblPr/>
              <a:tblGrid>
                <a:gridCol w="3429000"/>
                <a:gridCol w="3581640"/>
              </a:tblGrid>
              <a:tr h="26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cfdf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ef3"/>
                    </a:solidFill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3" name="Text Box 17"/>
          <p:cNvSpPr/>
          <p:nvPr/>
        </p:nvSpPr>
        <p:spPr>
          <a:xfrm>
            <a:off x="1447920" y="1143000"/>
            <a:ext cx="3124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写作准备阶段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思考：写给谁？写什么？为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提纲：主要点，使用索引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整理：按逻辑排列各要点的位置，去掉无关信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1371600" y="3733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9933"/>
                </a:solidFill>
                <a:latin typeface="Times New Roman"/>
              </a:rPr>
              <a:t>． 检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表述准确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有不适当的描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否文法、文字上的错误。关的和重复的内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4952880" y="990720"/>
            <a:ext cx="327672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9933"/>
                </a:solidFill>
                <a:latin typeface="宋体"/>
              </a:rPr>
              <a:t>．写作过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文字沟通有三种主要类型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肯定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直接给出好的消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解释好消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用好的祝愿结束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否定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缓冲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式的自然叙述开头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在给出坏消息之前加以解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告诉坏消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如果可能，建议某些可能的选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用好的祝愿结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指示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以一种具有吸引受信人注意力的叙述开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表述建议或要求，及可能的利益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清楚地指示受信者应如何去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鼓励克服困难，尽早完成工作。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创建文字沟通分析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6661440" y="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模拟练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3352680" y="3809880"/>
            <a:ext cx="152424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沟通联络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3200400" y="1295280"/>
            <a:ext cx="259092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创建文字沟通分析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3352680" y="2590920"/>
            <a:ext cx="167652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封拒绝的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8088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一封拒绝的信（钉书机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990720" y="990720"/>
          <a:ext cx="7315200" cy="318456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066680"/>
                <a:gridCol w="1067040"/>
                <a:gridCol w="1066680"/>
                <a:gridCol w="990720"/>
                <a:gridCol w="91440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要受信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肯定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否定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指示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接写的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回复的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信人重要度排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给受信人的困难程度排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以何种注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备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Text Box 48"/>
          <p:cNvSpPr/>
          <p:nvPr/>
        </p:nvSpPr>
        <p:spPr>
          <a:xfrm>
            <a:off x="3944160" y="441360"/>
            <a:ext cx="1247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沟通分析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49"/>
          <p:cNvSpPr/>
          <p:nvPr/>
        </p:nvSpPr>
        <p:spPr>
          <a:xfrm>
            <a:off x="914400" y="4537080"/>
            <a:ext cx="7620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填写时，把精力集中在最常用的文字沟通材料上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信件、便条、备忘录等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练习时至少填写三个主要受信人，现实工作中要填写所有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钟独自填写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50"/>
          <p:cNvSpPr/>
          <p:nvPr/>
        </p:nvSpPr>
        <p:spPr>
          <a:xfrm>
            <a:off x="1884600" y="5486400"/>
            <a:ext cx="3422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填写完毕后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钟在组内交换该分析表，可以讨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2218320" y="5867280"/>
            <a:ext cx="4021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问题：填完表后，你发现了什么？交换表后，你又发现了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2"/>
          <p:cNvSpPr/>
          <p:nvPr/>
        </p:nvSpPr>
        <p:spPr>
          <a:xfrm>
            <a:off x="5947560" y="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文字沟通分析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研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612936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一封拒绝的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914400" y="533520"/>
            <a:ext cx="75121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练习背景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是一名行政主管，收到了一位骨干员工的来信，他提出脱产进修的要求，（内容见后） 而你必须写一封复信，信中你要拒绝他的要求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每个人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写完这封信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请注意“准备、写作和检查”三步骤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914400" y="2362320"/>
            <a:ext cx="7620120" cy="3593160"/>
          </a:xfrm>
          <a:prstGeom prst="rect">
            <a:avLst/>
          </a:prstGeom>
          <a:solidFill>
            <a:srgbClr val="fffef3"/>
          </a:solidFill>
          <a:ln w="0">
            <a:noFill/>
          </a:ln>
          <a:effectLst>
            <a:outerShdw dist="17819" dir="2700000" blurRad="0" rotWithShape="0">
              <a:srgbClr val="9998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尊敬的主管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您好，我是质量控制员王海宾，已经在岗位上工作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了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我先后多次参加过公司内部组织的一些技能培训，这些培训对我的工作很有帮助，使我深刻认识到知识对工作的重要性。因此，我希望能参加一次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西格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管理的进修班，为期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月，脱产进行。原因如下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西格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是最近在制造业很受重视的质量管理方法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作为主管质量方面的员工，我的质量管理知识已经陈旧，需要更新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现在学习储备一些专业知识，可以有利于将来工作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我多次提议公司举办类似培训，可是限于我们的能力，都没有举办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这个为期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个月的进修班是省计委举办的，质量高，费用低，机会难得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综上所述，希望您能够批准我的请求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此致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敬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王海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38088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陈述纸样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612936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一封拒绝的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1447920" y="609480"/>
            <a:ext cx="66294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研讨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两人一组，互读信件。每个人独自阅读所发资料，按要求填“分析表” 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队内依次传阅每个人所写的信件，讨论并分别挑选出一封写得最合适的，和一封相对最不合适的信。（注意上一步“分析表”中的意见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队将这两封信的分析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到陈述纸上，代表宣讲并给出综合评价。（陈述纸样板见后）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8088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“一封拒绝的信” </a:t>
            </a: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review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685800" y="914400"/>
            <a:ext cx="3664080" cy="5181120"/>
            <a:chOff x="685800" y="914400"/>
            <a:chExt cx="3664080" cy="5181120"/>
          </a:xfrm>
        </p:grpSpPr>
        <p:grpSp>
          <p:nvGrpSpPr>
            <p:cNvPr id="732" name="Group 7"/>
            <p:cNvGrpSpPr/>
            <p:nvPr/>
          </p:nvGrpSpPr>
          <p:grpSpPr>
            <a:xfrm>
              <a:off x="687960" y="919440"/>
              <a:ext cx="3659400" cy="5170320"/>
              <a:chOff x="687960" y="919440"/>
              <a:chExt cx="3659400" cy="5170320"/>
            </a:xfrm>
          </p:grpSpPr>
          <p:grpSp>
            <p:nvGrpSpPr>
              <p:cNvPr id="733" name="Group 8"/>
              <p:cNvGrpSpPr/>
              <p:nvPr/>
            </p:nvGrpSpPr>
            <p:grpSpPr>
              <a:xfrm>
                <a:off x="687960" y="919440"/>
                <a:ext cx="1772280" cy="723600"/>
                <a:chOff x="687960" y="919440"/>
                <a:chExt cx="1772280" cy="723600"/>
              </a:xfrm>
            </p:grpSpPr>
            <p:sp>
              <p:nvSpPr>
                <p:cNvPr id="734" name="Rectangle 9"/>
                <p:cNvSpPr/>
                <p:nvPr/>
              </p:nvSpPr>
              <p:spPr>
                <a:xfrm>
                  <a:off x="722160" y="919440"/>
                  <a:ext cx="1703880" cy="723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合适的信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10"/>
                <p:cNvSpPr/>
                <p:nvPr/>
              </p:nvSpPr>
              <p:spPr>
                <a:xfrm>
                  <a:off x="687960" y="919440"/>
                  <a:ext cx="177228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11"/>
              <p:cNvGrpSpPr/>
              <p:nvPr/>
            </p:nvGrpSpPr>
            <p:grpSpPr>
              <a:xfrm>
                <a:off x="2460240" y="919440"/>
                <a:ext cx="1887120" cy="723600"/>
                <a:chOff x="2460240" y="919440"/>
                <a:chExt cx="1887120" cy="723600"/>
              </a:xfrm>
            </p:grpSpPr>
            <p:sp>
              <p:nvSpPr>
                <p:cNvPr id="737" name="Rectangle 12"/>
                <p:cNvSpPr/>
                <p:nvPr/>
              </p:nvSpPr>
              <p:spPr>
                <a:xfrm>
                  <a:off x="2494080" y="919440"/>
                  <a:ext cx="1819080" cy="723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相对不合适的信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13"/>
                <p:cNvSpPr/>
                <p:nvPr/>
              </p:nvSpPr>
              <p:spPr>
                <a:xfrm>
                  <a:off x="2460240" y="919440"/>
                  <a:ext cx="188712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Group 14"/>
              <p:cNvGrpSpPr/>
              <p:nvPr/>
            </p:nvGrpSpPr>
            <p:grpSpPr>
              <a:xfrm>
                <a:off x="687960" y="1643400"/>
                <a:ext cx="1772280" cy="658080"/>
                <a:chOff x="687960" y="1643400"/>
                <a:chExt cx="1772280" cy="658080"/>
              </a:xfrm>
            </p:grpSpPr>
            <p:sp>
              <p:nvSpPr>
                <p:cNvPr id="740" name="Rectangle 15"/>
                <p:cNvSpPr/>
                <p:nvPr/>
              </p:nvSpPr>
              <p:spPr>
                <a:xfrm>
                  <a:off x="722160" y="1643400"/>
                  <a:ext cx="17038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是否清楚地表达了自己的目的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16"/>
                <p:cNvSpPr/>
                <p:nvPr/>
              </p:nvSpPr>
              <p:spPr>
                <a:xfrm>
                  <a:off x="687960" y="1643400"/>
                  <a:ext cx="17722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Group 17"/>
              <p:cNvGrpSpPr/>
              <p:nvPr/>
            </p:nvGrpSpPr>
            <p:grpSpPr>
              <a:xfrm>
                <a:off x="2460240" y="1643400"/>
                <a:ext cx="1887120" cy="658080"/>
                <a:chOff x="2460240" y="1643400"/>
                <a:chExt cx="1887120" cy="658080"/>
              </a:xfrm>
            </p:grpSpPr>
            <p:sp>
              <p:nvSpPr>
                <p:cNvPr id="743" name="Rectangle 18"/>
                <p:cNvSpPr/>
                <p:nvPr/>
              </p:nvSpPr>
              <p:spPr>
                <a:xfrm>
                  <a:off x="2494080" y="1643400"/>
                  <a:ext cx="18190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是否清楚地表达了自己的目的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Rectangle 19"/>
                <p:cNvSpPr/>
                <p:nvPr/>
              </p:nvSpPr>
              <p:spPr>
                <a:xfrm>
                  <a:off x="2460240" y="1643400"/>
                  <a:ext cx="18871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Group 20"/>
              <p:cNvGrpSpPr/>
              <p:nvPr/>
            </p:nvGrpSpPr>
            <p:grpSpPr>
              <a:xfrm>
                <a:off x="687960" y="2301840"/>
                <a:ext cx="1772280" cy="658440"/>
                <a:chOff x="687960" y="2301840"/>
                <a:chExt cx="1772280" cy="658440"/>
              </a:xfrm>
            </p:grpSpPr>
            <p:sp>
              <p:nvSpPr>
                <p:cNvPr id="746" name="Rectangle 21"/>
                <p:cNvSpPr/>
                <p:nvPr/>
              </p:nvSpPr>
              <p:spPr>
                <a:xfrm>
                  <a:off x="722160" y="2301840"/>
                  <a:ext cx="1703880" cy="6584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信的结构是否符合前面所讲的要求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22"/>
                <p:cNvSpPr/>
                <p:nvPr/>
              </p:nvSpPr>
              <p:spPr>
                <a:xfrm>
                  <a:off x="687960" y="2301840"/>
                  <a:ext cx="177228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Group 23"/>
              <p:cNvGrpSpPr/>
              <p:nvPr/>
            </p:nvGrpSpPr>
            <p:grpSpPr>
              <a:xfrm>
                <a:off x="2460240" y="2301840"/>
                <a:ext cx="1887120" cy="658440"/>
                <a:chOff x="2460240" y="2301840"/>
                <a:chExt cx="1887120" cy="658440"/>
              </a:xfrm>
            </p:grpSpPr>
            <p:sp>
              <p:nvSpPr>
                <p:cNvPr id="749" name="Rectangle 24"/>
                <p:cNvSpPr/>
                <p:nvPr/>
              </p:nvSpPr>
              <p:spPr>
                <a:xfrm>
                  <a:off x="2494080" y="2301840"/>
                  <a:ext cx="1819080" cy="6584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信的结构是否符合前面所讲的要求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5"/>
                <p:cNvSpPr/>
                <p:nvPr/>
              </p:nvSpPr>
              <p:spPr>
                <a:xfrm>
                  <a:off x="2460240" y="2301840"/>
                  <a:ext cx="18871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Group 26"/>
              <p:cNvGrpSpPr/>
              <p:nvPr/>
            </p:nvGrpSpPr>
            <p:grpSpPr>
              <a:xfrm>
                <a:off x="687960" y="2961000"/>
                <a:ext cx="1772280" cy="658080"/>
                <a:chOff x="687960" y="2961000"/>
                <a:chExt cx="1772280" cy="658080"/>
              </a:xfrm>
            </p:grpSpPr>
            <p:sp>
              <p:nvSpPr>
                <p:cNvPr id="752" name="Rectangle 27"/>
                <p:cNvSpPr/>
                <p:nvPr/>
              </p:nvSpPr>
              <p:spPr>
                <a:xfrm>
                  <a:off x="722160" y="2961000"/>
                  <a:ext cx="17038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换种方式表达是否效果更好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8"/>
                <p:cNvSpPr/>
                <p:nvPr/>
              </p:nvSpPr>
              <p:spPr>
                <a:xfrm>
                  <a:off x="687960" y="2961000"/>
                  <a:ext cx="17722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29"/>
              <p:cNvGrpSpPr/>
              <p:nvPr/>
            </p:nvGrpSpPr>
            <p:grpSpPr>
              <a:xfrm>
                <a:off x="2460240" y="2961000"/>
                <a:ext cx="1887120" cy="658080"/>
                <a:chOff x="2460240" y="2961000"/>
                <a:chExt cx="1887120" cy="658080"/>
              </a:xfrm>
            </p:grpSpPr>
            <p:sp>
              <p:nvSpPr>
                <p:cNvPr id="755" name="Rectangle 30"/>
                <p:cNvSpPr/>
                <p:nvPr/>
              </p:nvSpPr>
              <p:spPr>
                <a:xfrm>
                  <a:off x="2494080" y="2961000"/>
                  <a:ext cx="18190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换种方式表达是否效果更好？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31"/>
                <p:cNvSpPr/>
                <p:nvPr/>
              </p:nvSpPr>
              <p:spPr>
                <a:xfrm>
                  <a:off x="2460240" y="2961000"/>
                  <a:ext cx="18871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32"/>
              <p:cNvGrpSpPr/>
              <p:nvPr/>
            </p:nvGrpSpPr>
            <p:grpSpPr>
              <a:xfrm>
                <a:off x="687960" y="3619800"/>
                <a:ext cx="861120" cy="658080"/>
                <a:chOff x="687960" y="3619800"/>
                <a:chExt cx="861120" cy="658080"/>
              </a:xfrm>
            </p:grpSpPr>
            <p:sp>
              <p:nvSpPr>
                <p:cNvPr id="758" name="Rectangle 33"/>
                <p:cNvSpPr/>
                <p:nvPr/>
              </p:nvSpPr>
              <p:spPr>
                <a:xfrm>
                  <a:off x="722160" y="3619800"/>
                  <a:ext cx="79272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不常用的词句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34"/>
                <p:cNvSpPr/>
                <p:nvPr/>
              </p:nvSpPr>
              <p:spPr>
                <a:xfrm>
                  <a:off x="687960" y="3619800"/>
                  <a:ext cx="8611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Group 35"/>
              <p:cNvGrpSpPr/>
              <p:nvPr/>
            </p:nvGrpSpPr>
            <p:grpSpPr>
              <a:xfrm>
                <a:off x="1549080" y="3619800"/>
                <a:ext cx="910800" cy="658080"/>
                <a:chOff x="1549080" y="3619800"/>
                <a:chExt cx="910800" cy="658080"/>
              </a:xfrm>
            </p:grpSpPr>
            <p:sp>
              <p:nvSpPr>
                <p:cNvPr id="761" name="Rectangle 36"/>
                <p:cNvSpPr/>
                <p:nvPr/>
              </p:nvSpPr>
              <p:spPr>
                <a:xfrm>
                  <a:off x="1582920" y="3619800"/>
                  <a:ext cx="84276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替代词句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37"/>
                <p:cNvSpPr/>
                <p:nvPr/>
              </p:nvSpPr>
              <p:spPr>
                <a:xfrm>
                  <a:off x="1549080" y="3619800"/>
                  <a:ext cx="91080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38"/>
              <p:cNvGrpSpPr/>
              <p:nvPr/>
            </p:nvGrpSpPr>
            <p:grpSpPr>
              <a:xfrm>
                <a:off x="2460240" y="3619800"/>
                <a:ext cx="960840" cy="658080"/>
                <a:chOff x="2460240" y="3619800"/>
                <a:chExt cx="960840" cy="658080"/>
              </a:xfrm>
            </p:grpSpPr>
            <p:sp>
              <p:nvSpPr>
                <p:cNvPr id="764" name="Rectangle 39"/>
                <p:cNvSpPr/>
                <p:nvPr/>
              </p:nvSpPr>
              <p:spPr>
                <a:xfrm>
                  <a:off x="2494080" y="3619800"/>
                  <a:ext cx="89280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不常用的词句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40"/>
                <p:cNvSpPr/>
                <p:nvPr/>
              </p:nvSpPr>
              <p:spPr>
                <a:xfrm>
                  <a:off x="2460240" y="3619800"/>
                  <a:ext cx="96084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41"/>
              <p:cNvGrpSpPr/>
              <p:nvPr/>
            </p:nvGrpSpPr>
            <p:grpSpPr>
              <a:xfrm>
                <a:off x="3421080" y="3619800"/>
                <a:ext cx="925920" cy="658080"/>
                <a:chOff x="3421080" y="3619800"/>
                <a:chExt cx="925920" cy="658080"/>
              </a:xfrm>
            </p:grpSpPr>
            <p:sp>
              <p:nvSpPr>
                <p:cNvPr id="767" name="Rectangle 42"/>
                <p:cNvSpPr/>
                <p:nvPr/>
              </p:nvSpPr>
              <p:spPr>
                <a:xfrm>
                  <a:off x="3454920" y="3619800"/>
                  <a:ext cx="8578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替代词句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43"/>
                <p:cNvSpPr/>
                <p:nvPr/>
              </p:nvSpPr>
              <p:spPr>
                <a:xfrm>
                  <a:off x="3421080" y="3619800"/>
                  <a:ext cx="925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Group 44"/>
              <p:cNvGrpSpPr/>
              <p:nvPr/>
            </p:nvGrpSpPr>
            <p:grpSpPr>
              <a:xfrm>
                <a:off x="687960" y="4278240"/>
                <a:ext cx="861120" cy="1152720"/>
                <a:chOff x="687960" y="4278240"/>
                <a:chExt cx="861120" cy="1152720"/>
              </a:xfrm>
            </p:grpSpPr>
            <p:sp>
              <p:nvSpPr>
                <p:cNvPr id="770" name="Rectangle 45"/>
                <p:cNvSpPr/>
                <p:nvPr/>
              </p:nvSpPr>
              <p:spPr>
                <a:xfrm>
                  <a:off x="722160" y="4278240"/>
                  <a:ext cx="792720" cy="1152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容易引人误解的词句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46"/>
                <p:cNvSpPr/>
                <p:nvPr/>
              </p:nvSpPr>
              <p:spPr>
                <a:xfrm>
                  <a:off x="687960" y="4278240"/>
                  <a:ext cx="86112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47"/>
              <p:cNvGrpSpPr/>
              <p:nvPr/>
            </p:nvGrpSpPr>
            <p:grpSpPr>
              <a:xfrm>
                <a:off x="1549080" y="4278240"/>
                <a:ext cx="910800" cy="1152720"/>
                <a:chOff x="1549080" y="4278240"/>
                <a:chExt cx="910800" cy="1152720"/>
              </a:xfrm>
            </p:grpSpPr>
            <p:sp>
              <p:nvSpPr>
                <p:cNvPr id="773" name="Rectangle 48"/>
                <p:cNvSpPr/>
                <p:nvPr/>
              </p:nvSpPr>
              <p:spPr>
                <a:xfrm>
                  <a:off x="1582920" y="4278240"/>
                  <a:ext cx="842760" cy="1152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修正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49"/>
                <p:cNvSpPr/>
                <p:nvPr/>
              </p:nvSpPr>
              <p:spPr>
                <a:xfrm>
                  <a:off x="1549080" y="4278240"/>
                  <a:ext cx="9108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Group 50"/>
              <p:cNvGrpSpPr/>
              <p:nvPr/>
            </p:nvGrpSpPr>
            <p:grpSpPr>
              <a:xfrm>
                <a:off x="2460240" y="4278240"/>
                <a:ext cx="960840" cy="1152720"/>
                <a:chOff x="2460240" y="4278240"/>
                <a:chExt cx="960840" cy="1152720"/>
              </a:xfrm>
            </p:grpSpPr>
            <p:sp>
              <p:nvSpPr>
                <p:cNvPr id="776" name="Rectangle 51"/>
                <p:cNvSpPr/>
                <p:nvPr/>
              </p:nvSpPr>
              <p:spPr>
                <a:xfrm>
                  <a:off x="2494080" y="4278240"/>
                  <a:ext cx="892800" cy="1152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容易引人误解的词句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52"/>
                <p:cNvSpPr/>
                <p:nvPr/>
              </p:nvSpPr>
              <p:spPr>
                <a:xfrm>
                  <a:off x="2460240" y="4278240"/>
                  <a:ext cx="96084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Group 53"/>
              <p:cNvGrpSpPr/>
              <p:nvPr/>
            </p:nvGrpSpPr>
            <p:grpSpPr>
              <a:xfrm>
                <a:off x="3421080" y="4278240"/>
                <a:ext cx="925920" cy="1152720"/>
                <a:chOff x="3421080" y="4278240"/>
                <a:chExt cx="925920" cy="1152720"/>
              </a:xfrm>
            </p:grpSpPr>
            <p:sp>
              <p:nvSpPr>
                <p:cNvPr id="779" name="Rectangle 54"/>
                <p:cNvSpPr/>
                <p:nvPr/>
              </p:nvSpPr>
              <p:spPr>
                <a:xfrm>
                  <a:off x="3454920" y="4278240"/>
                  <a:ext cx="857880" cy="11527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修正：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55"/>
                <p:cNvSpPr/>
                <p:nvPr/>
              </p:nvSpPr>
              <p:spPr>
                <a:xfrm>
                  <a:off x="3421080" y="4278240"/>
                  <a:ext cx="92592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Group 56"/>
              <p:cNvGrpSpPr/>
              <p:nvPr/>
            </p:nvGrpSpPr>
            <p:grpSpPr>
              <a:xfrm>
                <a:off x="687960" y="5431680"/>
                <a:ext cx="1772280" cy="658080"/>
                <a:chOff x="687960" y="5431680"/>
                <a:chExt cx="1772280" cy="658080"/>
              </a:xfrm>
            </p:grpSpPr>
            <p:sp>
              <p:nvSpPr>
                <p:cNvPr id="782" name="Rectangle 57"/>
                <p:cNvSpPr/>
                <p:nvPr/>
              </p:nvSpPr>
              <p:spPr>
                <a:xfrm>
                  <a:off x="722160" y="5431680"/>
                  <a:ext cx="17038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信中写了多少句话，数一下记下来。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58"/>
                <p:cNvSpPr/>
                <p:nvPr/>
              </p:nvSpPr>
              <p:spPr>
                <a:xfrm>
                  <a:off x="687960" y="5431680"/>
                  <a:ext cx="177228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Group 59"/>
              <p:cNvGrpSpPr/>
              <p:nvPr/>
            </p:nvGrpSpPr>
            <p:grpSpPr>
              <a:xfrm>
                <a:off x="2460240" y="5431680"/>
                <a:ext cx="1887120" cy="658080"/>
                <a:chOff x="2460240" y="5431680"/>
                <a:chExt cx="1887120" cy="658080"/>
              </a:xfrm>
            </p:grpSpPr>
            <p:sp>
              <p:nvSpPr>
                <p:cNvPr id="785" name="Rectangle 60"/>
                <p:cNvSpPr/>
                <p:nvPr/>
              </p:nvSpPr>
              <p:spPr>
                <a:xfrm>
                  <a:off x="2494080" y="5431680"/>
                  <a:ext cx="1819080" cy="658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989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信中写了多少句话，数一下记下来。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61"/>
                <p:cNvSpPr/>
                <p:nvPr/>
              </p:nvSpPr>
              <p:spPr>
                <a:xfrm>
                  <a:off x="2460240" y="5431680"/>
                  <a:ext cx="18871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60606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7" name="Rectangle 62"/>
            <p:cNvSpPr/>
            <p:nvPr/>
          </p:nvSpPr>
          <p:spPr>
            <a:xfrm>
              <a:off x="685800" y="914400"/>
              <a:ext cx="366408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  <a:effectLst>
              <a:outerShdw dist="17819" dir="2700000" blurRad="0" rotWithShape="0">
                <a:srgbClr val="606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63"/>
          <p:cNvSpPr/>
          <p:nvPr/>
        </p:nvSpPr>
        <p:spPr>
          <a:xfrm>
            <a:off x="4952880" y="9907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64"/>
          <p:cNvSpPr/>
          <p:nvPr/>
        </p:nvSpPr>
        <p:spPr>
          <a:xfrm>
            <a:off x="4952880" y="55627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4878000" y="1371600"/>
            <a:ext cx="308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5370840" y="5715000"/>
            <a:ext cx="31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5       &lt;8      ……       …… &lt;22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个字的句子 …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..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7"/>
          <p:cNvSpPr/>
          <p:nvPr/>
        </p:nvSpPr>
        <p:spPr>
          <a:xfrm>
            <a:off x="612936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一封拒绝的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3612240" y="228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陈述纸样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沟通联络卡练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612936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一封拒绝的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447920" y="957240"/>
            <a:ext cx="707868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89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讨论问题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队是怎样依次传阅信件的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两封信是如何推举出来的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每封信都和对应的“分析表”在一起吗？还是已经混乱地分开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看到别人对自己信的“分析表”了吗？你发现了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觉得自己写的这封信可以怎样改进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</a:t>
            </a: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review“</a:t>
            </a: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信息分析表”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6431760" y="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沟通联络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685800" y="914400"/>
            <a:ext cx="76960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规则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1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、所有组得到一个相同的完整的拼图结果图形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、每组得到一些图片，这些图片是以相同的裁剪方式，从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个相同的结果图形中裁剪出来的，无序混合后，分成三组分发。因此不保证每个组得到的图片刚好能拼出结果图形，因为图形可能重叠和短缺。（我们要克服的困难之一，就是通过沟通理顺重叠和短缺）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3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、小组内可以自由口头交流，小组间只能通过“沟通联络卡”交流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、每组选一名传送员，永远不能说话，不能指导拼图，只负责传递信息和图片，并观察沟通效果，以便讨论时用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5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、图片可以在组间转移，遵循以下原则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：可以根据其他小组的要求转移任何图片，也可向其他小组申请图片                          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B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：每小组桌上至少保留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3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块图片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、每组桌上只准有纸和笔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、不得把图片集中向一个小组转移，因为日常工作中，不可能由一个群体担任全部任务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、三个小组有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分钟（另计）统一准备时间，然后开始彼此隔离地工作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10</a:t>
            </a:r>
            <a:r>
              <a:rPr b="1" lang="zh-CN" sz="1600" spc="-1" strike="noStrike">
                <a:solidFill>
                  <a:srgbClr val="666699"/>
                </a:solidFill>
                <a:latin typeface="Times New Roman"/>
              </a:rPr>
              <a:t>、三个小组全部完成拼图时算成功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2912400" y="533520"/>
            <a:ext cx="30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目标：通过沟通联络卡完成分组拼图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分钟）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学习目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447920" y="1523880"/>
            <a:ext cx="645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你写不出来，你也别指望你能说得好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沟通并没有高深的理论，其难度在于，你需要不断地训练自己，这一过程可能是漫长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其说你在训练写作技能，不如说你在培养正确的写作习惯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要相信模式，除非是大家共同制定的文字沟通模式，否则你会发现，这个模版本身就是沟通的阻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6543000" y="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公众沟通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---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总结和思考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6431760" y="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沟通联络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2428560" y="709560"/>
            <a:ext cx="45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每个小组对收到的一些典型的联络卡进行分析，完成下表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1295280" y="1219320"/>
          <a:ext cx="6629400" cy="45720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效信息摘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4f8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效原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2f3f8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效信息摘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3f7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效原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afcea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引起混乱的信息摘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生混乱的原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beb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章节回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6431760" y="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模拟练习—沟通联络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721240" y="1600200"/>
            <a:ext cx="3544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沟通的障碍是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应该如何进行有效的文字沟通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应该改善哪方面的沟通技巧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本组的经验、见解和建议，代表发言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3270600" y="108432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与思考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6619320" y="763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公众沟通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---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1600200" y="4419720"/>
            <a:ext cx="205740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4000" rIns="504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技法概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3429000" y="1371600"/>
            <a:ext cx="220968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288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沟通分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5410080" y="4419720"/>
            <a:ext cx="1981440" cy="686880"/>
          </a:xfrm>
          <a:prstGeom prst="rect">
            <a:avLst/>
          </a:prstGeom>
          <a:gradFill rotWithShape="0">
            <a:gsLst>
              <a:gs pos="0">
                <a:srgbClr val="fef0b6"/>
              </a:gs>
              <a:gs pos="50000">
                <a:srgbClr val="ffffff"/>
              </a:gs>
              <a:gs pos="100000">
                <a:srgbClr val="fef0b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36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拟训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5410080" y="3733920"/>
            <a:ext cx="762120" cy="6094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2819520" y="3733920"/>
            <a:ext cx="838080" cy="6094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0"/>
          <p:cNvSpPr/>
          <p:nvPr/>
        </p:nvSpPr>
        <p:spPr>
          <a:xfrm flipV="1">
            <a:off x="4572000" y="2133720"/>
            <a:ext cx="0" cy="838080"/>
          </a:xfrm>
          <a:prstGeom prst="line">
            <a:avLst/>
          </a:prstGeom>
          <a:ln w="381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3657600" y="3048120"/>
            <a:ext cx="1752480" cy="686880"/>
          </a:xfrm>
          <a:prstGeom prst="rect">
            <a:avLst/>
          </a:prstGeom>
          <a:gradFill rotWithShape="0">
            <a:gsLst>
              <a:gs pos="0">
                <a:srgbClr val="fedc98"/>
              </a:gs>
              <a:gs pos="50000">
                <a:srgbClr val="ffffff"/>
              </a:gs>
              <a:gs pos="100000">
                <a:srgbClr val="fedc9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书沟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864160" y="2057400"/>
            <a:ext cx="380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对目前的期望的文字沟通效果，确认改善的领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掌握有效的文字沟通技能，获取更好的效果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培养和发展文字沟通技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789360" y="114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习目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80880" y="65469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文字沟通分析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6543000" y="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公众沟通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---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明确目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611352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文字沟通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990720" y="533520"/>
            <a:ext cx="3251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个问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、文字沟通的类型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、有效文字沟通的特点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、文字沟通首要重点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632480" y="990720"/>
            <a:ext cx="3978000" cy="450360"/>
          </a:xfrm>
          <a:prstGeom prst="rect">
            <a:avLst/>
          </a:prstGeom>
          <a:gradFill rotWithShape="0">
            <a:gsLst>
              <a:gs pos="0">
                <a:srgbClr val="fff9d9"/>
              </a:gs>
              <a:gs pos="50000">
                <a:srgbClr val="ffffff"/>
              </a:gs>
              <a:gs pos="100000">
                <a:srgbClr val="fff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5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信涵、备忘录、报告、提议、记录、和约、指示、议程、通知、规章、笔记、计划、讨论文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4648320" y="2951280"/>
            <a:ext cx="3978000" cy="806760"/>
          </a:xfrm>
          <a:prstGeom prst="rect">
            <a:avLst/>
          </a:prstGeom>
          <a:gradFill rotWithShape="0">
            <a:gsLst>
              <a:gs pos="0">
                <a:srgbClr val="fff9d9"/>
              </a:gs>
              <a:gs pos="50000">
                <a:srgbClr val="ffffff"/>
              </a:gs>
              <a:gs pos="100000">
                <a:srgbClr val="fff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5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传达必要的，精确的信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文字的表述对特定的情况应是恰如其分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3886200" y="1447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gradFill rotWithShape="0">
            <a:gsLst>
              <a:gs pos="0">
                <a:srgbClr val="fffdd9"/>
              </a:gs>
              <a:gs pos="100000">
                <a:srgbClr val="fedd8c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885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4114800" y="3352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fffdd9"/>
              </a:gs>
              <a:gs pos="100000">
                <a:srgbClr val="fedd8c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885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写作过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611352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文字沟通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048840" y="914400"/>
            <a:ext cx="32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明确目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想利用这份文书做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884600" y="2209680"/>
            <a:ext cx="790200" cy="593280"/>
          </a:xfrm>
          <a:prstGeom prst="rect">
            <a:avLst/>
          </a:prstGeom>
          <a:gradFill rotWithShape="0">
            <a:gsLst>
              <a:gs pos="0">
                <a:srgbClr val="fff5d1"/>
              </a:gs>
              <a:gs pos="50000">
                <a:srgbClr val="ffffff"/>
              </a:gs>
              <a:gs pos="100000">
                <a:srgbClr val="fff5d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3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传递信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3387600" y="2212920"/>
            <a:ext cx="1324080" cy="593280"/>
          </a:xfrm>
          <a:prstGeom prst="rect">
            <a:avLst/>
          </a:prstGeom>
          <a:gradFill rotWithShape="0">
            <a:gsLst>
              <a:gs pos="0">
                <a:srgbClr val="fff5d1"/>
              </a:gs>
              <a:gs pos="50000">
                <a:srgbClr val="ffffff"/>
              </a:gs>
              <a:gs pos="100000">
                <a:srgbClr val="fff5d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3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达指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5376960" y="2212920"/>
            <a:ext cx="790200" cy="593280"/>
          </a:xfrm>
          <a:prstGeom prst="rect">
            <a:avLst/>
          </a:prstGeom>
          <a:gradFill rotWithShape="0">
            <a:gsLst>
              <a:gs pos="0">
                <a:srgbClr val="fff5d1"/>
              </a:gs>
              <a:gs pos="50000">
                <a:srgbClr val="ffffff"/>
              </a:gs>
              <a:gs pos="100000">
                <a:srgbClr val="fff5d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3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事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6977160" y="2212920"/>
            <a:ext cx="790200" cy="593280"/>
          </a:xfrm>
          <a:prstGeom prst="rect">
            <a:avLst/>
          </a:prstGeom>
          <a:gradFill rotWithShape="0">
            <a:gsLst>
              <a:gs pos="0">
                <a:srgbClr val="fff5d1"/>
              </a:gs>
              <a:gs pos="50000">
                <a:srgbClr val="ffffff"/>
              </a:gs>
              <a:gs pos="100000">
                <a:srgbClr val="fff5d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3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14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事后补遗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2057400" y="19051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2209680" y="19810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4419720" y="1371600"/>
            <a:ext cx="99036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e8b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b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2057400" y="2743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2209680" y="304812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4419720" y="3124080"/>
            <a:ext cx="99036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e8b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b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4123440" y="3733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制定语气和修辞策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示例练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2422440" y="530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575000" y="228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写作过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1219320" y="2895480"/>
            <a:ext cx="1447560" cy="63468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写完后重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1219320" y="3733920"/>
            <a:ext cx="1447560" cy="90900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修改文书，大胆删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143000" y="1981080"/>
            <a:ext cx="1600200" cy="634680"/>
          </a:xfrm>
          <a:prstGeom prst="rect">
            <a:avLst/>
          </a:prstGeom>
          <a:gradFill rotWithShape="0">
            <a:gsLst>
              <a:gs pos="0">
                <a:srgbClr val="fffbeb"/>
              </a:gs>
              <a:gs pos="50000">
                <a:srgbClr val="ffffff"/>
              </a:gs>
              <a:gs pos="100000">
                <a:srgbClr val="fffb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7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口气写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838080" y="838080"/>
            <a:ext cx="2133720" cy="90900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50000">
                <a:srgbClr val="ffffff"/>
              </a:gs>
              <a:gs pos="100000">
                <a:srgbClr val="fee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整理写作思路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考虑文书内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12"/>
          <p:cNvSpPr/>
          <p:nvPr/>
        </p:nvSpPr>
        <p:spPr>
          <a:xfrm>
            <a:off x="1828800" y="17524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13"/>
          <p:cNvSpPr/>
          <p:nvPr/>
        </p:nvSpPr>
        <p:spPr>
          <a:xfrm>
            <a:off x="1828800" y="2590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5960" bIns="75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1828800" y="3505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5"/>
          <p:cNvSpPr/>
          <p:nvPr/>
        </p:nvSpPr>
        <p:spPr>
          <a:xfrm>
            <a:off x="1828800" y="4648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ead5"/>
              </a:gs>
              <a:gs pos="100000">
                <a:srgbClr val="ffc72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8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85800" y="4929120"/>
            <a:ext cx="2514600" cy="63468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50000">
                <a:srgbClr val="ffffff"/>
              </a:gs>
              <a:gs pos="100000">
                <a:srgbClr val="fee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检查细节，确认无误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7"/>
          <p:cNvSpPr/>
          <p:nvPr/>
        </p:nvSpPr>
        <p:spPr>
          <a:xfrm>
            <a:off x="4191120" y="838080"/>
            <a:ext cx="4343400" cy="449280"/>
          </a:xfrm>
          <a:prstGeom prst="rect">
            <a:avLst/>
          </a:prstGeom>
          <a:gradFill rotWithShape="0">
            <a:gsLst>
              <a:gs pos="0">
                <a:srgbClr val="d8eda5"/>
              </a:gs>
              <a:gs pos="50000">
                <a:srgbClr val="fffdef"/>
              </a:gs>
              <a:gs pos="100000">
                <a:srgbClr val="d8ed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0" rIns="1080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要与不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8"/>
          <p:cNvSpPr/>
          <p:nvPr/>
        </p:nvSpPr>
        <p:spPr>
          <a:xfrm>
            <a:off x="4191120" y="1295280"/>
            <a:ext cx="198108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目的要明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信息要全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文要简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使用短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强调最重要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段落分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和结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cbe00"/>
                </a:solidFill>
                <a:latin typeface="Marlett"/>
                <a:ea typeface="Marlett"/>
              </a:rPr>
              <a:t>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尽量生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9"/>
          <p:cNvSpPr/>
          <p:nvPr/>
        </p:nvSpPr>
        <p:spPr>
          <a:xfrm>
            <a:off x="6781680" y="1295280"/>
            <a:ext cx="16844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随意开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写写停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被动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双重否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无关信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错别字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Marlett"/>
                <a:ea typeface="Marlett"/>
              </a:rPr>
              <a:t>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过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611352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文字沟通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本练习</a:t>
            </a: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review</a:t>
            </a: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和结论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762120" y="1905120"/>
            <a:ext cx="3504960" cy="1163160"/>
          </a:xfrm>
          <a:prstGeom prst="rect">
            <a:avLst/>
          </a:prstGeom>
          <a:solidFill>
            <a:srgbClr val="fffef3"/>
          </a:solidFill>
          <a:ln w="0">
            <a:noFill/>
          </a:ln>
          <a:effectLst>
            <a:outerShdw dist="17819" dir="2700000" blurRad="0" rotWithShape="0">
              <a:srgbClr val="9998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亲爱的先生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女士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我已经间接获悉您在寻找一家公司为贵公司所有部门安装新电脑。我确信作为一个完全能令人放心的公司，我公司定能被指派。不管我们在贵公司业务方面经验有限，曾经为您服务过的人说我们能胜任此项工作。我是个非常热请的人，对于与您相会的可能性，除非另行通知，我在周一、周二和周五下午不能拜访你处，这是因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4861080" y="1828800"/>
            <a:ext cx="3902040" cy="3657960"/>
          </a:xfrm>
          <a:prstGeom prst="rect">
            <a:avLst/>
          </a:prstGeom>
          <a:solidFill>
            <a:srgbClr val="fefef4"/>
          </a:solidFill>
          <a:ln w="0">
            <a:noFill/>
          </a:ln>
          <a:effectLst>
            <a:outerShdw dist="17819" dir="2700000" blurRad="0" rotWithShape="0">
              <a:srgbClr val="9898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刘云端先生，您好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来自微软的信，继我们上周的电话谈话后，我很高兴再邮给您一本我公司的最新宣传册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你曾表示过贵公司对安装新型计算机软件感兴趣，我相信我们的服务符合你的要求，会让您满意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期待您的回音，并期望很快能和您会面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此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敬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比尔盖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609280" y="533520"/>
            <a:ext cx="375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目标：判别两封信的高下，并说明原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式：团队讨论、形成理由、代表陈述。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611352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文字沟通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技法概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6113520" y="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文字沟通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2041560" y="914400"/>
            <a:ext cx="2454120" cy="924480"/>
          </a:xfrm>
          <a:prstGeom prst="rect">
            <a:avLst/>
          </a:prstGeom>
          <a:solidFill>
            <a:srgbClr val="fffef3"/>
          </a:solidFill>
          <a:ln w="0">
            <a:noFill/>
          </a:ln>
          <a:effectLst>
            <a:outerShdw dist="17819" dir="2700000" blurRad="0" rotWithShape="0">
              <a:srgbClr val="9998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亲爱的先生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女士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已经间接获悉您在寻找一家公司为贵公司所有部门安装新电脑。我确信作为一个完全能令人放心的公司，我公司定能被指派。不管我们在贵公司业务方面经验有限，曾经为您服务过的人说我们能胜任此项工作。我是个非常热请的人，对于与您相会的可能性，除非另行通知，我在周一、周二和周五下午不能拜访你处，这是因为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4800600" y="838080"/>
            <a:ext cx="2454120" cy="2862360"/>
          </a:xfrm>
          <a:prstGeom prst="rect">
            <a:avLst/>
          </a:prstGeom>
          <a:solidFill>
            <a:srgbClr val="fefef4"/>
          </a:solidFill>
          <a:ln w="0">
            <a:noFill/>
          </a:ln>
          <a:effectLst>
            <a:outerShdw dist="17819" dir="2700000" blurRad="0" rotWithShape="0">
              <a:srgbClr val="9898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刘云端先生，您好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来自微软的信，继我们上周的电话谈话后，我很高兴再邮给您一本我公司的最新宣传册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曾表示过贵公司对安装新型计算机软件感兴趣，我相信我们的服务符合你的要求，会让您满意的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期待您的回音，并期望很快能和您会面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此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敬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尔盖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593640" y="94608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写信者不原费神查明联系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0"/>
          <p:cNvSpPr/>
          <p:nvPr/>
        </p:nvSpPr>
        <p:spPr>
          <a:xfrm flipV="1">
            <a:off x="1600200" y="1066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1"/>
          <p:cNvSpPr/>
          <p:nvPr/>
        </p:nvSpPr>
        <p:spPr>
          <a:xfrm flipH="1" flipV="1">
            <a:off x="1447560" y="2286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09480" y="21337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语意含糊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"/>
          <p:cNvSpPr/>
          <p:nvPr/>
        </p:nvSpPr>
        <p:spPr>
          <a:xfrm flipH="1" flipV="1">
            <a:off x="1523880" y="3200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609480" y="28353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语法错误与错别字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5"/>
          <p:cNvSpPr/>
          <p:nvPr/>
        </p:nvSpPr>
        <p:spPr>
          <a:xfrm flipH="1" flipV="1">
            <a:off x="1371240" y="4038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609480" y="37339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无关信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7"/>
          <p:cNvSpPr/>
          <p:nvPr/>
        </p:nvSpPr>
        <p:spPr>
          <a:xfrm flipH="1" flipV="1">
            <a:off x="1600200" y="4724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685800" y="4572000"/>
            <a:ext cx="108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文书过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9"/>
          <p:cNvSpPr/>
          <p:nvPr/>
        </p:nvSpPr>
        <p:spPr>
          <a:xfrm flipV="1">
            <a:off x="6629400" y="990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762012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说明写信原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1"/>
          <p:cNvSpPr/>
          <p:nvPr/>
        </p:nvSpPr>
        <p:spPr>
          <a:xfrm>
            <a:off x="685800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7620120" y="358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暗示下一步应采取的行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3"/>
          <p:cNvSpPr/>
          <p:nvPr/>
        </p:nvSpPr>
        <p:spPr>
          <a:xfrm>
            <a:off x="7696080" y="838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知道此信发给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4"/>
          <p:cNvSpPr/>
          <p:nvPr/>
        </p:nvSpPr>
        <p:spPr>
          <a:xfrm>
            <a:off x="7162920" y="17524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5"/>
          <p:cNvSpPr/>
          <p:nvPr/>
        </p:nvSpPr>
        <p:spPr>
          <a:xfrm>
            <a:off x="7162920" y="28195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7620120" y="2590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表明积极的态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7"/>
          <p:cNvSpPr/>
          <p:nvPr/>
        </p:nvSpPr>
        <p:spPr>
          <a:xfrm flipV="1">
            <a:off x="7162920" y="48006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762012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只写了一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533520" y="5181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达不清，内容缺乏全面考虑，错别字和标点错误，废话连篇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800600" y="5181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容清晰，态度乐观，简明扼要，切中要害，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1940760" y="2286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判别两封信的高下，并说明原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:\WINDOWS\Desktop\back.jpg"/>
          <p:cNvPicPr/>
          <p:nvPr/>
        </p:nvPicPr>
        <p:blipFill>
          <a:blip r:embed="rId1"/>
          <a:stretch/>
        </p:blipFill>
        <p:spPr>
          <a:xfrm>
            <a:off x="6019920" y="4421160"/>
            <a:ext cx="3124080" cy="24368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0" y="533520"/>
            <a:ext cx="533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Arial Black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c0c0"/>
                </a:solidFill>
                <a:latin typeface="Arial Black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c0c0"/>
                </a:solidFill>
                <a:latin typeface="Verdana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">
            <a:hlinkClick r:id="" action="ppaction://hlinkshowjump?jump=lastslide"/>
          </p:cNvPr>
          <p:cNvSpPr/>
          <p:nvPr/>
        </p:nvSpPr>
        <p:spPr>
          <a:xfrm>
            <a:off x="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21482" y="10800"/>
                </a:moveTo>
                <a:lnTo>
                  <a:pt x="10977" y="17806"/>
                </a:lnTo>
                <a:lnTo>
                  <a:pt x="10977" y="3794"/>
                </a:lnTo>
                <a:close/>
              </a:path>
              <a:path fill="darken" w="35966" h="21600">
                <a:moveTo>
                  <a:pt x="23327" y="3794"/>
                </a:moveTo>
                <a:lnTo>
                  <a:pt x="23327" y="17806"/>
                </a:lnTo>
                <a:lnTo>
                  <a:pt x="24990" y="17806"/>
                </a:lnTo>
                <a:lnTo>
                  <a:pt x="24990" y="3794"/>
                </a:lnTo>
                <a:close/>
              </a:path>
            </a:pathLst>
          </a:custGeom>
          <a:gradFill rotWithShape="0">
            <a:gsLst>
              <a:gs pos="0">
                <a:srgbClr val="cae7b7"/>
              </a:gs>
              <a:gs pos="100000">
                <a:srgbClr val="f1f6da"/>
              </a:gs>
            </a:gsLst>
            <a:lin ang="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380880" y="65530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Times New Roman"/>
              </a:rPr>
              <a:t>进入环节要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6667920" y="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文书沟通—技法概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486600" y="1981080"/>
            <a:ext cx="27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掌握写作过程中每个环节的要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掌握三种文字类型的特点和写作方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23:49Z</dcterms:created>
  <dc:creator>tony</dc:creator>
  <dc:description/>
  <cp:keywords/>
  <dc:language>en-US</dc:language>
  <cp:lastModifiedBy>a</cp:lastModifiedBy>
  <dcterms:modified xsi:type="dcterms:W3CDTF">2014-05-22T01:32:56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