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8E4-F0C5-4D28-B6E9-3DFD1374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D4F-E24B-44CB-B62A-297C41F5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CBEFA-7697-4306-8497-468A7F12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9B9E8-6E17-43D8-A704-D805519D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3CF40-B7F4-442A-A49F-CB4465E9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B76D4-286B-4B59-8463-C867EA0B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97E05-635E-4DFD-B37C-2043D374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2F152-2095-4759-88E6-7D3BBE94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51697-3B47-4997-B22C-DB68D9C1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768FB-801C-4545-BF53-36232450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F20E7-762B-4929-B25F-C3946931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9F1EC-D762-4222-921E-6FC6EA55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DB2-A37D-489D-A818-5C4AC06B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1F13A-952A-4ED7-92AF-CE70C4D3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E96EB-A35F-4C6C-8001-80953DCE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CA5AC-B4F2-4981-BDFC-26B85EF4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E590F-F948-46E8-93C7-4AEF1DC4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F42A5-9D62-48E1-B7F5-2AFAE824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5E1BE-0800-488E-B6E0-0EF7DAD4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31E6D-2482-44E7-B517-9480A410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9C62F-D888-4B29-A295-51E71C4A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03350-1559-4E2A-88DB-9A12A329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E1F85-F9BC-42F8-949C-89AE0BD8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21DF-1C83-4D25-B5C5-C26AEBAE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EF92C-D1DA-4EEE-8E55-ED629CB2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3CD06-7581-476A-9E42-65A1AE4D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556DE-9BB7-437E-A44A-64089C78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4CCE9-3360-4C80-BA87-68FFFD59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6201E-BFF0-41E2-941E-ECF6F3D9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6E2DA-FDB8-45B6-8240-A6B0C3CE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44EB4-FDF9-4C9C-867F-2C5DFF23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0B8C7-3CA5-4857-B287-745AEC57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31C31-49BC-4C58-AC9F-2B4FDC4A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6E0F3-097F-4E18-85C4-1E25CEB1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537B-3CAF-436E-96BC-825DFEF0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CD7EF-0B06-49A1-A03D-E2DAD949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F8B39-E031-4111-92D7-F945A375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76947-F452-4469-8DCA-410DB1FA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4D666-3448-4A00-B92B-5E6F2353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A5F87-E505-4411-9034-FAA8C0A6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0CF0C-6F7F-46C6-BF4E-E916B334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778FA-EC60-4822-AF2E-FC039DD3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0B376-2BA2-4B3F-B67F-70CCD643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5DD66-A1C2-4751-ACC8-F3819409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2D818-0C68-4258-87EB-E2D25F4B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3466-69DB-4140-A93E-96D8EF93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F14D4-EAF3-403E-91B3-52A1FB38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9950C-2671-439F-AA37-5F8E70EC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7BFE6-0871-44D9-913B-13E535B7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90687-2E00-42E6-A9B6-18A90DA9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1E7A8-1AF9-405C-93AC-3EDF5286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FC605-C108-44AC-8CCE-FDE80C1A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0901E-6A9C-4D62-8E5B-8F7B4634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C4FAF-D422-41E5-BE75-1FBD5C04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9086B-1263-497D-ABC0-FF78DCE7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6D9F8-EB98-4EA8-9EA9-0D803EB1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BE50-DE6C-4107-B2D4-93FFE192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0E0249-4D81-4A9F-8830-DA6E79A7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AB87F-AAAB-4CD0-A2DA-1F765AD5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BE1A6F-154B-46DE-AC79-5081E013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5F5CD0-C1AF-4FB1-BA53-7C3F0AA4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3E09D8-8981-43A7-A2A3-5833D651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E4944-AAA0-40A8-8A4F-FC65082F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D5ADD-1D61-4665-9078-26D53644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1284-3960-4EC5-8BB7-6DEAB8F7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A917-F664-425A-80AB-08562457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34D0-6DFF-4602-9D66-134D988B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8B7D-CF3E-43E6-84A1-AE1C979B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D92E-8883-4063-9FE6-FA094187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1D46-381F-4D21-8207-770DBA33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A32D-460B-43AA-AAB2-41692840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A182-1C51-4842-9EEB-9F46C971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313E-BC39-4BA9-80CA-158F7C37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EF07-D601-4203-9320-FB2EA857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F7B19-988A-4A38-B998-FF3E1C0B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E822B-AC48-477E-985D-B7E8B8BF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BA458-B69A-48CC-82A1-A1EE897C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452B1-2649-425A-9506-2C3D898F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3C70E-A3A8-461F-A159-DE663427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67C3-8829-4B2F-AAA9-AB935838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92720-9D6B-4D25-A1C9-D02857C5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0BEDA-C0CB-4721-8B20-9C9AF03B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81B22-0601-4495-8C13-D3EFE242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E908-7163-4117-8EF4-CA34CA19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0E5AC-611D-46EB-A3CE-784FE5BD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7B01C-A49F-486D-9801-4A18223F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DDA24-73CB-4F6B-BBB1-83B96BA0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CDEA4-7E0F-4D93-801E-C9468733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8060A-4A78-4F0D-A5B2-DF37DC14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25AAA-B831-492B-ADD0-112CD9FD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8A0-8984-431D-AE95-42CB0924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A318C-5A06-4794-9790-038261D6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A50E9-D8CF-4F8B-A1D1-A1885C5F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F23C4-E650-40AD-B282-B07AEEA8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53460-5DDB-44AE-A84D-7BB65F57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354AD-8CDF-4722-8498-4DAFC2A5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D46B7-718A-4902-9976-E2EB7644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23D78-C653-46C2-8059-EEF76CAA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CF433-9DCC-448D-A4BD-F5F36E0F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F2A9D-B83C-48B5-85F1-51BFB0C3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B08A5-868A-48F7-A65E-30C4CFA0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FE0B-6B61-4684-B922-2902C79C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308A5-F8E2-44B0-A97B-3057A269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8F021-7A98-40C2-ADB9-F8067A71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90F4E-AF24-4F3E-9A8F-7E4BD657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E52F1-788A-4A3D-9DEE-385136FB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D8CCE-A2B9-41EA-9ED2-4B7A79E2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37CD6-0F5B-4233-84D0-E51922E9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DFF9C-0C17-49DF-8872-D6B77DDB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998E7-FD52-40DE-BA72-8A26FF39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74C96-3EB4-4C62-BB53-B20E3522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4C80E-8E1E-4E87-8BFD-596711FC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311-3F35-42C7-BB6E-851EB81B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3E124-982F-4DCE-AE23-E730BF84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38EB9-AB17-4BB0-AC7C-53FB3192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0381B-E2F3-4EE8-B9C3-EBC4804B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580C7-7BA4-49D3-AA2F-298A22FE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683FE-119C-4AAC-8B8E-E0565C24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B721A-7C7A-405D-83C7-39C88311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04E92-DE03-4815-91A5-4F87EDEA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AE883-976A-4AEB-9B6D-F0691023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01729-42A1-4F6D-B8D0-DCD7D91B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34AAB-6467-4224-9380-C0FCCACE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BD14-1334-409A-AA9F-D81E8BD2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C9E2B-4D9D-44AA-A0B8-66E19A45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E9AED-AFBD-49B5-A0CD-6090ADAA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665EE-C333-4A4F-B32E-67FD1305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21AFE-A10A-4E5D-BA43-F77CFA00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B7799-8FA5-4000-BD5D-9C22B0D8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086E4-4B3C-4AC5-85D9-E8035EFF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03390-BBBD-4BD8-B443-DA6AA1EE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8AC37-513F-495A-B3D1-24916E32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5DBFB-FF12-4996-B532-4330A4D7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4316F-7B80-480F-93C7-C5D90BF6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D6DB-D589-4DF4-9817-11084070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FBBEA-B6C9-4CB3-99F1-018F4BE3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44722-D6B1-4CA6-88E1-2116A3C2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1E920-D589-433B-8F22-CD891891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F8B35-A276-44F2-AF0A-68485616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777A2-F58E-451A-B569-D1CE2979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2A44D-EE4B-4D4D-89DD-19507368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6D689-D212-47DE-9F14-48ACF765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7C3F4-F002-408D-A2AE-98D4CC4D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EAA4A-815B-43E7-A5DE-0ACCF159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5F835-26A3-4405-949B-D01F9B15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2B9-359D-40CE-B051-2542E0CB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23F69-85DD-4123-B13E-59D830D9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E3B76-1380-43F5-87F7-00AFB994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10C04-1EBF-4512-A3B9-5B7900F3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AE4EA-31BA-4B60-B9C6-58AAF8A2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9456D-4831-44C1-A91A-8759FFC5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421E3-70C6-4213-B3ED-463EBC96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B23E0-1D96-4C8E-94C7-C66AE3AA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46080-E0AE-4540-A0FE-905962F5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649D1-E2B0-4A2C-AAD8-9C70417F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6EA39-909C-4448-B7A3-B273506A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C4F0-B021-4FF6-A4E9-D9906D33B4F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2E05-5AB9-4683-83AC-EA3693844EA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1D60-95A7-40F6-B755-CC2F8BC5BF5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E4EE-8CDB-46EE-AA59-16C5AB8E13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346E-79C1-4C46-B154-54B1267333E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7D97-4883-4B5A-AB2D-7FF29DC8EEA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4F5C-CAA3-4BF9-8265-726137715C9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8976-056F-4BEB-B438-E389F703F3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12BD-1AFF-4A8D-BF5F-760EA089C56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4DB5-84A1-433D-8C89-9225AAE020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E0E8-92AE-4AD6-B5EF-D944899675B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A190-725F-4FF2-9B96-84A68507FD6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D81D-C61B-4DD7-83E7-810AA354124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E196-38F4-46FC-B444-4EAFE625C85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55BA-46E7-4D85-B399-73A58F871D6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37F9-2D54-49A2-A08D-B47683AA384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2FA8-E7B9-4F09-9D34-E63D6BF09B0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91E2-9FC3-47D9-A6CC-6F1C56527FB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516E-5A17-406D-A6E1-58D14FE1205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96A0-2079-4FA3-BCDA-CF13EB29DA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2124-51F8-41E9-BC7C-F429959198D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C348-27EC-4493-A24A-5E9033409E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6B5B-5674-457C-9949-15D58840FCE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D35A-E52C-4655-8C48-934AB3AD3B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7BD1-65F6-46C2-8CF6-2D9955FDA2C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7513-0FFD-4904-AD42-4ADF9A34D4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860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温馨迪士尼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演示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4698720"/>
            <a:ext cx="64008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6560" y="400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06:35:00Z</dcterms:created>
  <dc:creator>Moyea Software</dc:creator>
  <dc:description>Made by Moyea Software. To find more free PowerPoint templates, please visit http://www.dvd-ppt-slideshow.com/powerpoint-knowledge/powerpoint-templates.html</dc:description>
  <cp:keywords>Disney free cartoon PowerPoint templates</cp:keywords>
  <dc:language>en-US</dc:language>
  <cp:lastModifiedBy>a</cp:lastModifiedBy>
  <dcterms:modified xsi:type="dcterms:W3CDTF">2014-12-21T03:38:28Z</dcterms:modified>
  <cp:revision>5</cp:revision>
  <dc:subject>Disney</dc:subject>
  <dc:title>Free Disney 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