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4FBC-6005-4552-B1D1-E7063C48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34F-D69D-41BF-A92C-6A6FBB96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24D-0D4C-4B32-9FA1-80A1ED20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858-A6B4-47E0-947D-76D09CD6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002C-E6C2-492F-8CA9-DC575F03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9FC5-8679-42F4-8AA0-284A911B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DCDF-93E3-4E3F-862E-C9857650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C0DA-699F-45BB-A61E-1A685705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7259-DA41-4561-AEFE-C2A226D9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9E29-5910-4FE2-882C-D36126D7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7793-4411-4A9B-99AC-3B2DC5ED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E6D4-5C75-4D8F-A7A8-D480D97B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A047-94EF-4FDD-A9AF-D15DCFA3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9E78-FD78-468F-84C4-1A920023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A3F4-52B5-413C-AE57-13C4F254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BB22-934D-4B84-B8B1-662F5459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ED79-87D3-4CEE-9DCC-D0481A07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35532-EDEE-4D51-9CE6-4EA28B81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D133D-0548-405E-BE30-D496A540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3C368-6C08-48D4-B9D1-D3C33F4C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1DB0D-DF5F-4B6A-BF1F-48773F72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43D49-E206-4816-833E-7835BB12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BF88-1B07-4983-822C-195CA8FA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91BDC-E6CC-4808-8288-19253B9B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2430B-FCBB-4707-8BDB-0153F970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BD146-8A0F-4A68-9B6F-36C98099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EBA1E-2005-4BAD-BF5C-C944D788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F0A3-8EAE-4930-8A00-ADBB4091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908CB-75B5-4226-A1D8-9AF19BFF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93D81-D22A-4547-924C-624229E9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243-E909-4A29-9EB7-9F44FDC2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06E-49DB-4442-BC24-23645447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9DE4-4648-4985-B1F3-93C925F3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EF0-C0AA-4950-A314-E5CD7BFB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9141-5CB7-40D2-9309-43255D60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1E21-1201-4F59-B7E2-D3AF9743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CA7D-2127-4D66-A862-972A66787A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52BB-4E95-4AD9-A1EB-4B83BBA3CB1F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57352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AEF9-0A33-4033-8179-F2930D7CF57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53BE-D375-4F5F-9842-B97BDF2082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01880"/>
            <a:ext cx="7772400" cy="13111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西餐刀具饮食餐饮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468240"/>
            <a:ext cx="6400800" cy="11034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67760"/>
            <a:ext cx="82072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1582560"/>
            <a:ext cx="8209080" cy="38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298440"/>
            <a:ext cx="1388880" cy="3110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541440" y="3768840"/>
            <a:ext cx="8281800" cy="16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7:28:30Z</dcterms:created>
  <dc:creator>Administrator</dc:creator>
  <dc:description/>
  <dc:language>en-US</dc:language>
  <cp:lastModifiedBy>a</cp:lastModifiedBy>
  <dcterms:modified xsi:type="dcterms:W3CDTF">2014-12-21T05:45:16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