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520-770C-4EDB-809D-9D46FAD0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653-DE03-4470-B659-A40F241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017-9099-44AF-946D-94000A94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CCE-AFC6-4F6D-B142-A829C89A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ECFB-4863-4AE7-ADE1-46FABB8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9A0-F84F-4C94-B9BA-9253B779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B50-F6D4-4A6C-8AC2-61FC2DBB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BEFE-8342-486D-B72D-FC95E6F7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417-AFBC-49CD-835D-A8465E00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6A5-4691-44BE-849E-D284163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3ED9-4964-4E8F-920E-1932036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FD28-BE6F-49EF-9766-A44E69D0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1E3-434F-43E9-8FF0-022C8088BE3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现代红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31:33Z</dcterms:created>
  <dc:creator>Mariajose</dc:creator>
  <dc:description/>
  <dc:language>en-US</dc:language>
  <cp:lastModifiedBy>a</cp:lastModifiedBy>
  <dcterms:modified xsi:type="dcterms:W3CDTF">2014-12-31T04:50:36Z</dcterms:modified>
  <cp:revision>3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