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F9921E-9538-47F3-A47A-5A963BB51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1D4094-36BB-4C2F-A29A-8710EEC9E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D4B7E3-7A08-4AEE-9688-2271AA958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C1A30A-CD92-476A-A8FB-8230B7755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8FC9AC-92E8-487E-B1CE-729D77148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4B8FD2-BF3A-4F3C-8719-1623A4524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7B1B5E-3E6A-432E-B02A-45F227CD9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45B679-924A-4C9F-9B30-3F68DEE29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8DF6CC-F3C8-4B87-85DD-2B227152E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60E303-4588-4D01-A3CC-94115FAC0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863EBA-70FD-4918-A245-642D5DD9D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E532B5-D2DE-4149-8C11-C66D7D8CA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380A4F-6A1C-4F96-81A9-A3BF2365D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80DC00-5838-47CF-82A7-508A28EE6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933DDB-D1F1-4AC0-91DC-E2292C8B4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77AF8F-DBEA-453C-8FEF-B4D56D792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862DAC-E774-4B66-ACD8-AF167F57C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9C7D0D-4849-4DE7-B1A9-EB40C3966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482093-5457-4916-8365-1B635E073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18E418-E2C3-49E5-BDE1-ADAC29035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B84DF5-215B-4ABB-ACD2-514BF3140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583B5F-F7FF-4420-AF59-0A85BD314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FB32DF-EABD-4621-B8CB-20EC4A9FF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31BD03-0FD3-4BFD-9E78-2D8160F8A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6F8460-B902-481A-A3B7-CAB5DFB69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60E4B5-5004-4E3C-A8F7-314A21DCB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A9F4CB-CADC-41A0-ABAE-8961C0BD5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7FAF9E-31EA-43F7-B5AD-7E02CF77F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93F519-5765-4045-B7A9-6FE9CB940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871A37-BE9D-4CB1-BB2D-D4891D1C6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C1A4-5144-4BDE-9F11-19400E09C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4B7C0B-490A-48B0-92FA-DC4DD7428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4A15B6-6C90-4480-AB4F-CC89459ED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219484-533A-4569-BD69-6D142E92D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126547-9D06-45A7-9E60-51FDCFB4A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0D6A28-49D9-477E-B45B-95EF3441B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0B387A-6DF6-41D7-8021-0D0A17FB1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85F606-9198-4F9B-A1AE-D4D5D4310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84846B-A098-443C-8740-BB3D0F076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FF5102-956B-4359-A8C0-C81354A3E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87CAC3-0E99-4E0D-98EF-F1F24F020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BBAA-A6FC-42A7-9A2F-E81D7544B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72E39F-C514-4E03-B432-22B3F7018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7653D6-2287-424D-96AF-93FD3CC76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72E9F2-2C61-4AC2-B05D-CA369B78C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ECA315-604C-4614-9A68-BEBE7CC94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6A093F-A5BE-473C-9042-8232CC258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1B38A4-D48E-48DD-B85C-DACA543DA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0E3DE2-A71D-49BA-ABBC-0AB2169C3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E480AF-272E-40CA-BD6F-3D7721EB9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3B962D-70B4-4CED-82CC-5A183C8F0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F9CC19-C7C4-4C31-A1B8-6754705EA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1692-A1C3-4A89-9246-2988FE642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8ABA5E-18A9-4D81-A319-6810B9F2A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23BADE-7481-436D-B8E8-F279B443A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C38D60-32CF-4B41-8BBA-ED7C11649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18FE09-2DE9-4E21-8D79-F12AD1174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739635-FDDF-41F9-8D62-B8BC08360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A0266A-27D3-4D41-A6AB-09B81CC3E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928024-D0B9-41CE-81BF-63A117AF9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00007D-974A-44A3-A20B-F03C9D691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0310ED-37B3-449B-9601-DD14031FE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2F1B71-64F3-40E0-B53E-AF784E1CA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1057-BFF3-47CD-BEFE-91630D01B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E26D66-3F9D-4597-BB57-D8E940939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C87C1B-B222-4473-9BDC-26A7E1497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913490-1F7F-4919-ABE5-53D9D9B22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AEA747-E37D-45BE-BB95-1A268882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9D210A-4C76-4482-AA84-9F9D97807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A2E441-1E1F-460D-A404-25BF658F5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9D13C0-D7CF-4DF9-A251-F0C8F39EA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56E1EE-51D4-4122-B910-236112C08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F4D3AC-FC33-4A58-BB92-3C9623E34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F37C-6CC2-49DD-835D-132FA7AB8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03D6-9C72-4EDF-91FD-22E013575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E041-9E7F-4507-89B7-FD61FED45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1A70-EB1F-4950-95D6-129336867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ECC9-E8FF-4390-A25F-7BD99013C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F127-4A69-42A9-9F30-C3D42F887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0F2C-C931-4266-B37E-1542B5BB2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F756-EABA-497C-9B07-4CFFA401C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A6485-4D37-4D9A-82B1-9CBF60F54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1D96A-D6BF-4DAD-B00E-7AA14155F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99652-55F6-4409-A8DE-DDB82710D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08E8B-6FC0-4599-B0C3-3B349C26A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3EE24-EEEE-48F1-A646-9653C523F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A8CF7-6F76-484A-A98C-BFB5D5711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91133-8F0F-4B95-AD3D-C5E32625C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CCD20-5440-479B-9F54-858549C75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EC674-3DD6-4A94-8146-4ABB6632A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2B494-33F8-49F5-9308-AA23042F4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46F4C-661C-4A0D-8406-D36FAED3D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7B674-0FB5-4DFA-9122-47B69EE18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1D60D-9940-434A-9F30-D03CA92DC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45370-B47D-4583-A3D5-038375083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18222-69FE-47B4-8153-C489709AC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636D1-684C-49D5-AA58-929DA9F1C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08BB0-0BB0-46A5-BB4B-B5843CFE7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E86EE-3032-4DED-B093-77512D69D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CECA0-873C-4A07-B166-2A0FD2DAF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2FD2B-2681-4AD9-A1D1-7CC1B9138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500AD-F3FC-485B-B900-A41ED515B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03FBA-67E1-46DA-A656-251C08B48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36D47-B291-4105-8383-8534102B8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B5E04-268C-48FC-8EF7-FE8FCA1DD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EA387-4B14-48C3-A24B-8CADA1C66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7BBA6-3AFF-49BC-80B1-028B00571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CAA5E-C872-4BC3-8CC5-8F9385650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1B67A-A1AF-46EA-8940-F96B2C545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D5CD9-3C03-4BF7-B03F-0BD195B1E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06E75-E993-4C38-9842-C9B1D6F6B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3AE17-30A2-41C4-BE69-ACA782A6B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FC7FE-C278-410D-B134-306B875E4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1C304-1D86-4BB5-B974-CA9004C83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0D430-562D-49ED-A775-013B2C922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878F5-CE8C-4A19-BF87-EB8576FB5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C6323-37BB-4F09-B408-25D10C27C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DA8951-3070-4A57-8E7C-015204ED7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1A323F-4D88-42ED-A525-3F779E379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90F51E-BB1C-4828-B432-D25E587D9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776049-5F7D-4911-9F64-3674BA5AC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5F1C66-AECA-48DD-82EC-B6B106AE7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8480DE-786E-4F5E-B160-F573C3D41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84FCFB-FB79-4C99-ADB3-E23629926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0F92E7-1580-4A4E-A2E4-2D86E3A56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BADBAE-9604-4E5F-B441-B0474DF40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5E884-07F7-4CBB-8523-187C3E924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F28746-3324-4941-923C-24403BED2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BB8F2F-8F90-49B7-8426-DBF7F0CCA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7227FB-81FC-46C5-8C1F-0F3067FF3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BA9D57-76E8-451A-ACE7-3014A4E6E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0274FB-6932-42B4-9109-7869D9094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FC878D-AEEC-4D30-8DC4-66D14759B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60B647-DA09-4EF6-B594-D51ABEA54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5B99C6-4472-4D0F-94B6-D94415478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48CECC-53EA-452A-BCBB-502C1CA11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7B4565-1EC1-4C44-9049-3D85D4138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A787FC-1288-4ACE-A150-FEF0D7C36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A6EC49-010D-43C6-959E-37037CFA0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11118A-9841-4A8F-8DD5-FB38A3A39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CB59AE-78AF-4329-889C-7016FCFA0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F78F7E-8A38-4856-B56D-C8F0690F6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D56318-BFDA-4A09-9882-FF26068DB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5796CE-8BFB-4612-BFC5-38069DEF6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E967A-EAA2-4BB9-8C6A-90B0BBE789F6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CA730-FB50-43E6-B570-8CD385D79B7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8BF35-54E5-4FAD-BCE7-9A37871091D0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A5A71-A8FD-46B9-9AB4-B806805E1E8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21CFB-974E-4433-85C2-B4AD7CB04E47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000B9-D2E4-4841-AEB1-31BC84EA3F5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852D5-73AB-4527-B013-6726626ED107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16A6F-55AE-486B-AB61-91B7F7CEFB2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5517E-D61E-4558-8A39-5CEE8D1C2103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4D773-17D9-43AB-8247-71583DC7633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9F83B-7C44-426F-B481-7A2629A81C9A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1DB86-90C4-43E4-A12D-ABD6C0D9AE4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B717F-F03D-4306-B154-50A4865959DF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D10FC-2B64-4449-B885-BE65B085F7B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02A9A-F200-49CC-A277-C95320ACB01C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A9650-4890-401C-89B5-9D0F637302A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91133-1587-46F1-951E-8A5AB54D2A07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732BA-97BB-40AB-B467-98CEFC32D4E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809BB-4AEC-496F-B1C5-DD5BDCCFC13C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CD790-23D1-4A51-B7E9-30240BCB9C2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CED91-B082-4105-BC0C-3C32BCE3F9F1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A26A1-4E7E-470E-848B-36AD3473FEA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AD3BF-E4E3-466A-94F5-270CF2F3C205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DBD3C-B8FD-4F78-ACAA-1881AD0800A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学习教育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演示模板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1371600" y="3789360"/>
            <a:ext cx="640080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4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75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57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7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5T06:35:06Z</dcterms:created>
  <dc:creator>歆勳劆氙</dc:creator>
  <dc:description/>
  <dc:language>en-US</dc:language>
  <cp:lastModifiedBy>a</cp:lastModifiedBy>
  <dcterms:modified xsi:type="dcterms:W3CDTF">2014-12-31T03:40:47Z</dcterms:modified>
  <cp:revision>16</cp:revision>
  <dc:subject/>
  <dc:title>氇皵鞚?旌愲Ν韯?霐旍瀽鞚?歆€霃勳晥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  <property fmtid="{D5CDD505-2E9C-101B-9397-08002B2CF9AE}" pid="3" name="_TemplateID">
    <vt:lpwstr>TC011408311042</vt:lpwstr>
  </property>
</Properties>
</file>