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462-25C8-47CB-8D87-7392E020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7772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1480" y="4101480"/>
            <a:ext cx="7772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64BC-ACDD-4648-A7E5-B8668370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148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416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58FD-0466-4C50-A4FF-E9A63F29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9480" y="182844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7120" y="182844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1480" y="410148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9480" y="410148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7120" y="410148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2DD-17AB-4F86-85C7-855840A9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8298-6979-4A15-AD0C-AEB58E32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4148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FE6E-6B0E-472B-8336-9E398812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D249-26B1-4969-B336-AC6C0D4A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3B43-91E9-414A-AC1A-0071F93F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4288-24F5-479E-B012-371D2496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041480" y="365040"/>
            <a:ext cx="7772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980C-BB48-432B-A631-B829E3CC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148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B4FE-29D7-4057-9428-366B402C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148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91F2-96CB-4B9D-845D-F26E2C4B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2416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9DC8-F36F-4346-9712-6EB9A8E4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41480" y="4101480"/>
            <a:ext cx="7772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8D6D-2F00-4A89-A55C-B1EE01BF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7772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41480" y="4101480"/>
            <a:ext cx="7772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9934-5FFB-4550-B444-0DF1C2D8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4148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2416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E5D8-0085-48B5-8344-6CB9648F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69480" y="182844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97120" y="182844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41480" y="410148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69480" y="410148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97120" y="410148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532D-CED7-4CAE-BECC-BF90E180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3A2-2221-45AE-8BDD-FB01B7D4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1D9-711B-4E87-99CC-D5D4317C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F602-29B3-4732-B8EB-8FFFEEE8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1480" y="365040"/>
            <a:ext cx="7772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4D8-8ACB-4124-A42C-B14AF1B2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148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4F9-8D66-4549-996B-6486C8C2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416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49F-E780-4B90-A999-82E4A6C8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1480" y="4101480"/>
            <a:ext cx="7772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68B-61C1-4834-9A3D-52792E82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033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0"/>
          <p:cNvSpPr/>
          <p:nvPr/>
        </p:nvSpPr>
        <p:spPr>
          <a:xfrm>
            <a:off x="819000" y="0"/>
            <a:ext cx="214560" cy="68580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4148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411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8724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561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5A06-FE15-4B35-BD0E-C2EBD9BD6327}" type="slidenum"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0335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819000" y="0"/>
            <a:ext cx="214560" cy="68580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360"/>
              <a:ext cx="452736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7" descr=""/>
            <p:cNvPicPr/>
            <p:nvPr/>
          </p:nvPicPr>
          <p:blipFill>
            <a:blip r:embed="rId4"/>
            <a:stretch/>
          </p:blipFill>
          <p:spPr>
            <a:xfrm>
              <a:off x="2737440" y="0"/>
              <a:ext cx="640656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Rectangle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Rectangle 9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Rectangle 10"/>
          <p:cNvGrpSpPr/>
          <p:nvPr/>
        </p:nvGrpSpPr>
        <p:grpSpPr>
          <a:xfrm>
            <a:off x="901800" y="4254480"/>
            <a:ext cx="8242200" cy="2603520"/>
            <a:chOff x="901800" y="4254480"/>
            <a:chExt cx="8242200" cy="2603520"/>
          </a:xfrm>
        </p:grpSpPr>
        <p:pic>
          <p:nvPicPr>
            <p:cNvPr id="52" name="Rectangle 10" descr=""/>
            <p:cNvPicPr/>
            <p:nvPr/>
          </p:nvPicPr>
          <p:blipFill>
            <a:blip r:embed="rId6"/>
            <a:stretch/>
          </p:blipFill>
          <p:spPr>
            <a:xfrm>
              <a:off x="901800" y="4254480"/>
              <a:ext cx="8242200" cy="26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2"/>
            <p:cNvSpPr/>
            <p:nvPr/>
          </p:nvSpPr>
          <p:spPr>
            <a:xfrm>
              <a:off x="903240" y="4257720"/>
              <a:ext cx="8240760" cy="26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" name="Straight Connector 12" descr=""/>
          <p:cNvPicPr/>
          <p:nvPr/>
        </p:nvPicPr>
        <p:blipFill>
          <a:blip r:embed="rId7"/>
          <a:stretch/>
        </p:blipFill>
        <p:spPr>
          <a:xfrm>
            <a:off x="2693880" y="4211640"/>
            <a:ext cx="6462720" cy="92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04148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10411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8724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561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F634-33F9-48FC-B96E-2C53F7664840}" type="slidenum"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52200" y="423720"/>
            <a:ext cx="5937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运动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148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4:25:34Z</dcterms:created>
  <dc:creator>lenovo</dc:creator>
  <dc:description/>
  <cp:keywords>XS-普屏 4：3;SC-深黄色;BG-深色;DH-静态</cp:keywords>
  <dc:language>en-US</dc:language>
  <cp:lastModifiedBy>a</cp:lastModifiedBy>
  <dcterms:modified xsi:type="dcterms:W3CDTF">2014-12-26T05:23:37Z</dcterms:modified>
  <cp:revision>7</cp:revision>
  <dc:subject>TP-体育竞技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