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B16C-C2E1-448D-93FD-7E7136DC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1A99-D075-41BF-B1AF-2B5747E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04DD-5613-48EB-9A32-C8DD8F05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4442-D4CE-49DE-BECB-C8D7F8B9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4C48-B5E3-4355-895F-6CB7E4B1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AB89-AD06-4C2C-98CF-9AAFD808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E3CE-5542-4314-94AC-2529A15D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2BF3-4C5D-4FE4-8923-7F8AD4AB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3B09-5C5F-4248-AA40-3E65BBD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889D-639B-4D9B-B17D-3FD7406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36E7-C260-4480-A7FD-BC12DCB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6D62-68FB-40EA-9126-92F88A6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0EF-7EB2-4817-B204-6036879954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531120"/>
            <a:ext cx="863640" cy="282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4920" y="4221000"/>
            <a:ext cx="5402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ffffff"/>
                </a:solidFill>
                <a:latin typeface="Arial"/>
              </a:rPr>
              <a:t>小猪存钱罐金融</a:t>
            </a:r>
            <a:r>
              <a:rPr b="0" lang="es-UY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s-UY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932360" y="501336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620640"/>
            <a:ext cx="43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5f5f5f"/>
                </a:solidFill>
                <a:latin typeface="Arial"/>
              </a:rPr>
              <a:t>Company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223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31T04:51:30Z</dcterms:modified>
  <cp:revision>70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