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6892-3E5E-450A-A45F-73F73196A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A4DC-9E37-44DC-8F2C-10DC2CF17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D683-5186-4366-BF71-48D2050F0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E5E63-02F5-417B-BCD4-43FC63ED9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3640" y="13932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3046-FDCF-4846-9BF5-95222B2B9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996B-1764-4024-ADE3-71B41FC85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8BDA-4245-4B78-8351-4CDC40C1C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C5E7-9904-42DE-9AAA-1354A749E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3640" y="13932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23CAC-BBFD-4A2D-94C9-7D6EA1C2B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1A05-A6AD-4793-9B8B-58A9143EF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B85B-6D81-4BB8-8279-29305B3C3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198D-C9BA-43E1-9B95-AFFFDD074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b6e1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b6e1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ea01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6be4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fld id="{A5511DD1-F86B-4AAA-976F-CE4151DE7EF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0"/>
            <a:ext cx="7236000" cy="927000"/>
          </a:xfrm>
          <a:prstGeom prst="rect">
            <a:avLst/>
          </a:prstGeom>
          <a:gradFill rotWithShape="0">
            <a:gsLst>
              <a:gs pos="0">
                <a:srgbClr val="94bc45"/>
              </a:gs>
              <a:gs pos="100000">
                <a:srgbClr val="4d901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30" descr="2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6372360" y="0"/>
            <a:ext cx="2771640" cy="9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4bc45"/>
              </a:gs>
              <a:gs pos="100000">
                <a:srgbClr val="4d901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7" descr="2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1557360"/>
            <a:ext cx="9151920" cy="3052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1"/>
          <p:cNvSpPr/>
          <p:nvPr/>
        </p:nvSpPr>
        <p:spPr>
          <a:xfrm rot="10800000">
            <a:off x="0" y="1557000"/>
            <a:ext cx="9144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4"/>
          <p:cNvSpPr/>
          <p:nvPr/>
        </p:nvSpPr>
        <p:spPr>
          <a:xfrm rot="10800000">
            <a:off x="0" y="4580640"/>
            <a:ext cx="914400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b6e1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b6e1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ea01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6be4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9800" y="4797000"/>
            <a:ext cx="5399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旋转楼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604800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i="1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i="1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658AF18F-96DF-44CD-A5B1-2655E4886BD6}" type="slidenum">
              <a:rPr b="0" i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96be46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96be46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96be46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96be46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96be46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96be46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96be46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96be46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a</cp:lastModifiedBy>
  <dcterms:modified xsi:type="dcterms:W3CDTF">2014-12-31T04:52:00Z</dcterms:modified>
  <cp:revision>68</cp:revision>
  <dc:subject/>
  <dc:title>单击此处添加标题文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