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8FD-9533-4B5F-BE39-DC2FE66D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609-3104-4878-A12D-3100E216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7A1-4C8A-479E-905F-B48F7D92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B9D-B266-4A02-A264-1A2BFC63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91A-B93D-4F17-BBFA-BABDB35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6AD-88EE-4EA6-9522-C73D3591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33C-98D5-4358-8C3F-F210BAC1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B41-000E-4154-BD98-E6C4D38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F19-920B-4AB1-8CC3-BC133A9E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B0E-AF8F-429A-A136-B2AB81DB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9D6-48EB-4A73-979F-CE90E5A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911-1F64-4C32-A0D1-D28C33B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e2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1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2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3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4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5918-D9B0-48CF-8528-646EE6674A43}" type="datetime">
              <a:rPr b="1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196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F1EA-25B7-48A0-8DD9-96CE93ED3D90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2130120"/>
            <a:ext cx="817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音乐乐器课</a:t>
            </a: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PPT</a:t>
            </a: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模板下载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b2c15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457200" y="650232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08A-6ABE-4F4A-A2DC-2296935A10B3}" type="datetime">
              <a:rPr b="1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23a5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1e28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8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！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8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8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6:31:34Z</dcterms:created>
  <dc:creator>Administrator</dc:creator>
  <dc:description/>
  <dc:language>en-US</dc:language>
  <cp:lastModifiedBy>a</cp:lastModifiedBy>
  <dcterms:modified xsi:type="dcterms:W3CDTF">2014-12-31T04:02:34Z</dcterms:modified>
  <cp:revision>2</cp:revision>
  <dc:subject/>
  <dc:title>Musical instru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09990</vt:lpwstr>
  </property>
</Properties>
</file>