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827-3701-45B8-924B-17F3368D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6BF-C967-40BB-AA11-2B9086C3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CB5-915D-4D1C-9E89-AE3ABB1A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BDE-8E94-48BF-8B30-DD0E70C5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87A-9943-4363-AC8D-589C5CC7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85F0-7B24-4773-BDF8-35B523C7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A43-7828-48BD-9D0B-F3467B6E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E87-DE2A-4085-BB86-02F52FE7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695-2AD7-443C-B9CE-0ABF216D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5D12-3B5F-401C-A2BB-6A5E901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5B5C-45AD-469D-A036-96FF1A2A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3E8-BC8D-48B0-AED8-70406C4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86FC-1D53-4358-89E9-1D623B3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1133-A73A-4EBA-A5BA-A106842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63F1-2297-4A5A-93F3-37D3B145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E70-2AE1-4D78-8196-9D97A58E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724D-FED9-44CE-B1D1-D5655F97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59F7-2FAD-42C9-839F-2E333C80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6B72-0393-42DE-99CB-60BF776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D3B1-7848-4208-B4CE-1D81C799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0D34-3E59-4985-95DB-95FC656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1733-3118-44B0-B200-1CADED87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D89-2777-4C7D-A6A5-6C8A2603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A537-1316-4E66-A4EB-D3B0CEB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326F-9692-45D4-A496-A40E0AD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96C6-5A72-4EC5-ABCA-92C2779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7B06-A998-41DA-B05B-40B64AD7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1C21-4E67-4708-8CCD-AE5AA64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F09E-0AD9-4CFE-9B12-6C0FFB04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6AFE-C395-495B-BA8B-D76ED5B5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716-1D39-4159-A965-77D45F9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E6D-F2A8-4ADC-8EDD-82BDCACF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996-E2EC-4A7D-8C21-3E9B05D2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918-62C5-437E-8F17-AE7839B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262-404F-48C2-93B3-535D601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10D-DAB3-44CB-8AEB-A62ECAE3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F0A5-8D89-4690-9320-7127C47EB7B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578-6F6A-4B3F-9C49-1ECF6C9E47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364E-3850-48CC-B066-782438C54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C88-44C0-43BE-994E-CD743A7C86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-28440" y="-19080"/>
            <a:ext cx="93484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-173160" y="3240"/>
            <a:ext cx="935352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"/>
          <p:cNvPicPr/>
          <p:nvPr/>
        </p:nvPicPr>
        <p:blipFill>
          <a:blip r:embed="rId1"/>
          <a:stretch/>
        </p:blipFill>
        <p:spPr>
          <a:xfrm>
            <a:off x="-27000" y="0"/>
            <a:ext cx="920916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"/>
          <p:cNvPicPr/>
          <p:nvPr/>
        </p:nvPicPr>
        <p:blipFill>
          <a:blip r:embed="rId1"/>
          <a:stretch/>
        </p:blipFill>
        <p:spPr>
          <a:xfrm>
            <a:off x="1440" y="-19080"/>
            <a:ext cx="918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7T01:19:21Z</dcterms:modified>
  <cp:revision>1</cp:revision>
  <dc:subject/>
  <dc:title>PowerPoint 演示文稿</dc:title>
</cp:coreProperties>
</file>