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A21-AD9B-48C8-9A27-843173E6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048-C427-4BAE-ADB3-D133546D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81139-2B39-4FDB-8250-1C65AE43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54E0A-0D3B-47AC-A8BA-7CDA978D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EB0B9-7E83-4DEF-A373-0E212C9E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2C340-577C-4B34-90AF-A1407295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78076-93DC-4913-A175-7954D46C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B8EF5-A527-416A-988C-B73A6CE9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B0183-CE93-4E90-9848-033C2876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81286-9F37-4DEB-A1C7-135381F8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EE86F-CDD7-40C9-B451-A0716F84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C3B0E-C2D0-4EBA-9936-A5EF7CF7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F53-B668-49E4-A39B-6D60F0B6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651BC-E7B3-4CDA-BDD0-EC658C39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BA843-AC07-4734-B586-1FA290A0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32C37-2218-4EEF-B052-D2624AD1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4F2E1-468A-420C-B4A1-9DD74024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4920E-A49D-4036-B966-29555D91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93CB5-B717-4162-9B7A-D5171F3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0296C-E048-4093-94D9-11FE60A5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0C283-C41D-491A-BC54-5129F41F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5F119-BE20-4A34-AC63-3938B11F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01ACB-9F70-43C3-997D-A6FD26EE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10E-1D78-4E48-B59A-86C3DE8A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88CAF-5961-4060-8B9A-E0EE557A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B340F-A9B0-4CFF-8F58-DA18DB45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05D87-962D-41B1-839F-816771EE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BBC4D-570D-4C17-93B4-4653B8C1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C013A-986D-47C4-90BD-0BDF5B93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0358D-6F6A-4771-8A7B-9175BDDD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908D8-C1A1-489D-9C02-05229044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C57CA-99B4-4505-AF18-0E3E9A4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9A1BF-A667-4534-9927-9EE5BA29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ECD85-3DB6-4726-BB76-1424754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CA95-583D-4033-A883-012EFBB7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5891C-C95A-4BED-9E9E-6A202A6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669A5-A19D-41C6-9022-7DA33062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BDC8C-41AF-4868-BE19-9AEB0680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3D09E-8E4E-4BB0-9154-1A19F2EB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2E46A-83D4-42CB-9A87-71226FEB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DD6613-6CAF-4344-A05F-C22761BD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1C38A-F47B-4D5E-8833-4A4CAFF7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7B793-3201-4B0D-A9C9-5939F58D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75C02-E8D1-4058-BB3B-A5D74A2C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A1D51-608C-4687-9138-9A29F5EF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0EA7-22AB-4D80-BA4E-6AB01C93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E633A-7923-4A0E-B2BB-1F78966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37741-7215-45EF-9A67-1E929BB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95A4C-1647-4A54-9DD3-0A4DFF98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ADD18-EE0D-432E-B0D4-B7C1E30A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CF209-212D-4AD9-AE77-192583CA0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453D1E-BBE0-4553-90D1-8DAD9967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658CE-C20E-4AAB-A8B0-7CA67E95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50518-B27C-4553-A50A-1EC02A30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1353F-9E19-44B5-B381-77B30035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17E68-32D9-4E93-8E95-3DE6735D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1C33-8D13-41DD-90EC-C604A4BF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8254D-4732-4A03-8EF1-88C6511C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24698-9517-4321-A87D-8C6B72EC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7CCAA-83C7-4CE2-8FA1-E9B47274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54D4A-8478-4DFD-8C27-EF26A8AA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CB017-44FF-4323-88B1-9FAA740E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4CEC8-F59C-4BB3-AA80-DF638EB3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8B1B4-B21F-4EB7-90C4-D6F6F3F4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E88614-5B70-42B3-909B-4728849D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83AA0-F36E-4AD9-888A-2837FFA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2BE58-B086-4A8A-B59F-263C936E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18D3-3F72-4941-A3CD-A83AB50C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EE09F-4163-42DB-B2A6-8F570DB7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4AF3A-1804-42C2-A71C-B54788FA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B2FD5-BCB3-4002-9B45-03F9C4A0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8600F-973B-4983-8AD4-BA6E8A6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3C5A82-979C-4C69-A596-BE4D6C2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A1E96-1A2E-4B9C-BECF-D13FE03F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D77A9-D711-4B64-90AE-3BA9A4D5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2D6413-080C-4FC8-9FF4-E61BF4FE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D3B36-8E09-40F4-9D61-D1005C79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6904-4438-4183-8791-C822390C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D177-3195-4ECB-85C3-1FAD51F6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E9B9-D754-4908-9ADD-4E3C6AA0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E99-C87B-4437-8647-4592DFC1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AC81-62A9-4E80-AC45-E6DEE6A3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8FBD-8A68-409E-9D6C-F1B6B96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5D74-A686-4002-9994-A51A71EE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E04D-4C88-4111-ADE9-282B5AF1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D094-0449-4A82-A035-051B61C2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4ACD-C705-48F9-BE81-1AF040E7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C835-413B-439A-8FA8-CD7868DF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719F-4654-454E-A8FC-60C18CF6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F6FC-E48F-4EB0-92D5-BC65CDA7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DB0D-ECD5-468E-A4D1-5562848A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8AF-47D8-4345-891D-25777C6D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A11D1-E388-4D4E-951F-1CFD476C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7C52-3C8E-4C98-B1B1-E48E6C5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9AD1-935F-4245-A727-60AD5C31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08F34-B586-48A5-9B53-E8F80113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4A49D-6675-48CD-B1A2-19EAAF1C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6041-B298-4FC3-B643-ADB8C643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18BA-BE76-4F38-B669-757FB918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17839-FFAE-4AE9-8B1D-D5AFDD8F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CBF5-193B-4B66-AC94-FA26E6E6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DACCB-1D59-4C35-916D-CD12F4C3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432-C9B8-49A1-B5DA-942FF282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6E49-46D3-441F-BD69-89C9A96C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FA03-0AA8-4EB7-8D5E-4094390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624B5-9D33-48EC-BC59-CBD7D681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2BEA-3400-4947-83A9-C4D7ED69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E9E2-15BD-4711-9E4C-4A26CED7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2D899-1625-4CA7-8762-19722DE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AC2E0-31B5-4DAD-8D58-8F784DEB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333D5-08D5-446A-9458-44FDB005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A5E9-A85D-4AFC-BEC0-96CAC03B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38A0-E8F1-4AC9-AD28-9DFED12F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1C2-58B2-4291-A769-2EBFE855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353CF-1A1E-4A74-A695-EEB01531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C60A3-FF16-4C94-A861-4203E120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44CA-B9FE-431C-8D66-E2543045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C09E8-E5C2-4920-B7BB-433D3B68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1E789-0B7B-4988-86F0-635F9DF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32F3A-D93E-4D5C-A04C-22D63D18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063F0-4989-4DFA-9F33-41150597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50FB3-BD94-46FA-B35A-A9CE3CD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90FB2-F457-4F76-B940-4B7BF1AE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C4980-0D1A-4032-8866-BFD269D9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030-1C52-43E9-A099-F32013AC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8766E-7D5D-451C-91AB-17996264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04AE5-98B0-4FD2-BBEF-15280972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D6158-F092-4EEA-ADD8-889796B6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5224F-6970-4ACE-8041-AB21BEF7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75A53-906E-4C56-A34A-C70BF298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09C27-F699-4E9C-9897-B346B9F2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71994-E973-4AA1-8A0B-BECC6F5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AA121-EAAC-47DE-94DB-4237CAB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B4F4C-1759-4902-9A0C-3BB6A061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DC8A5-92D6-4DE1-AF50-34ED5407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53D-F7A1-4A14-AF44-D9B72DB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548B5-C7CA-49BF-AE60-812F1319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B465-E52D-4470-8344-DA271339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80DEF-713F-4A15-BFDC-0C53876B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91D5C-ED99-4B98-9272-D7C981CB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2ED4F-D2BC-4F35-9148-EC00908D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1DFAF-4090-4ED3-BFD8-2ED4B8D8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0AC9A-1CC8-4363-997F-023E77D9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8FE8A-E056-4D3C-9E7C-BEBF7F74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CD188-658B-4A0C-BC4D-B0E0D3BC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B6E0-7583-47F5-942D-424F238F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8F7-FA12-4551-9FFA-0E27539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B343D-079F-4BC1-9A1A-DFF0DF87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EA296-1B53-4910-AA7C-A885B89C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E8E31-3599-4013-B51A-36A55642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D79AC-EA8B-4A78-A798-5A585277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16126-F572-44F0-950A-B23475BF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11EDB-398E-4935-8B69-2590CB8D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409EC-B398-4363-9D04-A4183E66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F0FA7-56C2-4972-B2B7-6BFFB770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E1185-E6A2-41B2-B042-83966C04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90EF7-D880-43DF-8E2F-F6E285F3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85A-EE15-4AC8-B809-951D2BF0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90828-2D74-458A-9803-512E915F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B14A9-36B7-4EF1-AE85-84042720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9B5B8-E5CA-43E8-8E12-154CE547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C7040-9572-4056-A71F-F7DF0201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D7CB8-675A-4FD0-9B90-F194AAE9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138E6-F821-4B73-82FB-D642894D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DDC2D-0925-422B-A28B-26739E1C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0D914-970F-4E6F-88FD-F49106F1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33883-5FAF-473C-8947-FBEE5106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165A8-B761-4D96-9738-58FFF06D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802D-CB18-4ECB-BCD5-3CA9BEA308F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FCB4-5B57-4E57-BEB2-1966959850D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FD21-2010-418C-BA51-AC3E83B56C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84C6-05D4-4760-B061-9364DE9B13F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4BB7-59D8-4C7F-9814-AA9E6B81D3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BBE-9334-4F93-A2FC-CC2F6A8213C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9096-F0C2-44F2-A453-94CD278B4D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92BE-A968-430A-B5C1-2D1CEFD924A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D653-94ED-4BB5-B2E5-6AEE0B4657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E839-2A6D-491B-BD37-9DE51474FA7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9D14-EBB0-4A74-A22B-AE3BD4E8581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9F9E-7398-4244-B192-AE32F119347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C827-0DD3-4916-AD77-60E26972F6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6"/>
          <p:cNvSpPr/>
          <p:nvPr/>
        </p:nvSpPr>
        <p:spPr>
          <a:xfrm>
            <a:off x="304920" y="609480"/>
            <a:ext cx="853416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9C77-A67C-4A4A-900E-0AD67DFB119F}" type="slidenum">
              <a:rPr b="0" lang="en-US" sz="14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4672-E387-487C-9557-4BCAB4212E4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1366-0728-47C9-8AC1-68B1C8449A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C6C2-1DB1-4EA9-A487-62493EA3E9D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5FDE-5115-4F83-8AF5-31CE81DC4C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BF3A-9F47-4D77-9D00-DC38D45E311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0B92-D3BF-4DA2-A84B-3785134C58C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FDAC-0814-405C-AF91-C3E10438119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CCF6-22A2-4E3D-9BAE-63ADF07138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0BDC-E5B3-41FB-B841-5BB0C79B734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CB0C-078C-4E3D-9F1F-067945F089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827-7353-4A8E-9790-EB88FAAD65B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57F3-A1ED-40D6-8230-B5AFD49BC0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2"/>
          <p:cNvSpPr/>
          <p:nvPr/>
        </p:nvSpPr>
        <p:spPr>
          <a:xfrm>
            <a:off x="228600" y="609480"/>
            <a:ext cx="868680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职场达人动画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动态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2"/>
          <p:cNvSpPr/>
          <p:nvPr/>
        </p:nvSpPr>
        <p:spPr>
          <a:xfrm>
            <a:off x="-604800" y="609480"/>
            <a:ext cx="936792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-604800" y="609480"/>
            <a:ext cx="9367920" cy="11430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5:53:19Z</dcterms:created>
  <dc:creator/>
  <dc:description/>
  <dc:language>en-US</dc:language>
  <cp:lastModifiedBy>a</cp:lastModifiedBy>
  <dcterms:modified xsi:type="dcterms:W3CDTF">2014-12-31T04:55:10Z</dcterms:modified>
  <cp:revision>4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