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27A7-DC9F-4A5A-911F-7A0B67F2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5539-F1F8-4BC7-8E98-FE939AFE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F751-B4AE-4AD4-B589-DA48F738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CC43-FD54-49DF-A04C-B37672EB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1E12-0B00-4B80-B19D-F660A941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4502-F8BF-497D-BA5E-9FB782FE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E089-60C0-4213-B547-793564C6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D8E2-361F-498D-8911-2F3918B9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300A-FD4F-4109-A400-FEB9849D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3AFB-22E6-4C7A-B9AD-ABAA44AA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3780-C287-4887-BBE0-B886CE8D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0B35-77BF-4ECF-A41E-EC62A0DE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C573-6D7F-4D63-A189-E09314FCE13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695D-F1FC-487B-8132-4F118558B8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fighting (1)"/>
          <p:cNvPicPr/>
          <p:nvPr/>
        </p:nvPicPr>
        <p:blipFill>
          <a:blip r:embed="rId1"/>
          <a:stretch/>
        </p:blipFill>
        <p:spPr>
          <a:xfrm>
            <a:off x="0" y="636480"/>
            <a:ext cx="9144000" cy="55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fighting (10)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fighting (11)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5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fighting (2)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5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fighting (3)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fighting (4)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fighting (5)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fighting (6)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fighting (7)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5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fighting (8)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fighting (9)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dc:language>en-US</dc:language>
  <cp:lastModifiedBy>a</cp:lastModifiedBy>
  <dcterms:modified xsi:type="dcterms:W3CDTF">2014-12-31T04:54:01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