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DB1-1D7E-4536-87E8-9953F05F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957-7B02-4388-9B89-992A3C4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552FA-D123-401F-BE75-EA2223C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43395-03EB-43C5-8421-82E9DDD8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9275A-28CD-4747-B7A7-0543301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96B2E-D249-4096-A3CB-622A9ED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E07BC-0E3D-4AA0-BF78-710E298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7ED74-BD41-4383-AFBD-89DFF3C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AB5C4-5B46-4326-8B76-24660387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7929A-90B1-4CFD-9E35-3D89D727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B5829-5BAE-4FD1-8D57-E8ADD6E2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D7CA6-509D-41A7-8402-5FF4BCA4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D13-5750-4484-8F71-C6278548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F2239-B8E0-47E8-A692-2431F64F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856D7-204F-4149-9AD9-A0EBF7F1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8C344-E1FF-49FC-828B-588F23D8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7AF9A-7EED-40A2-8C71-A46DACD2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79DC3-C93E-446C-B76C-7BCB4CB9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6C09F-57E7-47D9-A979-F499BA0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349EC-0888-4300-8D6A-6891C064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5C185-D3E8-4AFC-B9BC-32385C3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33391-15BB-43D0-B84E-8B2F187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B225B-7016-45BE-B847-BA37AD71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FDF-2537-4D5B-8E87-3454243C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7448A-3C3A-494B-B7B0-AC60D357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9C3672-2C84-4EA6-9A53-EEBAA575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AE6E87-76C5-4108-8ACA-9FE367AF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A88AB9-FF6E-4B0C-95D9-4D901090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588200-FF32-459F-9492-28E45A3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4F5436-12A7-4696-9117-03CB61B5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5421AE-68B9-4273-858C-45684519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69541B-3931-4363-B914-C34FA20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A17BA9-C895-4B6F-B2BB-E663439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8C7B81-B365-4415-BA0B-A82BC48A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015-8193-4802-954D-D1A43288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F95955-0B03-4A22-95E8-D47E451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146F17-6B8E-489B-8D88-76247676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995724-2858-4361-9F81-FCE1EE1D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5D194-B0E0-4DA7-ADCB-0F9D580A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03E36-98C1-46D6-99C1-8796400F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0E640-A41B-46AD-808F-18C7A7D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6BC8D-311B-4737-8117-C97089D1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C0A40-06B6-4D54-8A41-5B58344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0225A-CC27-432A-AF3A-FAE02E96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49294-B7F3-4228-8CB4-2621A6C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6018-A4E3-47C5-A039-6EF5E93B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04666-DA69-4523-BD1A-2BA631E6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CDD8E-F762-45AD-8E65-BB8BE6D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D4994-3C06-461A-817E-6408496B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948D3-5C06-4533-994F-D28A7545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D6593-2843-4555-B0B9-37EB3FA7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B5B3F8-A0FC-4316-8024-43A6234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FB7A74-359B-4F37-8EA6-D5C1525A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DBF47F-55ED-4AE2-8682-F268D22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B81BC9-3797-4DDD-A4DA-65310076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F6ACAB-58E0-4E18-BDCA-1739AFC0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646D-E7C9-44CB-86F7-C80A783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ADC077-4270-456C-96E6-77D41B37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55B8E5-90BE-4BB8-A413-9D88F6E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668C19-CC11-41B6-BCC6-B08712E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7C3E51-34B6-4914-8793-CACEC525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D8A869-E597-4D18-8EC1-748A65A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A78178-CF3A-440F-B419-E47E35A3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0CE27F-67EB-40E1-963A-96F909C3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74183C-A7F3-41BB-8A79-1391590A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8DAA83-C730-45A9-989A-00F783ED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5BD336-6FE6-498B-814F-43F3B888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A774-D1BC-40EB-8BB0-3259F1F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B7C50F-A6A0-4C74-9CD3-2FBCAF6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2FC7DB-D947-4F99-875B-B3F094B4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BECE56-92EC-4EFB-82BF-57CBCB0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B6127A-22B8-4B08-B841-06530E4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2402B9-C247-459E-B468-CB6249F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93450D-13D7-4066-9FBE-BCE2F8D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E24350-F5EB-4276-9AD6-953C26F7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6FD240-5339-4ED2-9460-F622B807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C31EF3-7A3C-4715-9B1C-3934F2C5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5FD7DE-788C-45E5-A2B4-C1DE1290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59D0-3AA7-4C9C-9521-458D20A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53A073-6100-4076-9145-323F064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921183-FCD0-45CF-B230-2AF9DAA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15504C-CF17-4702-AA65-14848362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1AB47F-09A8-48E7-B73C-B9DE3505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C11C19-4799-4ECD-842A-4762C0C4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9AB313-FED5-4E0B-AB01-1D61567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449D4E-BE96-48EC-B818-7A4C799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9C9AAC-0D8E-4A8F-9B3B-6E6281F2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7A724D-75B1-4DA6-A12E-877089B8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EE0C8F-2F45-4953-8CB7-05C14638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3AAF-9178-41A8-8AC3-F7F8BB0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D85F51-0FA4-4B81-9E18-79BD2C54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32F773-DE9C-4D9C-8BDB-64851533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52E65E-4DDF-49D7-A226-4A05C8D1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01538E-1B83-4DDF-9579-7E207E54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37501C-6774-4C12-8AAD-8A48421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AE2CE0-4E5F-427B-9819-7A16CAC7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EB8166-E0DF-406F-8D98-6BC6ABA9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55B76C-E2DF-420B-81A7-46C7BE2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9ABEF4-5B05-4BB4-9FFB-1992C1B8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3A2CCF-BA29-4974-8BF0-96107CC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FB18-6C2F-4022-841F-314A21A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74D73B-D1B3-4737-A514-EA43CBD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1EC4EA-E3F3-4E0B-BD29-4FE1340B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702405-0D1C-4D94-87F9-2CBFEDCF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C6D-AEF8-4E15-9692-1C4C54A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5471-00B1-4E32-9FAA-79F19AF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57D-91B4-45BA-9521-D621859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4AEE-5899-41E2-BEA4-E3E63FF9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37D5-E96E-4A1A-B1CF-E6F4C773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DD88-ABD0-4E5D-B0E4-E26963F6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80F3-D7B0-497A-AFC9-021501B8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ECC1-28BB-49BF-858E-B6B4147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4FFE-9ABC-4C52-B1FD-BBF354B6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33B9-536E-4126-A6F7-D0D2874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5630-39D9-43F9-A891-CB14802A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CCB-F0BB-46E4-ACD2-87DED248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C582-2B9E-4E7F-BA43-37B93419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5ED7-853C-4044-B698-763982A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0B26-7A25-4C6D-BBF9-20A1DB8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65E7-72B9-44C6-9BC3-A0A0DD9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506D-D74D-424D-86D2-687A4AC7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5934-4C97-4BC3-8001-7F04F16D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0718-BC33-4F60-8F78-59D095C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F92B-6D9A-4052-9C54-572587AA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99CB-E23C-4301-A4CE-7B56775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7890-F17E-431B-9AA9-BB2737E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2F3-45F9-4D5D-A60B-CBCA8D57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D9AB-51FD-4055-9BBF-1513F9DA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DBC7-637F-4576-B266-806C44C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F5C4-2C35-4F72-AC6E-AB6C8268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71AB-1BE7-48BD-9732-9F22858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B594-DF79-414C-A23A-A72D64F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0E93-370D-4144-B76F-9014CC3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F7D8-1316-41D9-B1FE-5DC46FE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2C43-C8F3-4FFE-B776-7CE37066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7F30-4F6A-4614-9569-F66C4FDA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172-5276-41A5-8BD7-D5ED18EC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0F3-8B2E-4072-AEF0-8AD87AD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1245C-1AD8-4A1B-BAA0-3C8BD403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59E2C-DCB6-4487-8913-141EEF5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20D5B-9D06-43EB-8C73-9700E5F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5621B-8F40-4B46-87C4-D6A3D4E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FFE253-21CA-4436-B7C8-80904308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5EA194-C0C7-4EAB-9A45-3DADC43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14763-30AE-4727-BD24-81D99A0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AC0C86-9B90-4B67-967B-FA77A28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FFAF9-510C-410E-B2C7-7C61117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A74-5505-424E-B600-1391FB4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A2FFF-3BEA-4A33-87CE-6123BF4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550BB-C7C5-42E0-BA27-F6C48DDC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700B6-0832-451E-A683-4477C875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9B7196-A2B4-41F6-8BF7-8636C19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6B9671-1937-4923-A307-73C124DD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A34B74-2CD6-43FB-A850-8BC874F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195B9-3A4E-4DD1-BB7C-AFF0C37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FD932-8FCB-44AD-B490-4813D7D9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E17147-3E48-4EE7-B1F2-C97280B8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F8718-51C2-484C-BE90-46FDFDA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CBF-4108-4F57-9425-F8F21A6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AE74F-79AA-4EE4-B635-F182DE3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C9749A-A21A-4F99-98F5-E2EB3F1E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E1DFB9-706A-4E4B-BBEC-4758D90D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98071-7648-49E4-BE9B-9EE0E78C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7862F-7FDA-49A1-9466-EFB9CCFE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64260-618A-48CB-8673-8A718299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B5E8BE-D7D6-403E-9DBC-9DFB90B1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42A70E-A32A-436D-8B39-738E14E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D0789-D71C-40FF-AA8E-8A137C8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EEB0AF-2FCD-4221-851D-A25BA5A0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1CE-7A90-4D6C-9CB7-3E90879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EE0F39-F00B-467F-A3DF-6C9C645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243E61-1B2A-4931-942E-01ACA7F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9DE65-E37D-410A-B5D6-67169C1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FCAD3-2955-4D6B-9F89-A27E9C7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4B6FD-3B30-4D80-ACA4-FCB55920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F689E-EEDD-4FCF-9542-655B7331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A2F672-E7AD-4AF9-B1DD-B5D0A843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F094B-1B55-4608-9AEF-394739CF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CDE72-4078-4289-BCB1-31AC5A5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5E4F2-FDA2-47FD-B95A-4A1B367F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771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173-0B64-4801-859C-9075BC0EB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CD54-F4F9-4902-B28E-D89651A529C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5104-D302-44D8-965E-ED465EA80B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4FB6-D8F2-437A-8BC3-24DEF779586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B90B-2761-4D9B-8DEE-09A11B2AD9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CE91-8955-46CB-AE07-D37BE86A4CB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109-FCC9-41C2-B640-A8B2708B71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7FAB-499C-415C-87BE-AEAA21D3AD9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8DBB-A048-4FEF-B112-697330E9C9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38C4-A8B3-444E-B1E5-9404BCA0AE1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3C77-9DD1-4AA7-9C05-1844A0311AA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FAD9-6402-427A-9450-69118C44BCD1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B0E-EB85-4B43-A963-2404D42C0A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AA2-4043-41EE-B311-CAD5EF9F641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861A-6739-4DB2-94C2-176EA9C031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3840"/>
            <a:ext cx="7931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720" y="915840"/>
            <a:ext cx="793116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371B-F11C-4B77-877E-3A88CAE6A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9158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9C3-0535-4A24-82E7-E20B19316F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EB48-79B7-4C69-80F2-A8F88459BCB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377F-FDB7-4F2B-B9ED-081D12B025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771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020000" y="4876560"/>
            <a:ext cx="21333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8577-0D4C-4D7B-9776-7CED4D9F9E6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777-EB53-4913-8D4F-97CB241355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B1A8-DC0D-4AA6-894F-213DD688844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87F-455B-4302-A96D-30D62A480D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B68-5EE4-4CCD-94FF-69316F058CF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357-2584-4B81-B363-F046A0EF1D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6C21-B56F-4AAE-9593-1B6D7A42626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48F6-CA7F-4380-AD13-15BAE9D2EB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4000" y="3652560"/>
            <a:ext cx="59767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24000" y="4373640"/>
            <a:ext cx="4176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6560" y="9158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6560" y="771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931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915840"/>
            <a:ext cx="793116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55640" y="4444560"/>
            <a:ext cx="44658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谢谢欣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66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4:03:26Z</dcterms:created>
  <dc:creator/>
  <dc:description/>
  <cp:keywords/>
  <dc:language>en-US</dc:language>
  <cp:lastModifiedBy>a</cp:lastModifiedBy>
  <dcterms:modified xsi:type="dcterms:W3CDTF">2014-05-26T01:17:3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