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6.jpeg" ContentType="image/jpeg"/>
  <Override PartName="/ppt/media/image7.jpeg" ContentType="image/jpe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22512-E813-4566-8316-680696BD1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514AF-1E1D-48B5-85A4-BE462364F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9BBF6-4396-42D4-B7A4-D8024F06D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98848-DF42-4F76-887E-9A70653A3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2F8E2-D835-4F3E-9244-B910BE5A1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92C96-056B-4708-8231-5C6BDD416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D7EC3-CF55-472E-97A4-E61D39B26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29F3D-FB34-4B27-9BB6-11F461D8F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1AFC0-4C3D-4304-BAC8-D9997701B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48129-CC5F-4B82-B4D1-DD3E2E2D5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723D1-1C94-4455-906F-495467746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164CD-3010-4863-94F9-4B84E94FB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B54B6-8A1C-48C8-98DB-B7323E088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3902F-A87F-46AF-BD5F-2DEDC3811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F9614-61E3-4605-A132-0FD22E60C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2EA68-CD5C-4E71-9CC6-950C486EB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FDA6F-375B-4F20-A05A-AB8DDBB42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D5CADB-84AE-40D5-8AC7-620690A88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26C0C9-40D8-4DA7-A4A2-6DA12120F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3B84F1-A7E0-407A-B95F-91F59ACBB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0FB034-1F1D-4531-B1EB-E34238C62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366A50-B064-4FAA-8407-B031FAB41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1E1FD-88E5-4BA4-8D04-8D0390277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AEE8DA-E443-4830-B97C-14DDA9259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9CC654-EB00-404B-838F-6721585B4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5850DF-85E3-441A-9113-F20DF4AF4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489060-77B1-49D2-848F-CCD5CA50F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0B859F-2ABC-4FF3-8844-18861654A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2D5127-CE7C-4ED5-8808-B4DD6B484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F43689-1BCD-460B-9719-337CC4B3A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4AAA2-8071-4F82-AD2C-8F6734EBA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A25C1-DD89-471F-AFB0-3FCA8C8B1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8D9BD-2448-4E45-B239-09EDAC0E5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4B1D1-DF19-4FDD-9E60-D08524630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4EC13-4EAC-4951-91DC-B7280A636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E5333-C4A7-4ED9-985E-4E430F04A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6006D-F2E2-441B-A0BB-DC7B0729A51A}" type="slidenum">
              <a: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11EC3-8233-4B46-B637-A35A948F9192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B6FEC-1EE3-4D6B-A6C0-3103B1E9180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8F931-F9CA-4024-8267-856F325D3F9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934f06046b1e378e75a629ce65b1d146."/>
          <p:cNvPicPr/>
          <p:nvPr/>
        </p:nvPicPr>
        <p:blipFill>
          <a:blip r:embed="rId1"/>
          <a:stretch/>
        </p:blipFill>
        <p:spPr>
          <a:xfrm>
            <a:off x="-31680" y="-17640"/>
            <a:ext cx="9212040" cy="684864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3"/>
          <p:cNvSpPr/>
          <p:nvPr/>
        </p:nvSpPr>
        <p:spPr>
          <a:xfrm>
            <a:off x="6610320" y="822240"/>
            <a:ext cx="1851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4"/>
          <p:cNvSpPr/>
          <p:nvPr/>
        </p:nvSpPr>
        <p:spPr>
          <a:xfrm>
            <a:off x="6878520" y="824040"/>
            <a:ext cx="18082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Arial"/>
                <a:ea typeface="方正大黑繁体"/>
              </a:rPr>
              <a:t>中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Arial"/>
                <a:ea typeface="方正大黑繁体"/>
              </a:rPr>
              <a:t>国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Arial"/>
                <a:ea typeface="方正大黑繁体"/>
              </a:rPr>
              <a:t>历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Arial"/>
                <a:ea typeface="方正大黑繁体"/>
              </a:rPr>
              <a:t>史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2"/>
          <p:cNvSpPr/>
          <p:nvPr/>
        </p:nvSpPr>
        <p:spPr>
          <a:xfrm>
            <a:off x="1938240" y="790560"/>
            <a:ext cx="56581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第一单元 侵略与反抗……………………………………………………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第二单元 近代化的探索…………………………………………………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第三单元 新民主主义革命的兴起………………………………………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第四单元 中华民族的抗日战争…………………………………………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第五单元 人民解放战争的胜利…………………………………………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9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第六单元 经济和社会生活………………………………………………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第七单元 科学技术与思想文化…………………………………………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课 科学技术与思想文化中国历史大事年表（近代部分）…………………………………………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3"/>
          <p:cNvSpPr/>
          <p:nvPr/>
        </p:nvSpPr>
        <p:spPr>
          <a:xfrm flipH="1">
            <a:off x="7884360" y="25560"/>
            <a:ext cx="1258920" cy="6788160"/>
          </a:xfrm>
          <a:prstGeom prst="rect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4"/>
          <p:cNvSpPr/>
          <p:nvPr/>
        </p:nvSpPr>
        <p:spPr>
          <a:xfrm>
            <a:off x="8101080" y="1197000"/>
            <a:ext cx="7603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"/>
                <a:ea typeface="微软雅黑"/>
              </a:rPr>
              <a:t>目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"/>
                <a:ea typeface="微软雅黑"/>
              </a:rPr>
              <a:t>录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5" descr="未标题-2"/>
          <p:cNvPicPr/>
          <p:nvPr/>
        </p:nvPicPr>
        <p:blipFill>
          <a:blip r:embed="rId1"/>
          <a:stretch/>
        </p:blipFill>
        <p:spPr>
          <a:xfrm>
            <a:off x="-2114640" y="-1889280"/>
            <a:ext cx="4164120" cy="1071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2"/>
          <p:cNvSpPr/>
          <p:nvPr/>
        </p:nvSpPr>
        <p:spPr>
          <a:xfrm>
            <a:off x="1692360" y="2708280"/>
            <a:ext cx="583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7200" spc="-1" strike="noStrike">
                <a:solidFill>
                  <a:srgbClr val="003366"/>
                </a:solidFill>
                <a:latin typeface="黑体"/>
                <a:ea typeface="黑体"/>
              </a:rPr>
              <a:t> </a:t>
            </a:r>
            <a:r>
              <a:rPr b="1" i="1" lang="zh-CN" sz="7200" spc="-1" strike="noStrike">
                <a:solidFill>
                  <a:srgbClr val="003366"/>
                </a:solidFill>
                <a:latin typeface="黑体"/>
                <a:ea typeface="黑体"/>
              </a:rPr>
              <a:t>侵略与反抗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3"/>
          <p:cNvSpPr/>
          <p:nvPr/>
        </p:nvSpPr>
        <p:spPr>
          <a:xfrm>
            <a:off x="395280" y="404640"/>
            <a:ext cx="2592360" cy="1408320"/>
          </a:xfrm>
          <a:prstGeom prst="rect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4"/>
          <p:cNvSpPr/>
          <p:nvPr/>
        </p:nvSpPr>
        <p:spPr>
          <a:xfrm>
            <a:off x="395280" y="658800"/>
            <a:ext cx="2708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"/>
                <a:ea typeface="黑体"/>
              </a:rPr>
              <a:t>第一单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5" descr="未标题-1"/>
          <p:cNvPicPr/>
          <p:nvPr/>
        </p:nvPicPr>
        <p:blipFill>
          <a:blip r:embed="rId1"/>
          <a:srcRect l="0" t="0" r="28855" b="30556"/>
          <a:stretch/>
        </p:blipFill>
        <p:spPr>
          <a:xfrm>
            <a:off x="5730840" y="2133720"/>
            <a:ext cx="344952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未标题-1"/>
          <p:cNvPicPr/>
          <p:nvPr/>
        </p:nvPicPr>
        <p:blipFill>
          <a:blip r:embed="rId1"/>
          <a:stretch/>
        </p:blipFill>
        <p:spPr>
          <a:xfrm>
            <a:off x="2268360" y="765000"/>
            <a:ext cx="4392720" cy="6213600"/>
          </a:xfrm>
          <a:prstGeom prst="rect">
            <a:avLst/>
          </a:prstGeom>
          <a:ln w="0">
            <a:noFill/>
          </a:ln>
        </p:spPr>
      </p:pic>
      <p:sp>
        <p:nvSpPr>
          <p:cNvPr id="135" name="Rectangle 3"/>
          <p:cNvSpPr/>
          <p:nvPr/>
        </p:nvSpPr>
        <p:spPr>
          <a:xfrm>
            <a:off x="0" y="260280"/>
            <a:ext cx="9144000" cy="504720"/>
          </a:xfrm>
          <a:prstGeom prst="rect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4" descr="撒"/>
          <p:cNvPicPr/>
          <p:nvPr/>
        </p:nvPicPr>
        <p:blipFill>
          <a:blip r:embed="rId2"/>
          <a:srcRect l="52143" t="0" r="0" b="0"/>
          <a:stretch/>
        </p:blipFill>
        <p:spPr>
          <a:xfrm>
            <a:off x="-42840" y="260280"/>
            <a:ext cx="2311200" cy="68580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5" descr="撒"/>
          <p:cNvPicPr/>
          <p:nvPr/>
        </p:nvPicPr>
        <p:blipFill>
          <a:blip r:embed="rId3"/>
          <a:srcRect l="0" t="0" r="48029" b="0"/>
          <a:stretch/>
        </p:blipFill>
        <p:spPr>
          <a:xfrm>
            <a:off x="6661080" y="120600"/>
            <a:ext cx="2519280" cy="68580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6" descr="01300000329092124687783769330"/>
          <p:cNvPicPr/>
          <p:nvPr/>
        </p:nvPicPr>
        <p:blipFill>
          <a:blip r:embed="rId4"/>
          <a:stretch/>
        </p:blipFill>
        <p:spPr>
          <a:xfrm>
            <a:off x="4780080" y="1339920"/>
            <a:ext cx="3889080" cy="273672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7"/>
          <p:cNvSpPr/>
          <p:nvPr/>
        </p:nvSpPr>
        <p:spPr>
          <a:xfrm>
            <a:off x="612720" y="2854440"/>
            <a:ext cx="4159440" cy="192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微软雅黑"/>
                <a:ea typeface="微软雅黑"/>
              </a:rPr>
              <a:t>1</a:t>
            </a:r>
            <a:r>
              <a:rPr b="1" lang="zh-CN" sz="2400" spc="-1" strike="noStrike">
                <a:solidFill>
                  <a:srgbClr val="333399"/>
                </a:solidFill>
                <a:latin typeface="微软雅黑"/>
                <a:ea typeface="微软雅黑"/>
              </a:rPr>
              <a:t>、政治上：专制集权、吏治腐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微软雅黑"/>
                <a:ea typeface="微软雅黑"/>
              </a:rPr>
              <a:t>2</a:t>
            </a:r>
            <a:r>
              <a:rPr b="1" lang="zh-CN" sz="2400" spc="-1" strike="noStrike">
                <a:solidFill>
                  <a:srgbClr val="333399"/>
                </a:solidFill>
                <a:latin typeface="微软雅黑"/>
                <a:ea typeface="微软雅黑"/>
              </a:rPr>
              <a:t>、经济上：客观存在的自然经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微软雅黑"/>
                <a:ea typeface="微软雅黑"/>
              </a:rPr>
              <a:t>3</a:t>
            </a:r>
            <a:r>
              <a:rPr b="1" lang="zh-CN" sz="2400" spc="-1" strike="noStrike">
                <a:solidFill>
                  <a:srgbClr val="333399"/>
                </a:solidFill>
                <a:latin typeface="微软雅黑"/>
                <a:ea typeface="微软雅黑"/>
              </a:rPr>
              <a:t>、军事上：武器落后、训练松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微软雅黑"/>
                <a:ea typeface="微软雅黑"/>
              </a:rPr>
              <a:t>4</a:t>
            </a:r>
            <a:r>
              <a:rPr b="1" lang="zh-CN" sz="2400" spc="-1" strike="noStrike">
                <a:solidFill>
                  <a:srgbClr val="333399"/>
                </a:solidFill>
                <a:latin typeface="微软雅黑"/>
                <a:ea typeface="微软雅黑"/>
              </a:rPr>
              <a:t>、外交上：关闭政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微软雅黑"/>
                <a:ea typeface="微软雅黑"/>
              </a:rPr>
              <a:t>5</a:t>
            </a:r>
            <a:r>
              <a:rPr b="1" lang="zh-CN" sz="2400" spc="-1" strike="noStrike">
                <a:solidFill>
                  <a:srgbClr val="333399"/>
                </a:solidFill>
                <a:latin typeface="微软雅黑"/>
                <a:ea typeface="微软雅黑"/>
              </a:rPr>
              <a:t>、阶级矛盾十分尖锐，人民起义不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8"/>
          <p:cNvSpPr/>
          <p:nvPr/>
        </p:nvSpPr>
        <p:spPr>
          <a:xfrm>
            <a:off x="324000" y="1125360"/>
            <a:ext cx="386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华康俪金黑W8(P)"/>
                <a:ea typeface="华康俪金黑W8(P)"/>
              </a:rPr>
              <a:t>第</a:t>
            </a:r>
            <a:r>
              <a:rPr b="0" lang="zh-CN" sz="3200" spc="-1" strike="noStrike">
                <a:solidFill>
                  <a:srgbClr val="ff0000"/>
                </a:solidFill>
                <a:latin typeface="华康俪金黑W8(P)"/>
                <a:ea typeface="华康俪金黑W8(P)"/>
              </a:rPr>
              <a:t>1</a:t>
            </a:r>
            <a:r>
              <a:rPr b="0" lang="zh-CN" sz="3200" spc="-1" strike="noStrike">
                <a:solidFill>
                  <a:srgbClr val="ff0000"/>
                </a:solidFill>
                <a:latin typeface="华康俪金黑W8(P)"/>
                <a:ea typeface="华康俪金黑W8(P)"/>
              </a:rPr>
              <a:t>课    鸦片战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9"/>
          <p:cNvSpPr/>
          <p:nvPr/>
        </p:nvSpPr>
        <p:spPr>
          <a:xfrm>
            <a:off x="333360" y="2085840"/>
            <a:ext cx="443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一、鸦片战争前的中国形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10" descr="4122317_080457037879_2"/>
          <p:cNvPicPr/>
          <p:nvPr/>
        </p:nvPicPr>
        <p:blipFill>
          <a:blip r:embed="rId5"/>
          <a:srcRect l="0" t="0" r="0" b="8099"/>
          <a:stretch/>
        </p:blipFill>
        <p:spPr>
          <a:xfrm>
            <a:off x="4829040" y="4156200"/>
            <a:ext cx="3840120" cy="235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2" descr="934f06046b1e378e75a629ce65b1d146."/>
          <p:cNvPicPr/>
          <p:nvPr/>
        </p:nvPicPr>
        <p:blipFill>
          <a:blip r:embed="rId1"/>
          <a:stretch/>
        </p:blipFill>
        <p:spPr>
          <a:xfrm>
            <a:off x="34920" y="1700280"/>
            <a:ext cx="9136080" cy="515772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3" descr="彩电"/>
          <p:cNvPicPr/>
          <p:nvPr/>
        </p:nvPicPr>
        <p:blipFill>
          <a:blip r:embed="rId2"/>
          <a:srcRect l="24495" t="40648" r="0" b="0"/>
          <a:stretch/>
        </p:blipFill>
        <p:spPr>
          <a:xfrm>
            <a:off x="-19080" y="44280"/>
            <a:ext cx="3649680" cy="407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5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146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7" name="Picture 4" descr="http://www.elixirinteractive.com/LookFeel/elixirinteractive.com/images/headers/brand-awareness.jpg"/>
            <p:cNvPicPr/>
            <p:nvPr/>
          </p:nvPicPr>
          <p:blipFill>
            <a:blip r:embed="rId1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TextBox 7"/>
            <p:cNvSpPr/>
            <p:nvPr/>
          </p:nvSpPr>
          <p:spPr>
            <a:xfrm rot="20926800">
              <a:off x="1908000" y="3573720"/>
              <a:ext cx="46670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www.</a:t>
              </a:r>
              <a:r>
                <a:rPr b="1" lang="zh-CN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eeppt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2:25Z</dcterms:created>
  <dc:creator>Administrator</dc:creator>
  <dc:description/>
  <cp:keywords/>
  <dc:language>en-US</dc:language>
  <cp:lastModifiedBy>a</cp:lastModifiedBy>
  <dcterms:modified xsi:type="dcterms:W3CDTF">2014-05-22T01:19:37Z</dcterms:modified>
  <cp:revision>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632</vt:lpwstr>
  </property>
</Properties>
</file>