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213-E908-41C4-A1BB-88DECCC1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A8A-0C1F-40DF-AF0F-5E94250A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9CB-80FC-435C-9737-C5BC2B17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56A-EB6E-4CE8-A421-95C7E59C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343-D1D1-407C-92AB-2DBFD4EA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2FEE-4A36-4ADD-9995-7656C4F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E17C-1DB2-41C4-9E1C-488102F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6E1F-40B0-41E9-B9A6-F76DCEB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21CC-09EE-45D8-9656-3EB42C3B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449-B0C6-45A3-BE26-56567626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C73E-F7B6-4E94-AB4B-5F37A7C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908-0441-4066-AE9E-7D3CE97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3044-93FC-42CF-B397-0CAD65D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F979-594E-41A2-86E8-7D054CA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7BFC-9A9E-44C6-840E-14E3399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7B6-479E-40F0-A1EA-AB7AEEAD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56DF-BCA9-4748-9472-B04CC6F1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0FA-3AA9-42DE-AEB1-A9D62FD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28920"/>
            <a:ext cx="264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3EC-B134-4DDC-9CEF-B7E7964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FCE-76C7-4DF9-86DB-136942D5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73A-7C8F-457B-B0CD-D2302E8B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CF7-4669-4522-847D-3FE3DEB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2892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5C5-D3EA-4D01-B32C-4326E61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28920"/>
            <a:ext cx="82296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F99-7460-4567-ACD0-6F3CD6F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ake_a_seat_and_enjoy_autumn-wallpaper-1920x1080"/>
          <p:cNvPicPr/>
          <p:nvPr/>
        </p:nvPicPr>
        <p:blipFill>
          <a:blip r:embed="rId2"/>
          <a:srcRect l="0" t="62086" r="0" b="7741"/>
          <a:stretch/>
        </p:blipFill>
        <p:spPr>
          <a:xfrm>
            <a:off x="0" y="4276800"/>
            <a:ext cx="9144000" cy="155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108C-54E5-4659-A7D8-7DC24CE0AA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2720" y="233280"/>
            <a:ext cx="66340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52720" y="1344240"/>
            <a:ext cx="6634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978-550A-4B51-B6C2-49BC825B27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take_a_seat_and_enjoy_autumn-wallpaper-1920x1080"/>
          <p:cNvPicPr/>
          <p:nvPr/>
        </p:nvPicPr>
        <p:blipFill>
          <a:blip r:embed="rId2"/>
          <a:srcRect l="3152" t="0" r="78043" b="-269"/>
          <a:stretch/>
        </p:blipFill>
        <p:spPr>
          <a:xfrm>
            <a:off x="-31680" y="3240"/>
            <a:ext cx="1938240" cy="583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-11160" y="3182760"/>
            <a:ext cx="915516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1840f"/>
                </a:solidFill>
                <a:latin typeface="Arial"/>
              </a:rPr>
              <a:t>坐看朝阳风景</a:t>
            </a:r>
            <a:r>
              <a:rPr b="1" lang="zh-CN" sz="4000" spc="-1" strike="noStrike">
                <a:solidFill>
                  <a:srgbClr val="c1840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1840f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c184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2720" y="233280"/>
            <a:ext cx="66340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2720" y="1344240"/>
            <a:ext cx="6634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58400"/>
            <a:ext cx="8207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55240"/>
            <a:ext cx="842472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279360"/>
            <a:ext cx="1388880" cy="29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3546360"/>
            <a:ext cx="8281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>a</cp:lastModifiedBy>
  <dcterms:modified xsi:type="dcterms:W3CDTF">2014-12-31T04:56:3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