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96625-965F-48B7-962F-6193F2EB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AA953-A75E-4DB1-972D-13689C74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E4B59-5936-4619-8D4F-BE7D007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E72B4-255F-439F-A765-96A72003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CF060-2F73-4703-9D0A-DE937F0F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69B67-9A55-47B2-9092-EA0D42A5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58E2A-5F91-4B01-936D-599C2EB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12C2-9F5B-4C50-B442-8B5425E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A07E1-8354-40C5-9A1E-D24D47F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CD684-0652-4B55-84F7-AC6966F7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FBAFF-08F2-4BC2-BEB7-F5BD5EF8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18DBE-8B2B-4071-9E05-071F70A3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9EFA81E4-B006-41D2-93B2-FDC169105B3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F1013002_Folie1_T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F0EA-846D-493E-BE30-C727B47D16C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00D9-10FA-4977-B6CA-D7F08F6056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3640" y="4998600"/>
            <a:ext cx="74851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足球场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63640" y="5769000"/>
            <a:ext cx="751032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de-DE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de-DE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de-DE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de-DE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de-DE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de-DE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37:44Z</dcterms:created>
  <dc:creator/>
  <dc:description/>
  <dc:language>en-US</dc:language>
  <cp:lastModifiedBy>a</cp:lastModifiedBy>
  <dcterms:modified xsi:type="dcterms:W3CDTF">2014-12-15T17:42:01Z</dcterms:modified>
  <cp:revision>25</cp:revision>
  <dc:subject/>
  <dc:title>Silves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