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6480175" cy="3959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625320" y="685440"/>
            <a:ext cx="5607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6D17327-43F7-4354-AF1F-99BD964570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625320" y="685800"/>
            <a:ext cx="560736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46c0a"/>
              </a:solidFill>
              <a:latin typeface="Arial"/>
              <a:ea typeface="微软雅黑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D8947F1-5701-456B-BCF1-EBEB0F2684C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8B69-8F15-4B94-8D1A-703468EA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B95-20F0-4A2F-A302-923544A7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059B7-1CB7-4F70-AE59-0779083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FF528-4509-40A8-9B86-1239B0FC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4E5A-3840-4C92-8355-3F4BDAF9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70008-A71E-486E-9E4A-7CF07ABA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B7ED6-2F6D-4909-B037-FA3E13B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34703-1C51-48E6-9FEF-31A37E22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2614C-B36E-4841-9FA3-9E09B21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23519-4A2B-480E-A7F2-CEEBC881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13CD7-7ECA-48CF-B923-58487542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DF395-6332-4E6B-B9B4-25120713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7750-F7D1-4E65-9F17-99512915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06D59-9D3F-459F-A85B-12BB3877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5E03D-8B0F-428E-8871-4F34E33D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EB27-4B17-4ADF-8B7A-B7525DA2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BC743-02D6-4FBB-9E28-4C5346DC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7C906-FFE0-4638-BC46-E0EBA4DC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03F75-DFE6-4834-8A5E-76BF6704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13993-112B-4143-B6F3-8E49DA95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F0C8F-B707-437B-9435-9AFFE1E3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87BCC-E272-4566-B421-D2223F90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1A674-BE70-4DEE-8291-974285CB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5C4F-EDEB-42E3-BC57-4D41BD88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C897B-73F0-465F-AC30-0D09FF86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41A11-D3E2-4F33-9807-AC75EDA6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6EE0B-DA11-4770-85E6-439E9CCF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CB1E5-14DB-40B3-B450-23475278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AD017-9271-4830-8820-BC9E1133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5837-C1C7-4B64-8115-D9A5AB31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BD8A79-082B-4777-BD32-D073BEBB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16E63-16D4-40CF-8EEE-343C54E0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E0945-A269-4573-8235-706B7C59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ED888-BB9E-44EE-A85B-2268954E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892-529D-4871-A533-324703CE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18E8-5A4D-497F-A9AB-F529438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DC5C-3A58-47F5-9CEE-A6C058F4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FB0EC-41E3-42AD-B9E9-5C9FB801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A4B6B-5555-4A20-B7FC-3BCEB111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99255-ED2D-432B-8BDB-CF89216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0E6A9-8EEF-4E2C-AA44-92B28183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58DB-3C7D-482F-B2A8-DD927B37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AE13E-DD8C-44BF-9576-07E8876D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38733-0F29-4956-BC60-5166E10B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3DE60-5432-4E43-9A33-DA55CBFA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AC7B-A1EE-4E11-AB25-B78106C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542D8-5D61-4C16-8967-70B5FA5E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D0BF7-E3C8-4729-8932-6D57463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182DE-5FB3-4B57-996C-1D32585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E596E-7B94-4F9B-94D6-6B377803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C58F2-FDB1-4DA3-9C6B-943D909D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9CDBA-6406-424D-A355-09811AFF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AB498-B3F9-4ED8-8BA1-A5E0704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790C3-ACA6-4DA2-BDC5-170C3651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D7BDD-5A49-4092-BC2B-41ABEF8C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4BDF4-60A0-4520-A4C4-5D5A0652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36F6-4987-4B7F-BF75-26F09A4B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C2875-B1EE-4BCE-8E21-9806CA5D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DBE5F-1B6C-4309-A390-E45828BE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5C8F2-3E36-42D0-B4CE-3D1419B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C8BAC-876E-4E4C-9BF9-DFFA031B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8AB67-C34C-4524-9B78-613476C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EC6E6-334D-410D-A63A-82E8CD78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0D287-5A37-4767-A607-F493DACB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6470-3271-4747-B842-0392DEB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6F5E-5D2E-4952-BD4B-274CB809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3DA-563E-4ED5-8F17-1CB9EFD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22EA-266F-4FCE-95F3-4634EE37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A38-B0D5-4A6D-8A1D-51E554B5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502E-99CF-4E5F-9360-7DF73BE7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FF4-8D86-4F08-A0C8-624956E0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80AB-1566-472F-867B-04C74BAA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C12E-5ACC-4A28-A8DA-577EACEB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1E31-A248-43BD-8F0F-DF1471A8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F0948-F1E0-48B3-9080-F29A1FBA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D1830-70C2-4075-B4A4-91A51898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7323F-E2F7-484E-B9F2-86276F60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F53F-55E2-4008-8ADA-D08CC177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D71A7-F4D1-4DEA-83EA-66F42C8F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4AB-F985-4F42-8858-99B43B8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2DAD-6667-4B08-BF61-C74198A7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6144D-D35C-4D58-9488-D7BC045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8B75C-C77A-4195-A1BF-F2EB8CA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887F-786F-4A7A-8E08-7F01BD79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5D1A-9DA6-439E-A552-5EEA19D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8FC3-A6DF-4977-843B-6E61BCF5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D4C5-0727-4BF9-84E7-92E6DB19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9DEF2-F6A5-4C80-B361-4C24223A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8ADE-7BC7-4010-8C85-AF82DF6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4F0E-6DE4-4A1D-AB0C-1029668F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7B1-1A6A-44DB-84A4-02CEF5E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D51BD-25A9-4058-9476-F56A2FC9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30FF-B953-49B4-88B6-794D687F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EBD05-A93E-4D3A-B061-DE874189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D9572-E576-4377-B2B6-BDF2ADAF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EE02F-BAE8-4428-8F7E-E08F8DF4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8DB9F-0D4F-40A9-AC00-751D122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56B34-DC22-4E95-834E-C1E4FF24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73295-6EDF-43BA-A586-ABA9266B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5225-406D-47E7-A32A-C8AFA490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8C4E-652D-455A-B70B-D218F176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F46-4927-486D-A524-A161C7EC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AB9E-F259-4D4F-B9E1-2453E5F4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1643F-B87B-4647-B7F8-D9451777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33032-0735-40A9-A208-F18EFA5E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06B4C-165F-4B42-BB48-630B127D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F4C1-C9E6-4B33-B9A3-4EBE48B3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E2CC-585A-44D7-9F98-1C07DFF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C53F-6AEC-4AF5-B8B9-BCD920DC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BD0B-3E38-45A1-8CED-A11C4121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F287D-D06B-4A6A-853D-03C9D2FD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619E-BE3F-4C2A-AF72-BD2D2416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7D5-98C5-4274-B10D-24EEA0D8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0F3A5-F223-435B-A0C8-7E350996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65AB-D0A1-4915-AD05-0942745A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B7377-5EB6-4CAF-B467-C5C0192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801B-4D90-48EB-95EC-28294A02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36146-C6EB-4F11-B6F3-C48F8344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ADB48-FB67-4FE3-A926-E402793E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D873-3CA7-4C1D-9E77-B4D9C63A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D1738-9D9B-4959-A06A-88B323B5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14B50-48D4-419B-94C1-D6821AA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0E54-C0E9-45EB-B108-1A322532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E5F-8757-4C08-98A9-2ACB7EF0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B788-EFD1-46D4-BE8C-5BD83F95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AAA4-F36A-44FE-842B-8C47697C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C6362-A59B-4739-93C8-A9BD56C3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0CC4-0C31-487B-AA7F-5FA516C3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3B9C3-38D2-4100-B480-D909148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DE55-186C-45E5-8078-24D7578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D90C-8F90-47D0-BCD3-A478E826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FFFF-A7F9-4EAC-B322-122543F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81993-9513-41E2-8C77-87B9B41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6D910-BE9C-43F1-B720-DF123C4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439-9707-4624-9186-82D646CD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31734-8AEB-4CE9-918E-465F3AB6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CE5F-AB8B-4094-8085-5E9129D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5F170-C9EF-42FC-8EEB-284F8E9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02618-8D81-412A-AFC8-39D035EB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C1710-49C1-4A39-A05D-F76A678C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79AB-BC24-4976-84B3-B08A9AF1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5451-B540-4777-A4F7-97D50325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68053-9D69-4D07-8BB6-8E79979D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E2E7F-B54C-4684-8E3F-058A365A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5BA8-54A1-41C3-ACDB-15037FE7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B7D-E649-4DCB-AFC2-9595DA97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23640" y="158760"/>
            <a:ext cx="5832360" cy="30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E868B-3EA7-4796-A97F-8500BA68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F634-A9CF-4CC9-A722-4C8E667E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29C9C-1974-439E-83D1-BCCA487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BF828-B244-434E-9EF2-73C12236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640" y="2289240"/>
            <a:ext cx="58323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D9DD-207E-4700-BDD5-FFF2F398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2360" y="92340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2364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3312360" y="2289240"/>
            <a:ext cx="28461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784C-9C3E-4AED-8560-21A60FE9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29572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267800" y="92340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2364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29572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4267800" y="2289240"/>
            <a:ext cx="1877760" cy="12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02E0-802A-4050-AE55-4AAEB680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106DD-0019-450D-8040-DDD7CE67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265A1-E057-43F8-8C07-0DEAE151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AB27F-C382-4850-AB35-CEB5CAE1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 algn="ct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t">
            <a:normAutofit fontScale="96000"/>
          </a:bodyPr>
          <a:p>
            <a:pPr marL="213120" indent="-21312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64760" indent="-17820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714600" indent="-141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01160" indent="-1414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287360" indent="-14148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3669840"/>
            <a:ext cx="15127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zh-CN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14360" y="3669840"/>
            <a:ext cx="205092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642920" y="3669840"/>
            <a:ext cx="1513080" cy="211320"/>
          </a:xfrm>
          <a:prstGeom prst="rect">
            <a:avLst/>
          </a:prstGeom>
          <a:noFill/>
          <a:ln w="0">
            <a:noFill/>
          </a:ln>
        </p:spPr>
        <p:txBody>
          <a:bodyPr lIns="59760" rIns="59760" tIns="29880" bIns="298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5AA7590-E34A-404D-A5AC-217F61AE3455}" type="slidenum">
              <a:rPr b="0" lang="zh-CN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40D9E03-4008-471D-A0B9-B2A430B212CD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80A1A15-7445-4992-B204-916BA8325DA5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34D2F42-E98E-4608-95BE-7598F97D2A00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ED17857-9552-4C37-AAF0-3BD4FAD6CCF5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6A2E9C2-83E9-4252-89D1-64A4631CCB00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30E7A17-66C1-4720-8ABB-2095BCE78A96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DFC979CF-9968-4C5A-B47E-B04A3B5A02BE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D389CA1-31D4-49BF-92F6-B76000597E68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AFE5A4BA-B6B2-4CA5-AC40-4CE17A909866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27040"/>
                <a:tab algn="l" pos="1054080"/>
                <a:tab algn="l" pos="1581120"/>
                <a:tab algn="l" pos="2108160"/>
                <a:tab algn="l" pos="2635200"/>
                <a:tab algn="l" pos="3162240"/>
                <a:tab algn="l" pos="3689280"/>
                <a:tab algn="l" pos="4216320"/>
                <a:tab algn="l" pos="4743360"/>
                <a:tab algn="l" pos="5270400"/>
                <a:tab algn="l" pos="5797440"/>
                <a:tab algn="l" pos="6324480"/>
                <a:tab algn="l" pos="6851520"/>
                <a:tab algn="l" pos="7378560"/>
                <a:tab algn="l" pos="7905600"/>
                <a:tab algn="l" pos="8432640"/>
                <a:tab algn="l" pos="8959680"/>
                <a:tab algn="l" pos="9487080"/>
                <a:tab algn="l" pos="10014120"/>
                <a:tab algn="l" pos="10541160"/>
              </a:tabLst>
            </a:pPr>
            <a:fld id="{30A98DEC-EDCA-4D76-9214-5E1696738E38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F756E1B7-8AEC-408C-AEA0-D65522BDE91D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19B535D-D095-42A6-9751-8797415C5563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601299CA-BB15-4D0C-B3C0-2CDA48C80FDA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AB4ECED-1AB4-4270-AC39-1E8E44FE4D39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155E4F14-84E8-49D8-ADEC-C9C3398C077B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83941CDD-793F-4F6E-810E-A10191DFCBC5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CBD2F24-F608-434D-9612-9D88153ACF68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2BC1F86-3C1E-4EA0-9335-3545AB3F0814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47192EA1-A1B1-4A08-B172-F86D307EC6B7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E638A06A-8990-4421-8EFC-A41FF2DEA57E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25EE6AF8-2D10-4E60-A088-A889A37EFF52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90817A24-9121-4E10-8AFD-7B2034A5E3B7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3640" y="158760"/>
            <a:ext cx="583236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23640" y="923400"/>
            <a:ext cx="5832360" cy="26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6920" indent="-196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163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58800" indent="-1317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23760" indent="-1317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17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24000" y="360648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7E8AA86B-AF3B-43B0-899B-47475F1A2C20}" type="datetime">
              <a:rPr b="0" lang="zh-CN" sz="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214360" y="3606480"/>
            <a:ext cx="2050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4642920" y="3606480"/>
            <a:ext cx="151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51E5F3E1-964A-4C5E-A3E9-88C54E251D3A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0" descr=""/>
          <p:cNvPicPr/>
          <p:nvPr/>
        </p:nvPicPr>
        <p:blipFill>
          <a:blip r:embed="rId1"/>
          <a:stretch/>
        </p:blipFill>
        <p:spPr>
          <a:xfrm>
            <a:off x="0" y="0"/>
            <a:ext cx="6486480" cy="396720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6480000" cy="11127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4" descr=""/>
          <p:cNvPicPr/>
          <p:nvPr/>
        </p:nvPicPr>
        <p:blipFill>
          <a:blip r:embed="rId3"/>
          <a:stretch/>
        </p:blipFill>
        <p:spPr>
          <a:xfrm>
            <a:off x="184320" y="1254240"/>
            <a:ext cx="914400" cy="13046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5" descr=""/>
          <p:cNvPicPr/>
          <p:nvPr/>
        </p:nvPicPr>
        <p:blipFill>
          <a:blip r:embed="rId4"/>
          <a:stretch/>
        </p:blipFill>
        <p:spPr>
          <a:xfrm>
            <a:off x="6480" y="3124080"/>
            <a:ext cx="6480000" cy="84456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6" descr=""/>
          <p:cNvPicPr/>
          <p:nvPr/>
        </p:nvPicPr>
        <p:blipFill>
          <a:blip r:embed="rId5"/>
          <a:stretch/>
        </p:blipFill>
        <p:spPr>
          <a:xfrm>
            <a:off x="5473800" y="1219320"/>
            <a:ext cx="861840" cy="1438200"/>
          </a:xfrm>
          <a:prstGeom prst="rect">
            <a:avLst/>
          </a:prstGeom>
          <a:ln w="0">
            <a:noFill/>
          </a:ln>
        </p:spPr>
      </p:pic>
      <p:sp>
        <p:nvSpPr>
          <p:cNvPr id="545" name="矩形 11"/>
          <p:cNvSpPr/>
          <p:nvPr/>
        </p:nvSpPr>
        <p:spPr>
          <a:xfrm>
            <a:off x="0" y="0"/>
            <a:ext cx="6486480" cy="39686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12" descr=""/>
          <p:cNvPicPr/>
          <p:nvPr/>
        </p:nvPicPr>
        <p:blipFill>
          <a:blip r:embed="rId6"/>
          <a:stretch/>
        </p:blipFill>
        <p:spPr>
          <a:xfrm>
            <a:off x="4200480" y="698400"/>
            <a:ext cx="1303560" cy="230508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13" descr=""/>
          <p:cNvPicPr/>
          <p:nvPr/>
        </p:nvPicPr>
        <p:blipFill>
          <a:blip r:embed="rId7"/>
          <a:stretch/>
        </p:blipFill>
        <p:spPr>
          <a:xfrm>
            <a:off x="2011320" y="719280"/>
            <a:ext cx="213372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5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600120" y="0"/>
            <a:ext cx="4889520" cy="3960720"/>
            <a:chOff x="600120" y="0"/>
            <a:chExt cx="4889520" cy="3960720"/>
          </a:xfrm>
        </p:grpSpPr>
        <p:sp>
          <p:nvSpPr>
            <p:cNvPr id="549" name="矩形 4"/>
            <p:cNvSpPr/>
            <p:nvPr/>
          </p:nvSpPr>
          <p:spPr>
            <a:xfrm>
              <a:off x="963000" y="0"/>
              <a:ext cx="3962520" cy="4442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2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00120" y="990000"/>
              <a:ext cx="4889520" cy="297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Box 7"/>
            <p:cNvSpPr/>
            <p:nvPr/>
          </p:nvSpPr>
          <p:spPr>
            <a:xfrm rot="20926800">
              <a:off x="1707120" y="2040480"/>
              <a:ext cx="26953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37"/>
                </a:spcBef>
                <a:tabLst>
                  <a:tab algn="l" pos="0"/>
                  <a:tab algn="l" pos="527040"/>
                  <a:tab algn="l" pos="1054080"/>
                  <a:tab algn="l" pos="1581120"/>
                  <a:tab algn="l" pos="2108160"/>
                  <a:tab algn="l" pos="2635200"/>
                  <a:tab algn="l" pos="3162240"/>
                  <a:tab algn="l" pos="3689280"/>
                  <a:tab algn="l" pos="4216320"/>
                  <a:tab algn="l" pos="4743360"/>
                  <a:tab algn="l" pos="5270400"/>
                  <a:tab algn="l" pos="5797440"/>
                  <a:tab algn="l" pos="6324480"/>
                  <a:tab algn="l" pos="6851520"/>
                  <a:tab algn="l" pos="7378560"/>
                  <a:tab algn="l" pos="7905600"/>
                  <a:tab algn="l" pos="8432640"/>
                  <a:tab algn="l" pos="8959680"/>
                  <a:tab algn="l" pos="9487080"/>
                  <a:tab algn="l" pos="10014120"/>
                  <a:tab algn="l" pos="10541160"/>
                </a:tabLst>
              </a:pP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18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5:44:44Z</dcterms:created>
  <dc:creator>IVYWANG</dc:creator>
  <dc:description/>
  <cp:keywords/>
  <dc:language>en-US</dc:language>
  <cp:lastModifiedBy>a</cp:lastModifiedBy>
  <dcterms:modified xsi:type="dcterms:W3CDTF">2014-05-21T02:37:55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