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23F-9E82-4C56-889C-45ACF94E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5E5-757B-452A-BEBC-82E5F86D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359E-D0DC-4297-A83D-81E396B3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FE468-A4A3-4DDC-BF67-88EAF098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8ACC2-F537-478D-B355-5FEA4E54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BD9A0-CEB0-4651-80E3-17E15F83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6769D-080B-4133-AE57-C4A473E1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E367B-DBD3-4D25-A135-BBDEAF9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A5573-340B-4669-BCBD-C096BA32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41BFE-7A7C-470A-AA06-E86F398F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2D4DC-11A8-49FE-B102-9E1E3E47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AA182-D048-4727-8D81-1F06C9F0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79A-0E5F-4BAE-9AC5-048D42FA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138BF-4F8C-4A0F-B035-07B347F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9A4E4-4106-4810-B551-B727FC5B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E50C5-112E-4A13-BF0F-F62C1C1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E73B0-6952-4806-A1C0-D58FE80F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6884E-98A3-48FE-908A-E1C34DCF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36352-557A-4D15-8C70-B49389E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BA8EA-EDA6-4C43-AD08-63C6676D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9C1ED-B24F-4874-9685-ED96BEE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9A7B2-3B71-42AA-B8CD-E5F0017A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FBA9A-9ABA-4AAE-8693-B472B5A0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705-EA85-4E88-A40F-109506F5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CA7FB-736C-42C0-ABA9-6C8938D5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66FF4-C2D5-4460-8A7B-45B8382F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9AFE4-9B05-43E7-B266-1C7634CA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38885-93DB-491C-B93A-71567BC9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82D9A-0325-4E41-8ECB-E5F37F5C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8028D-EE98-429A-8572-985383A2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7B0FC-00F0-4FA6-9FD6-D00480D2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9C1EC-1AC3-498B-A30F-D987EF0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8F3DD-ADC7-440C-A046-39FAF1CE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2DD7C-2238-4B7D-BD1E-451213C7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5311-74C3-4219-B0D4-9951018F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4DCDF-767D-4283-99FC-815C1A64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2B0A1-475B-463A-8658-27DAC33E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6CB2C-1380-4FA8-A1CE-DDADE702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63E8-0262-4F3D-8018-DDE60E19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F5B9C-7573-41C7-8A67-AA8842DA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FC18F-062B-4708-A791-91AA4D48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149EC-91E3-4D83-BE83-BF5DAA9D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879FA-A74C-488F-9EC8-66DA44CE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8CC91-7A97-4DAD-96CD-DC03F319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3C5D2-4E46-473C-A3D8-91D3547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0D3D-549C-494D-BC5A-30882097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4BD57-3668-4A5E-9304-CBE9AD81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4BB3C-697F-478E-9B80-9E7773DE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74A2E-6B94-4755-A02D-A3B57D02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F2A49-7747-44C2-A257-969754B1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798C2-655A-437C-AA8C-D3F47B74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53D98-F05E-4695-95FD-2069E138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ED6B1-14B5-4CA8-9581-EEC315D1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E3154-AE4D-4DA5-B912-11215AFE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A8C50-FA7E-4D04-8A42-D2D36DD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50EBC-171D-4CCA-9A9E-0620804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9EC1-F647-4F65-A56F-1F2344A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AC9BC-6899-4EA9-801D-6847FC2B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3A08F-6527-4018-A53A-FA78E0C7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25BC1-D715-4FF2-906E-16134162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70CE2-DA2C-4D75-A295-39F02B4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BCA28-00AC-413A-9EE1-93AF5EF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9CBC4-1710-4F19-9CE9-1CD4DAC6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540A7-6BF9-4403-868A-1DF16653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64F1-C2B6-45FC-91D6-2CBEF62F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8BA-0AD7-4DDA-8BF5-FD1413DC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FB18-2883-4BC2-8E74-7919669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13D-9277-4EC8-AE16-88B039F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9ED-355A-4808-8811-162DC1A8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6AD4-E1D2-45AC-A97B-2C0E7BBC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3EF4-6547-466E-BBAE-2BFB7F4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7890-7105-469D-B230-3056E779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6E05-2A9C-44A5-8709-EFF55B43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F480-86F8-4A4F-8EBC-666E9D1F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1E9F-1F6B-4C27-85F9-0901D1B8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DE9B-F64E-46C6-9007-2829E405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3E8E-9C46-47EE-96EE-56B1DF57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5BB4-E22E-45C1-B302-A8FCBF52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3488B-E465-42B9-A956-CC693034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888-9749-43A5-9A48-3B097435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D1F9-D2AB-4BAE-8D69-C8D9BA5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874A-98E7-41D9-837A-EC11D7BC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8DC4-9DBD-4FCA-A096-BA24A9F4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69390-CB61-4759-9F5E-27C2FBB2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5D7B-F024-48DD-A15F-7D609B0E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4054-CE60-4E8E-8C44-7A66E3AF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73D2-42F6-41F2-96E6-DFC28F42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B846-E7F7-4E66-8DA9-4BEFC3E6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B4F63-18CF-4067-A496-D29DE7B6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725F1-D3F2-4108-B7B9-6B628BBC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A1C-AFA9-443F-B8A0-C6F949F0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0ED6-69D2-4AE2-8A8C-B30164EB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10CE-7BBC-4841-AF13-4167158A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9B19-864F-42CE-9093-02C8F665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13439-1DD4-4EB7-A2C5-0EEDD802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B02B9-BDC4-4AB0-8E8F-C8EB2D1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F4A7-F0A2-4AD5-AB11-4BC6AC7B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848F-898F-46FA-AFAD-6F65E892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C4EA-5315-4FA2-912D-EDD53978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E4A19-4A9F-440C-9F32-F08F0CB0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5602-1FD2-4AAA-9071-FD836051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6B3-11C6-417A-92BD-DC8FF1CF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3D9C-2283-4FD9-BA1F-E36BADB3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3630F-EAA7-4301-A206-C81869A2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2E69-AC05-4AE7-862E-A4421715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7408-346E-4361-B48E-188573B0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40F3A-4B06-411C-8658-EEAF7E7D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874D0-41F6-41B7-8F9B-E6C4C916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A9CD-5018-4C66-96E7-FB2DB24F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F3BD4-F3BC-49CA-A325-DBAC4919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14A6-4B81-450C-8D0D-99824AF9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6BE23-365A-45AB-BF9A-A1EC022A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FC6-8011-4E5A-B54E-42B829CA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F29E0-5D72-4180-87D7-0A6F14B5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26366-36C4-4BBE-91AA-15C2BD6A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66714-64BF-4942-8144-804D1DF0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14E1-D52D-4845-80FE-884D01D4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8DCA4-06DB-4270-B056-305E6F5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D79FE-0454-4BB1-8394-0CF26DE1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6570-9B2F-4DA6-BB6A-3E2A3C9E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7E3CD-2760-4A2E-BBE3-2D16111E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AB8F-55E0-4BEA-B541-2B11BB0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1FA6-BFAA-4D0C-8B87-F14477C6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9DD-E9E4-4EEF-956C-FAE2C7E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CB294-4AA9-4F25-ABD3-5C563A95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6B83-DFED-49BE-885A-89AEA09A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1AAA3-FD7A-44C6-99A6-17EBF352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30145-F0DA-4E72-A6A3-CC492D7D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4BA7-E1A4-4BDE-98B4-A5F76316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FB8A-A062-45DF-862B-6F5D3936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354F-8B9B-4064-85FE-CCD12083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7DDEF-7C93-433D-B856-51DEA4BD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4EB7E-B19F-4638-A23D-6AA64A91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0D3DD-278C-4AFA-9358-01CC7FCC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712-2978-457E-A86F-5E394B7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4416-5600-47BF-9F2C-13BAAFA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2BAF4-D4D8-4CF5-9DC3-20E4B34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56606-F521-424C-839E-E88903D5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1CDA3-BF2B-4D1E-BEA6-F470D844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9B7F7-4A17-4462-A1DD-8F668949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B6E5-FC44-4FC1-A514-B8207BF1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2891-E882-425C-BBA5-B4E66816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DB14-B479-46E7-AE37-0EE09C93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EBD39-0EE7-4F55-8D07-F857FB37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9A7AF-2E94-479F-8C6D-0A81FEE3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C91-96CC-43CB-B7AD-243BE8B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34179-F3FF-4278-8EF2-B13D7E5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806B7-0EBD-49A7-997E-8C42194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18B0E-1B7E-41A8-83EB-7A4254DD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369D5-AB20-4F2D-9669-C450B3F8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CA3AE-7E8B-46F4-A060-22ABD3E9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79425-5F0F-4A11-881C-6412C9F9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37757-147C-4DFA-9B10-59FFE6BF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9E64F-DA2D-43FA-BD38-2ED4FFE0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F643A-4DF1-4B92-97A0-EA7984A4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542D3-4770-42A8-9F42-A90CA8D7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010D-94D1-4892-AF4F-EBF14E3A67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1745-2BFF-4B8B-AC4F-8F0FA29CA162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380B-9612-4C45-97B7-938D1144E5F3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9CA8-B504-4722-A9C8-5907D684F446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7A2-6A65-4F88-A1F8-45A106081D40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4981-3A26-4BC3-A8D6-DE8331C5A23D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4496-B6E7-4BA8-96A6-957693FC7321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0F2A-6A38-4024-AB84-EC25B3448CD6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1B6-D45D-478B-8AAA-3DA67FC8693A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21BE-61E9-4F6F-8575-2EBC58E1615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F0E2-E7C6-4229-BAF6-A5DE952B102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51DC-6146-4838-8F02-3A4D267FD046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30D5-845D-45BA-8C1F-9225CEFC7EA6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53F9-35CD-43D6-82B8-D6C7E498C1B2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3950-3C2D-40E5-98E4-826046325DF5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0BD-A0E2-4681-8F6C-B92BFCDAAF18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049C-B722-49A2-BA89-24F8FD7111B0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D2E8-C9A4-4F28-A11F-E8D93A5F609E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72E3-7D94-4950-A669-D47B1538E900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5F0-947D-4519-B486-064E3728D4BC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2E6D-AB8F-401D-8D08-0850E8CF762B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D139-47C5-49EC-B0C5-2B48DC179503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1875-4089-409C-8909-FFC1151DAE6F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13CF-BFD9-43AD-AAA3-8F5D7A9E584A}" type="datetime">
              <a:rPr b="0" lang="zh-CN" sz="1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5544-0A67-41FB-9C2F-54D5DE6E2195}" type="slidenum">
              <a:rPr b="0" lang="zh-CN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0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5" name="Picture 2" descr="C:\Documents and Settings\Administrator\桌面\2011831中秋\中秋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C:\Documents and Settings\Administrator\桌面\2011831中秋\花.png"/>
          <p:cNvPicPr/>
          <p:nvPr/>
        </p:nvPicPr>
        <p:blipFill>
          <a:blip r:embed="rId2"/>
          <a:stretch/>
        </p:blipFill>
        <p:spPr>
          <a:xfrm>
            <a:off x="5510160" y="2792520"/>
            <a:ext cx="3633840" cy="23526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C:\Documents and Settings\Administrator\桌面\2011831中秋\1.png"/>
          <p:cNvPicPr/>
          <p:nvPr/>
        </p:nvPicPr>
        <p:blipFill>
          <a:blip r:embed="rId3"/>
          <a:stretch/>
        </p:blipFill>
        <p:spPr>
          <a:xfrm>
            <a:off x="6377040" y="3290760"/>
            <a:ext cx="2766960" cy="1852920"/>
          </a:xfrm>
          <a:prstGeom prst="rect">
            <a:avLst/>
          </a:prstGeom>
          <a:ln w="0">
            <a:noFill/>
          </a:ln>
        </p:spPr>
      </p:pic>
      <p:sp>
        <p:nvSpPr>
          <p:cNvPr id="538" name="矩形 6"/>
          <p:cNvSpPr/>
          <p:nvPr/>
        </p:nvSpPr>
        <p:spPr>
          <a:xfrm>
            <a:off x="0" y="1370160"/>
            <a:ext cx="9144000" cy="19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6" descr="C:\Documents and Settings\Administrator\桌面\2011831中秋\2.png"/>
          <p:cNvPicPr/>
          <p:nvPr/>
        </p:nvPicPr>
        <p:blipFill>
          <a:blip r:embed="rId4"/>
          <a:stretch/>
        </p:blipFill>
        <p:spPr>
          <a:xfrm>
            <a:off x="0" y="206676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C:\Documents and Settings\Administrator\桌面\2011831中秋\2.png"/>
          <p:cNvPicPr/>
          <p:nvPr/>
        </p:nvPicPr>
        <p:blipFill>
          <a:blip r:embed="rId5"/>
          <a:stretch/>
        </p:blipFill>
        <p:spPr>
          <a:xfrm>
            <a:off x="0" y="207180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C:\Documents and Settings\Administrator\桌面\2011831中秋\9.png"/>
          <p:cNvPicPr/>
          <p:nvPr/>
        </p:nvPicPr>
        <p:blipFill>
          <a:blip r:embed="rId6"/>
          <a:stretch/>
        </p:blipFill>
        <p:spPr>
          <a:xfrm>
            <a:off x="0" y="-3240"/>
            <a:ext cx="4754520" cy="484992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15"/>
          <p:cNvGrpSpPr/>
          <p:nvPr/>
        </p:nvGrpSpPr>
        <p:grpSpPr>
          <a:xfrm>
            <a:off x="5073480" y="1203480"/>
            <a:ext cx="3962520" cy="1974600"/>
            <a:chOff x="5073480" y="1203480"/>
            <a:chExt cx="3962520" cy="1974600"/>
          </a:xfrm>
        </p:grpSpPr>
        <p:pic>
          <p:nvPicPr>
            <p:cNvPr id="543" name="Picture 7" descr="C:\Documents and Settings\Administrator\桌面\2011831中秋\3.png"/>
            <p:cNvPicPr/>
            <p:nvPr/>
          </p:nvPicPr>
          <p:blipFill>
            <a:blip r:embed="rId7"/>
            <a:stretch/>
          </p:blipFill>
          <p:spPr>
            <a:xfrm>
              <a:off x="5073480" y="1203480"/>
              <a:ext cx="39625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Box 2"/>
            <p:cNvSpPr/>
            <p:nvPr/>
          </p:nvSpPr>
          <p:spPr>
            <a:xfrm>
              <a:off x="7506360" y="242316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3"/>
            <p:cNvSpPr/>
            <p:nvPr/>
          </p:nvSpPr>
          <p:spPr>
            <a:xfrm>
              <a:off x="8001000" y="2411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Happ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4"/>
            <p:cNvSpPr/>
            <p:nvPr/>
          </p:nvSpPr>
          <p:spPr>
            <a:xfrm>
              <a:off x="5782320" y="265140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Mid-Autumn Festiv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TextBox 29"/>
            <p:cNvSpPr/>
            <p:nvPr/>
          </p:nvSpPr>
          <p:spPr>
            <a:xfrm>
              <a:off x="6765480" y="2931840"/>
              <a:ext cx="210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8" name="Picture 10" descr="C:\Documents and Settings\Administrator\桌面\2011831中秋\10.png"/>
          <p:cNvPicPr/>
          <p:nvPr/>
        </p:nvPicPr>
        <p:blipFill>
          <a:blip r:embed="rId8"/>
          <a:stretch/>
        </p:blipFill>
        <p:spPr>
          <a:xfrm>
            <a:off x="-1603440" y="-1486080"/>
            <a:ext cx="4483080" cy="4081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9" descr="C:\Documents and Settings\Administrator\桌面\2011831中秋\12.png"/>
          <p:cNvPicPr/>
          <p:nvPr/>
        </p:nvPicPr>
        <p:blipFill>
          <a:blip r:embed="rId9"/>
          <a:stretch/>
        </p:blipFill>
        <p:spPr>
          <a:xfrm>
            <a:off x="1368360" y="3265560"/>
            <a:ext cx="3402000" cy="1682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1" descr="C:\Documents and Settings\Administrator\桌面\2011831中秋\11.png"/>
          <p:cNvPicPr/>
          <p:nvPr/>
        </p:nvPicPr>
        <p:blipFill>
          <a:blip r:embed="rId10"/>
          <a:stretch/>
        </p:blipFill>
        <p:spPr>
          <a:xfrm>
            <a:off x="318960" y="-25560"/>
            <a:ext cx="3060720" cy="4264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C:\Documents and Settings\Administrator\桌面\2011831中秋\5.png"/>
          <p:cNvPicPr/>
          <p:nvPr/>
        </p:nvPicPr>
        <p:blipFill>
          <a:blip r:embed="rId11"/>
          <a:stretch/>
        </p:blipFill>
        <p:spPr>
          <a:xfrm>
            <a:off x="0" y="3497400"/>
            <a:ext cx="1463760" cy="1670040"/>
          </a:xfrm>
          <a:prstGeom prst="rect">
            <a:avLst/>
          </a:prstGeom>
          <a:ln w="0">
            <a:noFill/>
          </a:ln>
        </p:spPr>
      </p:pic>
      <p:pic>
        <p:nvPicPr>
          <p:cNvPr id="552" name="未命名_190.wav" descr=""/>
          <p:cNvPicPr/>
          <p:nvPr/>
        </p:nvPicPr>
        <p:blipFill>
          <a:blip r:embed="rId12"/>
          <a:stretch/>
        </p:blipFill>
        <p:spPr>
          <a:xfrm>
            <a:off x="8559720" y="-1079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4.07407E-006 L 0 0.18395 E">
                                      <p:cBhvr>
                                        <p:cTn id="11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1.85185E-006 L 0 -0.18735 E">
                                      <p:cBhvr>
                                        <p:cTn id="15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4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6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6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3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3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C:\Documents and Settings\Administrator\桌面\2011831中秋\中秋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C:\Documents and Settings\Administrator\桌面\2011831中秋\花.png"/>
          <p:cNvPicPr/>
          <p:nvPr/>
        </p:nvPicPr>
        <p:blipFill>
          <a:blip r:embed="rId2"/>
          <a:stretch/>
        </p:blipFill>
        <p:spPr>
          <a:xfrm>
            <a:off x="5510160" y="2792520"/>
            <a:ext cx="3633840" cy="2352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" descr="C:\Documents and Settings\Administrator\桌面\2011831中秋\1.png"/>
          <p:cNvPicPr/>
          <p:nvPr/>
        </p:nvPicPr>
        <p:blipFill>
          <a:blip r:embed="rId3"/>
          <a:stretch/>
        </p:blipFill>
        <p:spPr>
          <a:xfrm>
            <a:off x="6377040" y="3290760"/>
            <a:ext cx="2766960" cy="185292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5"/>
          <p:cNvGrpSpPr/>
          <p:nvPr/>
        </p:nvGrpSpPr>
        <p:grpSpPr>
          <a:xfrm>
            <a:off x="0" y="1103400"/>
            <a:ext cx="9144000" cy="2388960"/>
            <a:chOff x="0" y="1103400"/>
            <a:chExt cx="9144000" cy="2388960"/>
          </a:xfrm>
        </p:grpSpPr>
        <p:sp>
          <p:nvSpPr>
            <p:cNvPr id="557" name="矩形 7"/>
            <p:cNvSpPr/>
            <p:nvPr/>
          </p:nvSpPr>
          <p:spPr>
            <a:xfrm>
              <a:off x="0" y="1369800"/>
              <a:ext cx="9144000" cy="19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8" name="组合 15390" descr=""/>
            <p:cNvPicPr/>
            <p:nvPr/>
          </p:nvPicPr>
          <p:blipFill>
            <a:blip r:embed="rId4"/>
            <a:stretch/>
          </p:blipFill>
          <p:spPr>
            <a:xfrm>
              <a:off x="8534520" y="2877480"/>
              <a:ext cx="5760" cy="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C:\Documents and Settings\Administrator\桌面\2011831中秋\2.png"/>
            <p:cNvPicPr/>
            <p:nvPr/>
          </p:nvPicPr>
          <p:blipFill>
            <a:blip r:embed="rId5"/>
            <a:stretch/>
          </p:blipFill>
          <p:spPr>
            <a:xfrm>
              <a:off x="0" y="1103400"/>
              <a:ext cx="91440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" descr="C:\Documents and Settings\Administrator\桌面\2011831中秋\2.png"/>
            <p:cNvPicPr/>
            <p:nvPr/>
          </p:nvPicPr>
          <p:blipFill>
            <a:blip r:embed="rId6"/>
            <a:stretch/>
          </p:blipFill>
          <p:spPr>
            <a:xfrm>
              <a:off x="0" y="3016080"/>
              <a:ext cx="914400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10"/>
          <p:cNvGrpSpPr/>
          <p:nvPr/>
        </p:nvGrpSpPr>
        <p:grpSpPr>
          <a:xfrm>
            <a:off x="5073480" y="1203480"/>
            <a:ext cx="3962520" cy="1974600"/>
            <a:chOff x="5073480" y="1203480"/>
            <a:chExt cx="3962520" cy="1974600"/>
          </a:xfrm>
        </p:grpSpPr>
        <p:pic>
          <p:nvPicPr>
            <p:cNvPr id="562" name="Picture 7" descr="C:\Documents and Settings\Administrator\桌面\2011831中秋\3.png"/>
            <p:cNvPicPr/>
            <p:nvPr/>
          </p:nvPicPr>
          <p:blipFill>
            <a:blip r:embed="rId7"/>
            <a:stretch/>
          </p:blipFill>
          <p:spPr>
            <a:xfrm>
              <a:off x="5073480" y="1203480"/>
              <a:ext cx="396252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2"/>
            <p:cNvSpPr/>
            <p:nvPr/>
          </p:nvSpPr>
          <p:spPr>
            <a:xfrm>
              <a:off x="7506360" y="2423160"/>
              <a:ext cx="88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3"/>
            <p:cNvSpPr/>
            <p:nvPr/>
          </p:nvSpPr>
          <p:spPr>
            <a:xfrm>
              <a:off x="8001000" y="2411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Happ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矩形 4"/>
            <p:cNvSpPr/>
            <p:nvPr/>
          </p:nvSpPr>
          <p:spPr>
            <a:xfrm>
              <a:off x="5764680" y="265140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方正艺黑简体"/>
                  <a:ea typeface="方正艺黑简体"/>
                </a:rPr>
                <a:t>Mid-Autumn festiv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6" name="组合 15390" descr=""/>
            <p:cNvPicPr/>
            <p:nvPr/>
          </p:nvPicPr>
          <p:blipFill>
            <a:blip r:embed="rId8"/>
            <a:stretch/>
          </p:blipFill>
          <p:spPr>
            <a:xfrm>
              <a:off x="8235720" y="2761560"/>
              <a:ext cx="54864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29"/>
            <p:cNvSpPr/>
            <p:nvPr/>
          </p:nvSpPr>
          <p:spPr>
            <a:xfrm>
              <a:off x="6765480" y="2931840"/>
              <a:ext cx="210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方正综艺简体"/>
                  <a:ea typeface="方正综艺简体"/>
                </a:rPr>
                <a:t>上海锐普广告有限公司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8" name="Group 17"/>
          <p:cNvGrpSpPr/>
          <p:nvPr/>
        </p:nvGrpSpPr>
        <p:grpSpPr>
          <a:xfrm>
            <a:off x="0" y="268200"/>
            <a:ext cx="9612360" cy="5183280"/>
            <a:chOff x="0" y="268200"/>
            <a:chExt cx="9612360" cy="5183280"/>
          </a:xfrm>
        </p:grpSpPr>
        <p:pic>
          <p:nvPicPr>
            <p:cNvPr id="569" name="Picture 2" descr="C:\Documents and Settings\Administrator\桌面\2011831中秋\7.png"/>
            <p:cNvPicPr/>
            <p:nvPr/>
          </p:nvPicPr>
          <p:blipFill>
            <a:blip r:embed="rId9"/>
            <a:stretch/>
          </p:blipFill>
          <p:spPr>
            <a:xfrm>
              <a:off x="4798440" y="2782080"/>
              <a:ext cx="4376520" cy="266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0" name="Group 19"/>
            <p:cNvGrpSpPr/>
            <p:nvPr/>
          </p:nvGrpSpPr>
          <p:grpSpPr>
            <a:xfrm>
              <a:off x="0" y="268200"/>
              <a:ext cx="9612360" cy="4341960"/>
              <a:chOff x="0" y="268200"/>
              <a:chExt cx="9612360" cy="4341960"/>
            </a:xfrm>
          </p:grpSpPr>
          <p:sp>
            <p:nvSpPr>
              <p:cNvPr id="571" name="矩形 54"/>
              <p:cNvSpPr/>
              <p:nvPr/>
            </p:nvSpPr>
            <p:spPr>
              <a:xfrm>
                <a:off x="0" y="672840"/>
                <a:ext cx="9143280" cy="3937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6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2" name="Group 21"/>
              <p:cNvGrpSpPr/>
              <p:nvPr/>
            </p:nvGrpSpPr>
            <p:grpSpPr>
              <a:xfrm>
                <a:off x="8174160" y="268200"/>
                <a:ext cx="1438200" cy="1438560"/>
                <a:chOff x="8174160" y="268200"/>
                <a:chExt cx="1438200" cy="1438560"/>
              </a:xfrm>
            </p:grpSpPr>
            <p:pic>
              <p:nvPicPr>
                <p:cNvPr id="573" name="椭圆 5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74160" y="268200"/>
                  <a:ext cx="143820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4" name="Text Box 23"/>
                <p:cNvSpPr/>
                <p:nvPr/>
              </p:nvSpPr>
              <p:spPr>
                <a:xfrm>
                  <a:off x="8382240" y="478800"/>
                  <a:ext cx="101808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575" name="Picture 4" descr="C:\Documents and Settings\Administrator\桌面\图片2副本.png"/>
              <p:cNvPicPr/>
              <p:nvPr/>
            </p:nvPicPr>
            <p:blipFill>
              <a:blip r:embed="rId11"/>
              <a:stretch/>
            </p:blipFill>
            <p:spPr>
              <a:xfrm>
                <a:off x="7380360" y="1087200"/>
                <a:ext cx="1793880" cy="251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6" name="Group 25"/>
              <p:cNvGrpSpPr/>
              <p:nvPr/>
            </p:nvGrpSpPr>
            <p:grpSpPr>
              <a:xfrm>
                <a:off x="6218280" y="3179880"/>
                <a:ext cx="2924280" cy="1281960"/>
                <a:chOff x="6218280" y="3179880"/>
                <a:chExt cx="2924280" cy="1281960"/>
              </a:xfrm>
            </p:grpSpPr>
            <p:pic>
              <p:nvPicPr>
                <p:cNvPr id="577" name="Picture 7" descr="C:\Documents and Settings\Administrator\桌面\2011831中秋\3.png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18280" y="3179880"/>
                  <a:ext cx="2924280" cy="127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TextBox 80"/>
                <p:cNvSpPr/>
                <p:nvPr/>
              </p:nvSpPr>
              <p:spPr>
                <a:xfrm>
                  <a:off x="7888320" y="4086000"/>
                  <a:ext cx="884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方正艺黑简体"/>
                      <a:ea typeface="方正艺黑简体"/>
                    </a:rPr>
                    <a:t>2011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矩形 81"/>
                <p:cNvSpPr/>
                <p:nvPr/>
              </p:nvSpPr>
              <p:spPr>
                <a:xfrm>
                  <a:off x="8225280" y="4086000"/>
                  <a:ext cx="561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方正艺黑简体"/>
                      <a:ea typeface="方正艺黑简体"/>
                    </a:rPr>
                    <a:t>Happy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0" name="矩形 82"/>
                <p:cNvSpPr/>
                <p:nvPr/>
              </p:nvSpPr>
              <p:spPr>
                <a:xfrm>
                  <a:off x="7305120" y="4215600"/>
                  <a:ext cx="16286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方正艺黑简体"/>
                      <a:ea typeface="方正艺黑简体"/>
                    </a:rPr>
                    <a:t>Mid-Autumn Festival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581" name="Picture 6" descr="C:\Documents and Settings\Administrator\桌面\2011831中秋\2.png"/>
            <p:cNvPicPr/>
            <p:nvPr/>
          </p:nvPicPr>
          <p:blipFill>
            <a:blip r:embed="rId13"/>
            <a:stretch/>
          </p:blipFill>
          <p:spPr>
            <a:xfrm>
              <a:off x="0" y="439920"/>
              <a:ext cx="914400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6" descr="C:\Documents and Settings\Administrator\桌面\2011831中秋\2.png"/>
            <p:cNvPicPr/>
            <p:nvPr/>
          </p:nvPicPr>
          <p:blipFill>
            <a:blip r:embed="rId14"/>
            <a:stretch/>
          </p:blipFill>
          <p:spPr>
            <a:xfrm>
              <a:off x="0" y="4371840"/>
              <a:ext cx="9144000" cy="47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矩形​​ 7"/>
          <p:cNvSpPr/>
          <p:nvPr/>
        </p:nvSpPr>
        <p:spPr>
          <a:xfrm>
            <a:off x="1258920" y="2297160"/>
            <a:ext cx="64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每年农历八月十五日，是传统的中秋佳节。这时是一年秋季的中期，所以被称为中秋。八月十五的月亮比其他几个月的满月更圆，更明亮，此夜，人们仰望天空如玉如盘的朗朗明月，自然会期盼家人团聚。远在他乡的游子，也借此寄托自己对故乡和亲人的思念之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Picture 5" descr="C:\Documents and Settings\Administrator\桌面\2011831中秋\5.png"/>
          <p:cNvPicPr/>
          <p:nvPr/>
        </p:nvPicPr>
        <p:blipFill>
          <a:blip r:embed="rId15"/>
          <a:stretch/>
        </p:blipFill>
        <p:spPr>
          <a:xfrm>
            <a:off x="0" y="3497400"/>
            <a:ext cx="1463760" cy="167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2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out">
                                      <p:cBhvr additive="repl">
                                        <p:cTn id="58" dur="2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6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6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6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6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42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7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7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C:\Documents and Settings\Administrator\桌面\2011831中秋\中秋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C:\Documents and Settings\Administrator\桌面\2011831中秋\花.png"/>
          <p:cNvPicPr/>
          <p:nvPr/>
        </p:nvPicPr>
        <p:blipFill>
          <a:blip r:embed="rId2"/>
          <a:stretch/>
        </p:blipFill>
        <p:spPr>
          <a:xfrm>
            <a:off x="5510160" y="2792520"/>
            <a:ext cx="3633840" cy="2352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C:\Documents and Settings\Administrator\桌面\2011831中秋\1.png"/>
          <p:cNvPicPr/>
          <p:nvPr/>
        </p:nvPicPr>
        <p:blipFill>
          <a:blip r:embed="rId3"/>
          <a:stretch/>
        </p:blipFill>
        <p:spPr>
          <a:xfrm>
            <a:off x="6377040" y="3290760"/>
            <a:ext cx="2766960" cy="18529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0" y="1103400"/>
            <a:ext cx="9144000" cy="2388960"/>
            <a:chOff x="0" y="1103400"/>
            <a:chExt cx="9144000" cy="2388960"/>
          </a:xfrm>
        </p:grpSpPr>
        <p:sp>
          <p:nvSpPr>
            <p:cNvPr id="589" name="矩形 7"/>
            <p:cNvSpPr/>
            <p:nvPr/>
          </p:nvSpPr>
          <p:spPr>
            <a:xfrm>
              <a:off x="0" y="1369800"/>
              <a:ext cx="9144000" cy="19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0" name="Group 7"/>
            <p:cNvGrpSpPr/>
            <p:nvPr/>
          </p:nvGrpSpPr>
          <p:grpSpPr>
            <a:xfrm>
              <a:off x="5074200" y="1203120"/>
              <a:ext cx="3962520" cy="1974960"/>
              <a:chOff x="5074200" y="1203120"/>
              <a:chExt cx="3962520" cy="1974960"/>
            </a:xfrm>
          </p:grpSpPr>
          <p:pic>
            <p:nvPicPr>
              <p:cNvPr id="591" name="Picture 7" descr="C:\Documents and Settings\Administrator\桌面\2011831中秋\3.png"/>
              <p:cNvPicPr/>
              <p:nvPr/>
            </p:nvPicPr>
            <p:blipFill>
              <a:blip r:embed="rId4"/>
              <a:stretch/>
            </p:blipFill>
            <p:spPr>
              <a:xfrm>
                <a:off x="5074200" y="1203120"/>
                <a:ext cx="3962520" cy="172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TextBox 2"/>
              <p:cNvSpPr/>
              <p:nvPr/>
            </p:nvSpPr>
            <p:spPr>
              <a:xfrm>
                <a:off x="7376040" y="2441880"/>
                <a:ext cx="88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odoni MT Black"/>
                  </a:rPr>
                  <a:t>2011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矩形 3"/>
              <p:cNvSpPr/>
              <p:nvPr/>
            </p:nvSpPr>
            <p:spPr>
              <a:xfrm>
                <a:off x="7983360" y="2411280"/>
                <a:ext cx="875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odoni MT Black"/>
                  </a:rPr>
                  <a:t>Happ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矩形 4"/>
              <p:cNvSpPr/>
              <p:nvPr/>
            </p:nvSpPr>
            <p:spPr>
              <a:xfrm>
                <a:off x="6065640" y="2665080"/>
                <a:ext cx="210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odoni MT Black"/>
                  </a:rPr>
                  <a:t>Mid-Autumn festival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5" name="组合 15390" descr=""/>
              <p:cNvPicPr/>
              <p:nvPr/>
            </p:nvPicPr>
            <p:blipFill>
              <a:blip r:embed="rId5"/>
              <a:stretch/>
            </p:blipFill>
            <p:spPr>
              <a:xfrm>
                <a:off x="8236080" y="2761560"/>
                <a:ext cx="548640" cy="15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TextBox 29"/>
              <p:cNvSpPr/>
              <p:nvPr/>
            </p:nvSpPr>
            <p:spPr>
              <a:xfrm>
                <a:off x="6766200" y="2931840"/>
                <a:ext cx="2108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方正综艺简体"/>
                    <a:ea typeface="方正综艺简体"/>
                  </a:rPr>
                  <a:t>上海锐普广告有限公司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97" name="Picture 6" descr="C:\Documents and Settings\Administrator\桌面\2011831中秋\2.png"/>
            <p:cNvPicPr/>
            <p:nvPr/>
          </p:nvPicPr>
          <p:blipFill>
            <a:blip r:embed="rId6"/>
            <a:stretch/>
          </p:blipFill>
          <p:spPr>
            <a:xfrm>
              <a:off x="0" y="1103400"/>
              <a:ext cx="914400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" descr="C:\Documents and Settings\Administrator\桌面\2011831中秋\2.png"/>
            <p:cNvPicPr/>
            <p:nvPr/>
          </p:nvPicPr>
          <p:blipFill>
            <a:blip r:embed="rId7"/>
            <a:stretch/>
          </p:blipFill>
          <p:spPr>
            <a:xfrm>
              <a:off x="0" y="3016080"/>
              <a:ext cx="9144000" cy="47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Group 16"/>
          <p:cNvGrpSpPr/>
          <p:nvPr/>
        </p:nvGrpSpPr>
        <p:grpSpPr>
          <a:xfrm>
            <a:off x="0" y="268200"/>
            <a:ext cx="9612360" cy="5183280"/>
            <a:chOff x="0" y="268200"/>
            <a:chExt cx="9612360" cy="5183280"/>
          </a:xfrm>
        </p:grpSpPr>
        <p:pic>
          <p:nvPicPr>
            <p:cNvPr id="600" name="Picture 2" descr="C:\Documents and Settings\Administrator\桌面\2011831中秋\7.png"/>
            <p:cNvPicPr/>
            <p:nvPr/>
          </p:nvPicPr>
          <p:blipFill>
            <a:blip r:embed="rId8"/>
            <a:stretch/>
          </p:blipFill>
          <p:spPr>
            <a:xfrm>
              <a:off x="4798440" y="2782080"/>
              <a:ext cx="4376520" cy="266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1" name="Group 18"/>
            <p:cNvGrpSpPr/>
            <p:nvPr/>
          </p:nvGrpSpPr>
          <p:grpSpPr>
            <a:xfrm>
              <a:off x="0" y="268200"/>
              <a:ext cx="9612360" cy="4341600"/>
              <a:chOff x="0" y="268200"/>
              <a:chExt cx="9612360" cy="4341600"/>
            </a:xfrm>
          </p:grpSpPr>
          <p:sp>
            <p:nvSpPr>
              <p:cNvPr id="602" name="矩形 49"/>
              <p:cNvSpPr/>
              <p:nvPr/>
            </p:nvSpPr>
            <p:spPr>
              <a:xfrm>
                <a:off x="0" y="672840"/>
                <a:ext cx="9143280" cy="3936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d6d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03" name="Group 20"/>
              <p:cNvGrpSpPr/>
              <p:nvPr/>
            </p:nvGrpSpPr>
            <p:grpSpPr>
              <a:xfrm>
                <a:off x="8174160" y="268200"/>
                <a:ext cx="1438200" cy="1438560"/>
                <a:chOff x="8174160" y="268200"/>
                <a:chExt cx="1438200" cy="1438560"/>
              </a:xfrm>
            </p:grpSpPr>
            <p:pic>
              <p:nvPicPr>
                <p:cNvPr id="604" name="椭圆 5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174160" y="268200"/>
                  <a:ext cx="1438200" cy="143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5" name="Text Box 22"/>
                <p:cNvSpPr/>
                <p:nvPr/>
              </p:nvSpPr>
              <p:spPr>
                <a:xfrm>
                  <a:off x="8382240" y="478800"/>
                  <a:ext cx="101808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606" name="Picture 4" descr="C:\Documents and Settings\Administrator\桌面\图片2副本.png"/>
              <p:cNvPicPr/>
              <p:nvPr/>
            </p:nvPicPr>
            <p:blipFill>
              <a:blip r:embed="rId10"/>
              <a:stretch/>
            </p:blipFill>
            <p:spPr>
              <a:xfrm>
                <a:off x="7380360" y="1087200"/>
                <a:ext cx="1793880" cy="2513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7" name="Picture 6" descr="C:\Documents and Settings\Administrator\桌面\2011831中秋\2.png"/>
            <p:cNvPicPr/>
            <p:nvPr/>
          </p:nvPicPr>
          <p:blipFill>
            <a:blip r:embed="rId11"/>
            <a:stretch/>
          </p:blipFill>
          <p:spPr>
            <a:xfrm>
              <a:off x="0" y="439920"/>
              <a:ext cx="9144000" cy="47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6" descr="C:\Documents and Settings\Administrator\桌面\2011831中秋\2.png"/>
            <p:cNvPicPr/>
            <p:nvPr/>
          </p:nvPicPr>
          <p:blipFill>
            <a:blip r:embed="rId12"/>
            <a:stretch/>
          </p:blipFill>
          <p:spPr>
            <a:xfrm>
              <a:off x="0" y="4371840"/>
              <a:ext cx="9144000" cy="47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9" name="Picture 5" descr="C:\Documents and Settings\Administrator\桌面\2011831中秋\5.png"/>
          <p:cNvPicPr/>
          <p:nvPr/>
        </p:nvPicPr>
        <p:blipFill>
          <a:blip r:embed="rId13"/>
          <a:stretch/>
        </p:blipFill>
        <p:spPr>
          <a:xfrm>
            <a:off x="0" y="3497400"/>
            <a:ext cx="1463760" cy="16700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" descr=""/>
          <p:cNvPicPr/>
          <p:nvPr/>
        </p:nvPicPr>
        <p:blipFill>
          <a:blip r:embed="rId14"/>
          <a:stretch/>
        </p:blipFill>
        <p:spPr>
          <a:xfrm>
            <a:off x="617400" y="336600"/>
            <a:ext cx="3597480" cy="501012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23" descr="C:\Documents and Settings\Administrator\桌面\中秋材料\卷轴字-6.png"/>
          <p:cNvPicPr/>
          <p:nvPr/>
        </p:nvPicPr>
        <p:blipFill>
          <a:blip r:embed="rId15"/>
          <a:stretch/>
        </p:blipFill>
        <p:spPr>
          <a:xfrm>
            <a:off x="1747800" y="800280"/>
            <a:ext cx="1498680" cy="253836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29"/>
          <p:cNvGrpSpPr/>
          <p:nvPr/>
        </p:nvGrpSpPr>
        <p:grpSpPr>
          <a:xfrm>
            <a:off x="3283200" y="1441440"/>
            <a:ext cx="1504800" cy="3382920"/>
            <a:chOff x="3283200" y="1441440"/>
            <a:chExt cx="1504800" cy="3382920"/>
          </a:xfrm>
        </p:grpSpPr>
        <p:sp>
          <p:nvSpPr>
            <p:cNvPr id="613" name="TextBox 84"/>
            <p:cNvSpPr/>
            <p:nvPr/>
          </p:nvSpPr>
          <p:spPr>
            <a:xfrm>
              <a:off x="4059000" y="1441440"/>
              <a:ext cx="729000" cy="30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60000"/>
                  </a:solidFill>
                  <a:latin typeface="方正行楷简体"/>
                  <a:ea typeface="方正行楷简体"/>
                </a:rPr>
                <a:t>月圆家圆人圆事圆圆圆团团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TextBox 85"/>
            <p:cNvSpPr/>
            <p:nvPr/>
          </p:nvSpPr>
          <p:spPr>
            <a:xfrm>
              <a:off x="3716280" y="1441440"/>
              <a:ext cx="729000" cy="33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60000"/>
                  </a:solidFill>
                  <a:latin typeface="方正行楷简体"/>
                  <a:ea typeface="方正行楷简体"/>
                </a:rPr>
                <a:t>国和家和人和事和和和满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TextBox 86"/>
            <p:cNvSpPr/>
            <p:nvPr/>
          </p:nvSpPr>
          <p:spPr>
            <a:xfrm>
              <a:off x="3368520" y="1441440"/>
              <a:ext cx="729000" cy="22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60000"/>
                  </a:solidFill>
                  <a:latin typeface="方正行楷简体"/>
                  <a:ea typeface="方正行楷简体"/>
                </a:rPr>
                <a:t>祝全家幸福和气美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TextBox 87"/>
            <p:cNvSpPr/>
            <p:nvPr/>
          </p:nvSpPr>
          <p:spPr>
            <a:xfrm>
              <a:off x="3283200" y="1471680"/>
              <a:ext cx="454680" cy="20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60000"/>
                  </a:solidFill>
                  <a:latin typeface="方正行楷简体"/>
                  <a:ea typeface="方正行楷简体"/>
                </a:rPr>
                <a:t>合家欢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7" name="Picture 7" descr="C:\Documents and Settings\Administrator\桌面\2011831中秋\3.png"/>
          <p:cNvPicPr/>
          <p:nvPr/>
        </p:nvPicPr>
        <p:blipFill>
          <a:blip r:embed="rId16"/>
          <a:stretch/>
        </p:blipFill>
        <p:spPr>
          <a:xfrm>
            <a:off x="6219720" y="3179880"/>
            <a:ext cx="2924280" cy="1272960"/>
          </a:xfrm>
          <a:prstGeom prst="rect">
            <a:avLst/>
          </a:prstGeom>
          <a:ln w="0">
            <a:noFill/>
          </a:ln>
        </p:spPr>
      </p:pic>
      <p:sp>
        <p:nvSpPr>
          <p:cNvPr id="618" name="TextBox 66"/>
          <p:cNvSpPr/>
          <p:nvPr/>
        </p:nvSpPr>
        <p:spPr>
          <a:xfrm>
            <a:off x="7889760" y="4079880"/>
            <a:ext cx="88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88"/>
          <p:cNvSpPr/>
          <p:nvPr/>
        </p:nvSpPr>
        <p:spPr>
          <a:xfrm>
            <a:off x="8226720" y="4079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Happ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89"/>
          <p:cNvSpPr/>
          <p:nvPr/>
        </p:nvSpPr>
        <p:spPr>
          <a:xfrm>
            <a:off x="7305840" y="421632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Mid-Autumn Festiv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4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1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622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6:53:37Z</dcterms:created>
  <dc:creator>锐普PPT</dc:creator>
  <dc:description/>
  <cp:keywords/>
  <dc:language>en-US</dc:language>
  <cp:lastModifiedBy>a</cp:lastModifiedBy>
  <dcterms:modified xsi:type="dcterms:W3CDTF">2014-05-22T01:21:5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